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C1A-46A9-42D8-BC6D-26099FB4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542-64F2-4275-9875-2AF02294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D0E-22B1-4BBC-90AD-FB8DF6D8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85B-BA7B-4EB2-B467-593FDAEB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9F87-0EC5-425F-8EF2-C072DB44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C5A7-00E1-49D1-AA5D-CF9037C5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9083-DFA7-4DD7-A665-34335806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5804-E7F4-4580-86F9-F9CC7BB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AD58-CCA9-489F-9A88-69519599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D015-FC80-4077-B574-17F243F0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F515-01E7-487B-B2A2-CEA0AC7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90D-2BB6-4D34-BC58-3C0481BE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AF5A-F697-4EF1-8081-D6F03881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C40C-A354-45CE-A7B9-38FC523B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FFCD-3343-4BD3-BF10-5D249B35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9561-88C0-42B2-82D6-ED150B63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B997-92F0-48F7-B9C5-1C64372A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5AF-4EB3-4511-8FB7-E7BB70CE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B87-B970-4DB1-86A5-4F30664D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08D-B45F-406C-8B91-BFC829F7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C25-D251-4454-B5AA-736BDF34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73E-C1D5-48D2-A291-59968EF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330-8CCA-483F-AC3D-6A8F3DC9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6CC-EF3E-442D-A26E-BBB1ECD3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0098-56A8-4613-959D-1F8F28ECF23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34CE-B958-4CC0-8504-E91A1C238F1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9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609480" y="53352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Решите задачу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380880" y="1600200"/>
            <a:ext cx="8305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В классе 10 мальчиков.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7 мальчиков любят рисовать,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а 8 мальчиков любят петь.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Как это возможно?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Ведь 7+8=15, а в классе 10 мальчиков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28600" y="2286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4. Взаимосвязь между множествам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"/>
          <p:cNvSpPr/>
          <p:nvPr/>
        </p:nvSpPr>
        <p:spPr>
          <a:xfrm>
            <a:off x="457200" y="762120"/>
            <a:ext cx="3657600" cy="365760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4800600" y="762120"/>
            <a:ext cx="3657600" cy="365760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04920" y="4572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ножество НЕЧЕТНЫХ ОДНОЗНАЧНЫ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572000" y="45720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ножество НЕЧЕТНЫХ ДВУХЗНАЧНЫ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2"/>
          <p:cNvSpPr/>
          <p:nvPr/>
        </p:nvSpPr>
        <p:spPr>
          <a:xfrm>
            <a:off x="380880" y="914400"/>
            <a:ext cx="4800600" cy="480060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1905120" y="3124080"/>
            <a:ext cx="2209680" cy="22100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191120" y="6094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ножество ОДНОЗНАЧНЫ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724280" y="49528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ножество ЧЕТНЫХ ОДНОЗНАЧНЫ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4267080" y="1371600"/>
            <a:ext cx="14479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7"/>
          <p:cNvSpPr/>
          <p:nvPr/>
        </p:nvSpPr>
        <p:spPr>
          <a:xfrm flipH="1" flipV="1">
            <a:off x="3733560" y="4495680"/>
            <a:ext cx="15238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Безимени-1"/>
          <p:cNvPicPr/>
          <p:nvPr/>
        </p:nvPicPr>
        <p:blipFill>
          <a:blip r:embed="rId1"/>
          <a:stretch/>
        </p:blipFill>
        <p:spPr>
          <a:xfrm>
            <a:off x="533520" y="304920"/>
            <a:ext cx="7238880" cy="4351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4191120" y="47242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ноже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ДНОЗНАЧНЫ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457200" y="472428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ножест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ТНЫ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143000" y="6019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Множество ЧЕТНЫХ ОДНОЗНАЧНЫ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1"/>
          <p:cNvSpPr/>
          <p:nvPr/>
        </p:nvSpPr>
        <p:spPr>
          <a:xfrm flipV="1">
            <a:off x="4191120" y="3276720"/>
            <a:ext cx="0" cy="25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609480" y="53352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Решите задачу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214" name="WordArt 3"/>
          <p:cNvSpPr txBox="1"/>
          <p:nvPr/>
        </p:nvSpPr>
        <p:spPr>
          <a:xfrm>
            <a:off x="380880" y="1600200"/>
            <a:ext cx="8305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В классе 10 мальчиков.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7 мальчиков любят рисовать,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а 8 мальчиков любят петь.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Как это возможно?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</a:rPr>
              <a:t>Ведь 7+8=15, а в классе 10 мальчиков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Безимени-1"/>
          <p:cNvPicPr/>
          <p:nvPr/>
        </p:nvPicPr>
        <p:blipFill>
          <a:blip r:embed="rId1"/>
          <a:stretch/>
        </p:blipFill>
        <p:spPr>
          <a:xfrm>
            <a:off x="533520" y="304920"/>
            <a:ext cx="7238880" cy="43513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9"/>
          <p:cNvSpPr/>
          <p:nvPr/>
        </p:nvSpPr>
        <p:spPr>
          <a:xfrm>
            <a:off x="228600" y="4724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ножеств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ьчиков, которые любят ПЕ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143000" y="58672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Множеств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альчиков, которые любят       петь и рисов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4191120" y="3276720"/>
            <a:ext cx="0" cy="25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4267080" y="48006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ножеств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ьчиков, которые любят РИСОВ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06668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121932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18288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28600" y="2286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5. Подведение итого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80880" y="228600"/>
            <a:ext cx="8001000" cy="5438880"/>
            <a:chOff x="380880" y="228600"/>
            <a:chExt cx="8001000" cy="5438880"/>
          </a:xfrm>
        </p:grpSpPr>
        <p:sp>
          <p:nvSpPr>
            <p:cNvPr id="225" name="WordArt 4"/>
            <p:cNvSpPr txBox="1"/>
            <p:nvPr/>
          </p:nvSpPr>
          <p:spPr>
            <a:xfrm>
              <a:off x="609480" y="228600"/>
              <a:ext cx="48769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Comic Sans MS"/>
                </a:rPr>
                <a:t>Задание в группах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26" name="Text Box 6"/>
            <p:cNvSpPr/>
            <p:nvPr/>
          </p:nvSpPr>
          <p:spPr>
            <a:xfrm>
              <a:off x="380880" y="1143000"/>
              <a:ext cx="800100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а праздник в школу все девочки пришли нарядными.     5 девочек пришли в белых фартуках, 10 девочек – в белых бантиках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en-US" sz="3600" spc="-1" strike="noStrike">
                  <a:solidFill>
                    <a:srgbClr val="000099"/>
                  </a:solidFill>
                  <a:latin typeface="Comic Sans MS"/>
                </a:rPr>
                <a:t>Сколько девочек учится в классе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28600" y="2286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6. Компьютерный практику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1523880" y="1523880"/>
            <a:ext cx="57913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ПАСИБО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за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full_korova"/>
          <p:cNvPicPr/>
          <p:nvPr/>
        </p:nvPicPr>
        <p:blipFill>
          <a:blip r:embed="rId1"/>
          <a:stretch/>
        </p:blipFill>
        <p:spPr>
          <a:xfrm>
            <a:off x="3276720" y="380880"/>
            <a:ext cx="2819160" cy="187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4" name="Rectangle 6"/>
          <p:cNvSpPr/>
          <p:nvPr/>
        </p:nvSpPr>
        <p:spPr>
          <a:xfrm>
            <a:off x="228600" y="838080"/>
            <a:ext cx="2971800" cy="198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172200" y="914400"/>
            <a:ext cx="2819520" cy="197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429000" y="2819520"/>
            <a:ext cx="251460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28600" y="3505320"/>
            <a:ext cx="2895480" cy="19746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095880" y="3581280"/>
            <a:ext cx="2895840" cy="1981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380880" y="22860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Алгоритм работы на уро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62120" y="1523880"/>
            <a:ext cx="6858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ножест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лемент множест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аграмма Эйлера-Вен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заимосвязь между множеств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мпьютерный практикум (закрепление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Георг Кантор"/>
          <p:cNvPicPr/>
          <p:nvPr/>
        </p:nvPicPr>
        <p:blipFill>
          <a:blip r:embed="rId1"/>
          <a:stretch/>
        </p:blipFill>
        <p:spPr>
          <a:xfrm>
            <a:off x="4724280" y="990720"/>
            <a:ext cx="3481560" cy="50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2" name="WordArt 5"/>
          <p:cNvSpPr txBox="1"/>
          <p:nvPr/>
        </p:nvSpPr>
        <p:spPr>
          <a:xfrm>
            <a:off x="228600" y="3505320"/>
            <a:ext cx="4343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"Множество есть многое,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Comic Sans MS"/>
              </a:rPr>
              <a:t>мыслимое нами как единое"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838080" y="838080"/>
            <a:ext cx="3048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Немецкий уче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457200" y="1676520"/>
            <a:ext cx="3809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latin typeface="Comic Sans MS"/>
              </a:rPr>
              <a:t>ГЕОРГ КАНТОР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4"/>
          <p:cNvSpPr/>
          <p:nvPr/>
        </p:nvSpPr>
        <p:spPr>
          <a:xfrm>
            <a:off x="457200" y="380880"/>
            <a:ext cx="2514600" cy="2514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о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5715000" y="380880"/>
            <a:ext cx="2514600" cy="25146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ркест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124080" y="1828800"/>
            <a:ext cx="2514600" cy="2514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Библио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457200" y="3429000"/>
            <a:ext cx="2514600" cy="251460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ллек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5791320" y="3429000"/>
            <a:ext cx="2514600" cy="25146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28600" y="2286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2. Элемент множеств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C41-03 копия"/>
          <p:cNvPicPr/>
          <p:nvPr/>
        </p:nvPicPr>
        <p:blipFill>
          <a:blip r:embed="rId1"/>
          <a:stretch/>
        </p:blipFill>
        <p:spPr>
          <a:xfrm>
            <a:off x="4800600" y="3276720"/>
            <a:ext cx="1066680" cy="1433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41-04 копия"/>
          <p:cNvPicPr/>
          <p:nvPr/>
        </p:nvPicPr>
        <p:blipFill>
          <a:blip r:embed="rId2"/>
          <a:stretch/>
        </p:blipFill>
        <p:spPr>
          <a:xfrm>
            <a:off x="3276720" y="3505320"/>
            <a:ext cx="76032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41-03 копия"/>
          <p:cNvPicPr/>
          <p:nvPr/>
        </p:nvPicPr>
        <p:blipFill>
          <a:blip r:embed="rId3"/>
          <a:stretch/>
        </p:blipFill>
        <p:spPr>
          <a:xfrm>
            <a:off x="5562720" y="1143000"/>
            <a:ext cx="1258920" cy="14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41-03 копия"/>
          <p:cNvPicPr/>
          <p:nvPr/>
        </p:nvPicPr>
        <p:blipFill>
          <a:blip r:embed="rId4"/>
          <a:stretch/>
        </p:blipFill>
        <p:spPr>
          <a:xfrm>
            <a:off x="1600200" y="1676520"/>
            <a:ext cx="1179360" cy="143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41-04 копия"/>
          <p:cNvPicPr/>
          <p:nvPr/>
        </p:nvPicPr>
        <p:blipFill>
          <a:blip r:embed="rId5"/>
          <a:stretch/>
        </p:blipFill>
        <p:spPr>
          <a:xfrm>
            <a:off x="3200400" y="1143000"/>
            <a:ext cx="803160" cy="1447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C41-04 копия"/>
          <p:cNvPicPr/>
          <p:nvPr/>
        </p:nvPicPr>
        <p:blipFill>
          <a:blip r:embed="rId6"/>
          <a:stretch/>
        </p:blipFill>
        <p:spPr>
          <a:xfrm>
            <a:off x="6324480" y="3581280"/>
            <a:ext cx="760680" cy="1371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C41-04 копия"/>
          <p:cNvPicPr/>
          <p:nvPr/>
        </p:nvPicPr>
        <p:blipFill>
          <a:blip r:embed="rId7"/>
          <a:stretch/>
        </p:blipFill>
        <p:spPr>
          <a:xfrm>
            <a:off x="4419720" y="1523880"/>
            <a:ext cx="76032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C41-03 копия"/>
          <p:cNvPicPr/>
          <p:nvPr/>
        </p:nvPicPr>
        <p:blipFill>
          <a:blip r:embed="rId8"/>
          <a:stretch/>
        </p:blipFill>
        <p:spPr>
          <a:xfrm>
            <a:off x="1676520" y="3276720"/>
            <a:ext cx="990360" cy="14335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12"/>
          <p:cNvSpPr txBox="1"/>
          <p:nvPr/>
        </p:nvSpPr>
        <p:spPr>
          <a:xfrm>
            <a:off x="304920" y="3049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МНОЖЕСТВО дет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3733560" y="4647960"/>
            <a:ext cx="4876920" cy="1676520"/>
            <a:chOff x="3733560" y="4647960"/>
            <a:chExt cx="4876920" cy="1676520"/>
          </a:xfrm>
        </p:grpSpPr>
        <p:sp>
          <p:nvSpPr>
            <p:cNvPr id="181" name="Line 13"/>
            <p:cNvSpPr/>
            <p:nvPr/>
          </p:nvSpPr>
          <p:spPr>
            <a:xfrm flipH="1" flipV="1">
              <a:off x="3733560" y="4876920"/>
              <a:ext cx="1447560" cy="838080"/>
            </a:xfrm>
            <a:prstGeom prst="line">
              <a:avLst/>
            </a:prstGeom>
            <a:ln w="73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WordArt 14"/>
            <p:cNvSpPr txBox="1"/>
            <p:nvPr/>
          </p:nvSpPr>
          <p:spPr>
            <a:xfrm>
              <a:off x="5029200" y="5791320"/>
              <a:ext cx="35812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Comic Sans MS"/>
                </a:rPr>
                <a:t>ЭЛЕМЕНТ множеств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 flipV="1">
              <a:off x="5715000" y="4952520"/>
              <a:ext cx="1066680" cy="762120"/>
            </a:xfrm>
            <a:prstGeom prst="line">
              <a:avLst/>
            </a:prstGeom>
            <a:ln w="73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V="1">
              <a:off x="5410080" y="4647960"/>
              <a:ext cx="152640" cy="1066680"/>
            </a:xfrm>
            <a:prstGeom prst="line">
              <a:avLst/>
            </a:prstGeom>
            <a:ln w="73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133720"/>
            <a:ext cx="7086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3. Диаграмм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Эйлера-Вен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609480" y="304920"/>
            <a:ext cx="6782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Диаграмма ЭЙЛЕРА-ВЕНН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1905120" y="1828800"/>
            <a:ext cx="4154400" cy="4419720"/>
            <a:chOff x="1905120" y="1828800"/>
            <a:chExt cx="4154400" cy="4419720"/>
          </a:xfrm>
        </p:grpSpPr>
        <p:pic>
          <p:nvPicPr>
            <p:cNvPr id="188" name="Picture 5" descr="C41-03 копия"/>
            <p:cNvPicPr/>
            <p:nvPr/>
          </p:nvPicPr>
          <p:blipFill>
            <a:blip r:embed="rId1"/>
            <a:stretch/>
          </p:blipFill>
          <p:spPr>
            <a:xfrm>
              <a:off x="4800600" y="4038480"/>
              <a:ext cx="106668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6" descr="C41-04 копия"/>
            <p:cNvPicPr/>
            <p:nvPr/>
          </p:nvPicPr>
          <p:blipFill>
            <a:blip r:embed="rId2"/>
            <a:stretch/>
          </p:blipFill>
          <p:spPr>
            <a:xfrm>
              <a:off x="3505320" y="4876920"/>
              <a:ext cx="760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7" descr="C41-03 копия"/>
            <p:cNvPicPr/>
            <p:nvPr/>
          </p:nvPicPr>
          <p:blipFill>
            <a:blip r:embed="rId3"/>
            <a:stretch/>
          </p:blipFill>
          <p:spPr>
            <a:xfrm>
              <a:off x="4800600" y="1905120"/>
              <a:ext cx="125892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8" descr="C41-03 копия"/>
            <p:cNvPicPr/>
            <p:nvPr/>
          </p:nvPicPr>
          <p:blipFill>
            <a:blip r:embed="rId4"/>
            <a:stretch/>
          </p:blipFill>
          <p:spPr>
            <a:xfrm>
              <a:off x="1905120" y="2514600"/>
              <a:ext cx="117936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9" descr="C41-04 копия"/>
            <p:cNvPicPr/>
            <p:nvPr/>
          </p:nvPicPr>
          <p:blipFill>
            <a:blip r:embed="rId5"/>
            <a:stretch/>
          </p:blipFill>
          <p:spPr>
            <a:xfrm>
              <a:off x="3200400" y="1828800"/>
              <a:ext cx="8031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1" descr="C41-04 копия"/>
            <p:cNvPicPr/>
            <p:nvPr/>
          </p:nvPicPr>
          <p:blipFill>
            <a:blip r:embed="rId6"/>
            <a:stretch/>
          </p:blipFill>
          <p:spPr>
            <a:xfrm>
              <a:off x="3962520" y="2895480"/>
              <a:ext cx="760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2" descr="C41-03 копия"/>
            <p:cNvPicPr/>
            <p:nvPr/>
          </p:nvPicPr>
          <p:blipFill>
            <a:blip r:embed="rId7"/>
            <a:stretch/>
          </p:blipFill>
          <p:spPr>
            <a:xfrm>
              <a:off x="2057400" y="4267080"/>
              <a:ext cx="99072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Oval 13"/>
          <p:cNvSpPr/>
          <p:nvPr/>
        </p:nvSpPr>
        <p:spPr>
          <a:xfrm>
            <a:off x="1447920" y="1295280"/>
            <a:ext cx="5333760" cy="5334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WordArt 15"/>
          <p:cNvSpPr txBox="1"/>
          <p:nvPr/>
        </p:nvSpPr>
        <p:spPr>
          <a:xfrm>
            <a:off x="6248520" y="1600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МНОЖЕ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дет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щерякова_ЕВ</cp:lastModifiedBy>
  <dcterms:modified xsi:type="dcterms:W3CDTF">2012-02-28T04:13:0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