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675-286E-47D6-9E23-FA0303B2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EF8-A12B-44C0-BD3A-6902EBA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DE0-6365-408D-9B3D-CFCF3B17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E80-1B82-49E6-ACA2-8F17518A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AAB-25B2-4CA5-A983-5162DF12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C34-843C-4400-A9B4-929B2A5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FC8-0B86-4891-9E49-9178F767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686-0576-420D-98E4-C0543B6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F44-3AAE-4554-BF41-89437FF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E45-634D-4A81-86C4-F7835BC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11E-9CC3-443F-9948-64A86A4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540-4399-4181-B2DE-B6A4D72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180-0A1F-4727-94C0-4B7820D4B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folia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95280" y="333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Segoe Script"/>
              </a:rPr>
              <a:t>«Читайт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Segoe Script"/>
              </a:rPr>
              <a:t>И пусть в вашей жизни не будет ни одного дня, когда бы вы не прочли одной странички из новой книг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 rot="20469000">
            <a:off x="1090440" y="1120680"/>
            <a:ext cx="3233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Ск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Колечко волшебное, так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пролежав долго под снег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оно продолжало блестеть</a:t>
            </a:r>
            <a:r>
              <a:rPr b="0" i="1" lang="ru-RU" sz="1800" spc="-1" strike="noStrike">
                <a:solidFill>
                  <a:srgbClr val="000000"/>
                </a:solidFill>
                <a:latin typeface="Segoe Scrip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 rot="20394600">
            <a:off x="4695840" y="320040"/>
            <a:ext cx="259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Такое может произойти в жиз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так как существуют различные сплавы мет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которые не ржав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 rot="20488200">
            <a:off x="1158840" y="1026360"/>
            <a:ext cx="304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Ск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Варюша нашла колеч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Надела его на средний пал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egoe Script"/>
              </a:rPr>
              <a:t>Дед сразу и попра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 rot="20402400">
            <a:off x="4700880" y="538920"/>
            <a:ext cx="221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Рас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Пришла весна, пригрело солнц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Дед сразу попра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-32400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 rot="21073800">
            <a:off x="988920" y="1271880"/>
            <a:ext cx="3825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Домашне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-пересказ последне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близко к тек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Подобрать крылаты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о Род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нарисовать иллюстрацию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goe 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любой части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ADMIN\Desktop\Сказка картинки\887777.jpg"/>
          <p:cNvPicPr/>
          <p:nvPr/>
        </p:nvPicPr>
        <p:blipFill>
          <a:blip r:embed="rId2"/>
          <a:stretch/>
        </p:blipFill>
        <p:spPr>
          <a:xfrm>
            <a:off x="4406760" y="517680"/>
            <a:ext cx="311004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 rot="20642400">
            <a:off x="777600" y="1323360"/>
            <a:ext cx="345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Segoe Script"/>
              </a:rPr>
              <a:t>«Читай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Segoe Script"/>
              </a:rPr>
              <a:t>И пусть в вашей жизни не будет ни одного дня, когда бы вы не прочли одной странички из новой книг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 rot="20562000">
            <a:off x="1177560" y="471168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Segoe Script"/>
              </a:rPr>
              <a:t>Константин Пауст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paystovskij (1).jpg"/>
          <p:cNvPicPr/>
          <p:nvPr/>
        </p:nvPicPr>
        <p:blipFill>
          <a:blip r:embed="rId2"/>
          <a:stretch/>
        </p:blipFill>
        <p:spPr>
          <a:xfrm>
            <a:off x="3992400" y="328680"/>
            <a:ext cx="38768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 rot="20611800">
            <a:off x="834480" y="984600"/>
            <a:ext cx="360036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Мещёра... Что это такое?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Обитель гордого покоя.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Часть милой родины моей,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Где сосны лапами ветвей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Мой сан тревожный стерегут,</a:t>
            </a: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Где плеск волны, где берег крут. </a:t>
            </a: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Где гордость расцвела моя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За красоту твою, земля..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 </a:t>
            </a: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 rot="20399400">
            <a:off x="4231800" y="-269280"/>
            <a:ext cx="30844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Где солнце прячется в листве,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Где сосны тянутся к звезде,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А на закате робкий лучик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Пугливо прячется за тучи.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С тобой душа моя вольна,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Моя родная сторо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0806172244350.jpg"/>
          <p:cNvPicPr/>
          <p:nvPr/>
        </p:nvPicPr>
        <p:blipFill>
          <a:blip r:embed="rId2"/>
          <a:stretch/>
        </p:blipFill>
        <p:spPr>
          <a:xfrm>
            <a:off x="463680" y="828720"/>
            <a:ext cx="3919320" cy="311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img0653.jpg"/>
          <p:cNvPicPr/>
          <p:nvPr/>
        </p:nvPicPr>
        <p:blipFill>
          <a:blip r:embed="rId3"/>
          <a:stretch/>
        </p:blipFill>
        <p:spPr>
          <a:xfrm>
            <a:off x="4352760" y="1481040"/>
            <a:ext cx="3737160" cy="31942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 rot="20904600">
            <a:off x="1027440" y="3620520"/>
            <a:ext cx="43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Мещёра – национальный пар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\Desktop\Сказка картинки\artlib_gallery-59059-b.jpg"/>
          <p:cNvPicPr/>
          <p:nvPr/>
        </p:nvPicPr>
        <p:blipFill>
          <a:blip r:embed="rId1"/>
          <a:stretch/>
        </p:blipFill>
        <p:spPr>
          <a:xfrm>
            <a:off x="324000" y="150840"/>
            <a:ext cx="8496000" cy="65563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4803840"/>
            <a:ext cx="9612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ADMIN\Desktop\Сказка картинки\folia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39640" y="18900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01ab6"/>
                </a:solidFill>
                <a:uFillTx/>
                <a:latin typeface="Segoe Script"/>
              </a:rPr>
              <a:t>Рассказ </a:t>
            </a:r>
            <a:r>
              <a:rPr b="0" i="1" lang="ru-RU" sz="3600" spc="-1" strike="noStrike">
                <a:solidFill>
                  <a:srgbClr val="301ab6"/>
                </a:solidFill>
                <a:latin typeface="Segoe Script"/>
              </a:rPr>
              <a:t>– небольшое прозаическое произведение повествовате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01ab6"/>
                </a:solidFill>
                <a:latin typeface="Segoe Script"/>
              </a:rPr>
              <a:t>о каком-либо эпизоде о жизни гер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01ab6"/>
                </a:solidFill>
                <a:uFillTx/>
                <a:latin typeface="Segoe Script"/>
              </a:rPr>
              <a:t>Сказка</a:t>
            </a:r>
            <a:r>
              <a:rPr b="0" i="1" lang="ru-RU" sz="3600" spc="-1" strike="noStrike">
                <a:solidFill>
                  <a:srgbClr val="301ab6"/>
                </a:solidFill>
                <a:latin typeface="Segoe Script"/>
              </a:rPr>
              <a:t> – фольклорное или литературное произведение с элементами вымысла и фантазии, в котором добро обязательно побеждает зло</a:t>
            </a:r>
            <a:r>
              <a:rPr b="0" lang="ru-RU" sz="2000" spc="-1" strike="noStrike">
                <a:solidFill>
                  <a:srgbClr val="301ab6"/>
                </a:solidFill>
                <a:latin typeface="Segoe Scrip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ADMIN\Desktop\Сказка картинки\folia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900000" y="1197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95280" y="83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испут – публичный ученый сп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53735"/>
                </a:solidFill>
                <a:latin typeface="Arial"/>
              </a:rPr>
              <a:t>Сказка                   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 rot="20599800">
            <a:off x="890640" y="1229760"/>
            <a:ext cx="375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Это сказка. 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Вступление похоже на зач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Героиня уходит из дома, идет через лес и встречает волшебны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 rot="20323200">
            <a:off x="4193280" y="114480"/>
            <a:ext cx="3136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Script"/>
              </a:rPr>
              <a:t>Это расск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Описываются события, которые могли происход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В реальной жизни. Известно название села, 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живут дед с внучкой; описание окружающей обстановки реаль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egoe Script"/>
              </a:rPr>
              <a:t>содержание беседы тоже реа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C:\Users\ADMIN\Desktop\Сказка картинки\8101f7d222d49f92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 rot="20566200">
            <a:off x="1213560" y="1153440"/>
            <a:ext cx="274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egoe Script"/>
              </a:rPr>
              <a:t>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egoe Script"/>
              </a:rPr>
              <a:t>Птица говорит человеческим язы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egoe Script"/>
              </a:rPr>
              <a:t>Это сказочный момент</a:t>
            </a: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 rot="20419800">
            <a:off x="4179600" y="73080"/>
            <a:ext cx="296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Паустовский изобразил обычную пт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Все что происходило с Сидором, 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egoe Script"/>
              </a:rPr>
              <a:t>увидеть в обычной жизни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6:09:10Z</dcterms:created>
  <dc:creator>ADMIN</dc:creator>
  <dc:description/>
  <dc:language>en-US</dc:language>
  <cp:lastModifiedBy>RWT</cp:lastModifiedBy>
  <dcterms:modified xsi:type="dcterms:W3CDTF">2013-02-27T17:45:13Z</dcterms:modified>
  <cp:revision>60</cp:revision>
  <dc:subject/>
  <dc:title>Слайд 1</dc:title>
</cp:coreProperties>
</file>