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7FE4-391D-4CAD-9A22-68CCF64A5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C6E2-BC65-41DE-A123-600191F87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AA2B41-3D6D-404C-8568-F360D155B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D9158F-AC56-4F8D-A28E-142459FD6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479E9F-7A63-4792-8A40-C4707D890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6E6BCF-4531-4566-81FC-7A4210AB4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D16F82-BEAB-4190-B242-9C5559D76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D8AA9C-CD6A-45F6-B6D5-2FA2E4188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287B1E-1A8B-406B-A595-165CD9162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17C3E2-EE68-4113-BD0C-68EFDB2DD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1F59B5-6D53-49E8-8097-427B8862A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3101-3FFF-43C7-A09F-58AD1B6A2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A0A1-4671-4D1F-B243-EAC46D588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760A2-D7E5-4AFB-AE18-DEC1B26CB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67293-6C13-4DDE-9414-CB2C7126C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F52D1-E1A6-4BC9-A430-570C8C009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1FB54-D0E4-4DEC-9C34-96308D8D4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711E3-8813-442A-8C6E-EB8AD591D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695E6-487C-488E-949F-1AF7ACD73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A6EBD-01AF-4705-9299-A1A14D623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16D6-F00F-408B-8D2A-1B1EEB39F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F1E46-A9E4-4F09-B7A0-D49D824A4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67C12-54B2-463B-8929-4A1BDBC76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C0FC2-B6D8-4719-9551-DCA2BF3DF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B9982-C0BC-48C8-AD05-89E234240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B5179-C07F-4D03-B919-F82F12FD8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23005-0013-495A-87AE-895D932E0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439F3-B9D1-49B0-AAAE-CBD08FDFA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A0217-3CF3-47C5-9386-BB0B2CB27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CFC1F-13CB-4ECD-9F13-922D464C3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50BB3-A78A-49E9-89E0-E3D33CCF6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17BD-E76E-47F6-BD02-7147C67C6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4AD49-AFF9-45A7-B973-79ADF911D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9B6EB-D4F3-4C2C-AF23-33EA71DE5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14AAA-3D33-4DC6-ACD6-89D1C4FB1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082AB-C0A1-474A-ADA6-E28469C69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B9FF7-93B9-4990-8F32-4299E7BD9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A484B-1039-4989-90AC-05F023622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2C566-3069-4A69-A89D-495C5C66B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EA20D-A565-4E49-87FB-08C6A691F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2047E3-FBC8-4912-AF48-6032081C2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0408A-FAF8-4747-88C3-34376D99C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C75B-5E52-43BC-9B3A-2E649091F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492DC-C63F-4E36-AF02-3E74D3552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6EF25-2ED1-4B5E-8395-CAD4D936D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F23CF-5B3E-45B8-A33B-C7259EFFE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AC9E3-72FE-4EBF-BCD1-64D19EE00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3E233-7002-4205-9870-6BA22288E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A6D20-2B5C-454B-85A2-89ED338F0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E113B-B906-46F4-8713-4FDAEDF3F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6099B1-DFE8-497A-9688-9988F2ABD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D5F3A-E155-4E3E-887D-32E3196D7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92C8DE-5960-4C08-A2DA-93CA57B29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CA06-9559-4123-97DC-B315A184D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D4AE99-A218-41E3-AEFB-9667C162E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2CC64F-19A7-4E2B-82E7-23FE9C835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2BD7BC-60C3-43EB-8F58-997B0996C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7F86F7-F017-4640-9410-83E444731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F67409-6832-4E71-AC92-990627777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D01F69-7287-4FF5-BB0E-45F44E083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4BD67E-15D7-46BE-8210-0E80EB7BA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889176-4002-4494-B86B-10D647C0A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8FD2EC-FACD-480F-AB9B-6A89ADDDA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678B1F-6063-4D87-8350-59540EE06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3E4A-0056-44AD-B7DE-AD58E8261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CC5F3C-4AC5-4396-ADD9-D30CBC028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17BD1D-6D2E-40DE-902E-CC21BEFEF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299840-1210-4290-BA8B-27E39E3FA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883774-3EDF-4830-82C3-49C021167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576C3E-5910-4F32-8FCE-B9AE374A9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7562E8-A223-41A9-BD62-B493C371B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91AAEC-DDE0-4C6A-914D-CD48B465F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A8F8FC-2366-450C-86FD-1460867E5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F47323-1DA8-48DA-80F6-78E654243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7974D8-540A-43CE-B9CA-DE7B4B00D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85DB-34DF-4E6B-AA52-37B9F082A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060F20-A918-413B-88CA-2681ED93B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30AD4A-4F39-456E-860C-639B367DB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96F74C-1A0D-4DDF-8CFE-9B85EA870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7D03EA-E8F1-48E5-9C3C-D6BC3D3EF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AF2E55-B414-498F-A9F9-8DB36BF42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E8719F-C2D6-4CB3-B856-D828C9ED9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6331DA-5FA9-4374-B298-91746761A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29B448-AD4B-4AD3-9A85-2CC9C76D3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E909A5-F45F-4CC6-8D94-D154335E8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CBEFCD-C44F-42BD-9407-F173FCC79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6691-3D15-4A9C-B196-1A1346DC7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23B270-5137-4D57-BEB7-020CBF948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B0CDCB-6BF3-4934-9533-C88E732EC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701368-1751-491C-850A-6CB332451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64F37F-2A1F-4C0D-8EAA-808D3E3FA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6354CD-69DA-4F00-AAFB-CF2D6A4E7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CE42FE-9B14-4779-8BD0-ADADBA42B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605702-C153-4BE8-B94F-568024C85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29197D-E435-4D8B-8E3F-46A25C3F8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47DAB0-2F3A-4759-8C19-AC76BD53E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D3667B-1327-445A-AE9A-8AB9131C9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9D73-1E0A-4094-9F9A-F4B9CE251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907466-2D8F-4F03-A79F-F46A31B23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83B61D-3C6B-4E32-A2AD-9C6E42301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A31BB5-298B-41A4-B926-8D0A1252D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1C989A-F991-47BF-B293-0824B16AA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14862A-EA12-4049-A2E8-7C03009FE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A1539A-BE10-4E87-9AAB-75AFC1B97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551CC8-0C8E-49E1-B389-D0FE3520C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AF9C3D-82DC-4722-B9BA-450ACD98B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241C73-1BA4-488D-8E4A-4E8F99155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B8F2EA-F466-421D-90BD-E17E54FAD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17bb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-216000" algn="ct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ct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1A072-6419-4524-8D77-6D855E9233B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17bb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17bb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ctr">
              <a:spcBef>
                <a:spcPts val="3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-216000" algn="ctr">
              <a:spcBef>
                <a:spcPts val="3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441BD-BF4C-436C-85BA-18BCED26C251}" type="slidenum"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17bb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-216000" algn="ct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ct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DB38F-8477-41D5-AF62-42BEEEE3901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17bb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17bb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-216000" algn="ctr">
              <a:spcBef>
                <a:spcPts val="300"/>
              </a:spcBef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-216000" algn="ctr">
              <a:spcBef>
                <a:spcPts val="300"/>
              </a:spcBef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B1E60-1C07-4891-BFF1-54950AADC0E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17bb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-216000" algn="ct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ct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8474D-53D3-4877-87C5-4A711099695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-216000" algn="ct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ct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B8F47-925D-4D7E-B2D7-AAB96EA65C9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-216000" algn="ctr">
              <a:spcBef>
                <a:spcPts val="224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ctr">
              <a:spcBef>
                <a:spcPts val="224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02BAA-1BE2-4392-8CBE-A80177B40517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-216000" algn="ctr">
              <a:spcBef>
                <a:spcPts val="224"/>
              </a:spcBef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-216000" algn="ctr">
              <a:spcBef>
                <a:spcPts val="224"/>
              </a:spcBef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A9380-05FE-4060-8A62-8142CC4F811F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17bb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25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26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7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-216000" algn="ct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-216000" algn="ct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2103B-DC67-4599-BF9A-396EC29C324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Rectangle 2" descr=""/>
          <p:cNvPicPr/>
          <p:nvPr/>
        </p:nvPicPr>
        <p:blipFill>
          <a:blip r:embed="rId2"/>
          <a:stretch/>
        </p:blipFill>
        <p:spPr>
          <a:xfrm>
            <a:off x="536400" y="652320"/>
            <a:ext cx="8467920" cy="1597320"/>
          </a:xfrm>
          <a:prstGeom prst="rect">
            <a:avLst/>
          </a:prstGeom>
          <a:ln w="0">
            <a:noFill/>
          </a:ln>
        </p:spPr>
      </p:pic>
      <p:pic>
        <p:nvPicPr>
          <p:cNvPr id="390" name="Rectangle 3" descr=""/>
          <p:cNvPicPr/>
          <p:nvPr/>
        </p:nvPicPr>
        <p:blipFill>
          <a:blip r:embed="rId3"/>
          <a:stretch/>
        </p:blipFill>
        <p:spPr>
          <a:xfrm>
            <a:off x="463680" y="2170080"/>
            <a:ext cx="8246880" cy="1841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3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7" descr="image002"/>
          <p:cNvPicPr/>
          <p:nvPr/>
        </p:nvPicPr>
        <p:blipFill>
          <a:blip r:embed="rId1"/>
          <a:stretch/>
        </p:blipFill>
        <p:spPr>
          <a:xfrm>
            <a:off x="609480" y="2133720"/>
            <a:ext cx="3397320" cy="366696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380520" y="456840"/>
            <a:ext cx="40006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3848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ru-RU" sz="2700" spc="-1" strike="noStrike">
                <a:solidFill>
                  <a:srgbClr val="ffffff"/>
                </a:solidFill>
                <a:latin typeface="Century Gothic"/>
              </a:rPr>
              <a:t>Андрей Платонович                      Платонов                    (Климентов А.П.)        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93" name="Picture 6" descr="p9530"/>
          <p:cNvPicPr/>
          <p:nvPr/>
        </p:nvPicPr>
        <p:blipFill>
          <a:blip r:embed="rId2"/>
          <a:stretch/>
        </p:blipFill>
        <p:spPr>
          <a:xfrm>
            <a:off x="4876920" y="457200"/>
            <a:ext cx="37861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Прямоугольник 4" descr=""/>
          <p:cNvPicPr/>
          <p:nvPr/>
        </p:nvPicPr>
        <p:blipFill>
          <a:blip r:embed="rId1"/>
          <a:stretch/>
        </p:blipFill>
        <p:spPr>
          <a:xfrm>
            <a:off x="476280" y="249120"/>
            <a:ext cx="8113680" cy="2133720"/>
          </a:xfrm>
          <a:prstGeom prst="rect">
            <a:avLst/>
          </a:prstGeom>
          <a:ln w="0">
            <a:noFill/>
          </a:ln>
        </p:spPr>
      </p:pic>
      <p:sp>
        <p:nvSpPr>
          <p:cNvPr id="395" name="TextBox 6"/>
          <p:cNvSpPr/>
          <p:nvPr/>
        </p:nvSpPr>
        <p:spPr>
          <a:xfrm>
            <a:off x="786600" y="1752480"/>
            <a:ext cx="841176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17bb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2002c"/>
                </a:solidFill>
                <a:latin typeface="Arial"/>
              </a:rPr>
              <a:t>1.Почему люди были жестоки к Юшк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17bb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2002c"/>
                </a:solidFill>
                <a:latin typeface="Arial"/>
              </a:rPr>
              <a:t>2.Почему Юшка терпел и не возмущалс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17bb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2002c"/>
                </a:solidFill>
                <a:latin typeface="Arial"/>
              </a:rPr>
              <a:t>3.Для чего жил Юшк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5" descr="2570dd0e60c8"/>
          <p:cNvPicPr/>
          <p:nvPr/>
        </p:nvPicPr>
        <p:blipFill>
          <a:blip r:embed="rId1"/>
          <a:stretch/>
        </p:blipFill>
        <p:spPr>
          <a:xfrm>
            <a:off x="380880" y="380880"/>
            <a:ext cx="3867120" cy="5562720"/>
          </a:xfrm>
          <a:prstGeom prst="rect">
            <a:avLst/>
          </a:prstGeom>
          <a:ln w="0">
            <a:noFill/>
          </a:ln>
        </p:spPr>
      </p:pic>
      <p:pic>
        <p:nvPicPr>
          <p:cNvPr id="397" name="Прямоугольник 6" descr=""/>
          <p:cNvPicPr/>
          <p:nvPr/>
        </p:nvPicPr>
        <p:blipFill>
          <a:blip r:embed="rId2"/>
          <a:stretch/>
        </p:blipFill>
        <p:spPr>
          <a:xfrm>
            <a:off x="4260960" y="1212840"/>
            <a:ext cx="466380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40384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      </a:t>
            </a: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И вот сначала хозяйская дочь, а потом и «веселый прохожий» задают Юшке вопрос: «Зачем ты живёшь? Чего ты землю нашу топчешь?»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      </a:t>
            </a: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Впервые в жизни Юшка рассердился: 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    </a:t>
            </a: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- А чего я тебе, чем всем вам мешаю!.. Я жить родителями поставлен, я по закону родился, я тоже всему свету нужен, как и ты, без меня тоже, значит, нельзя.</a:t>
            </a: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99" name="Picture 2" descr=""/>
          <p:cNvPicPr/>
          <p:nvPr/>
        </p:nvPicPr>
        <p:blipFill>
          <a:blip r:embed="rId1"/>
          <a:stretch/>
        </p:blipFill>
        <p:spPr>
          <a:xfrm>
            <a:off x="4800600" y="838080"/>
            <a:ext cx="378144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0" name="Прямоугольник 3"/>
          <p:cNvGrpSpPr/>
          <p:nvPr/>
        </p:nvGrpSpPr>
        <p:grpSpPr>
          <a:xfrm>
            <a:off x="60480" y="201600"/>
            <a:ext cx="8943840" cy="6381720"/>
            <a:chOff x="60480" y="201600"/>
            <a:chExt cx="8943840" cy="6381720"/>
          </a:xfrm>
        </p:grpSpPr>
        <p:pic>
          <p:nvPicPr>
            <p:cNvPr id="401" name="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60480" y="201600"/>
              <a:ext cx="8943840" cy="638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" name=""/>
            <p:cNvSpPr/>
            <p:nvPr/>
          </p:nvSpPr>
          <p:spPr>
            <a:xfrm>
              <a:off x="304920" y="304920"/>
              <a:ext cx="8458200" cy="624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4e005f"/>
                  </a:solidFill>
                  <a:latin typeface="Century Gothic"/>
                </a:rPr>
                <a:t>А.Платонов:</a:t>
              </a:r>
              <a:r>
                <a:rPr b="0" lang="ru-RU" sz="3200" spc="-1" strike="noStrike">
                  <a:solidFill>
                    <a:srgbClr val="ffffff"/>
                  </a:solidFill>
                  <a:latin typeface="Century Gothic"/>
                </a:rPr>
                <a:t> </a:t>
              </a:r>
              <a:r>
                <a:rPr b="0" lang="ru-RU" sz="3200" spc="-1" strike="noStrike">
                  <a:solidFill>
                    <a:srgbClr val="ff5698"/>
                  </a:solidFill>
                  <a:latin typeface="Century Gothic"/>
                </a:rPr>
                <a:t>«Человечество – одно дыхание, одно живое, тёплое существо. Больно одному – больно всем. Умирает один – мертвеют все. Нет человека, который был бы как остров, сам по себе».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Заголовок 1" descr=""/>
          <p:cNvPicPr/>
          <p:nvPr/>
        </p:nvPicPr>
        <p:blipFill>
          <a:blip r:embed="rId1"/>
          <a:stretch/>
        </p:blipFill>
        <p:spPr>
          <a:xfrm>
            <a:off x="530280" y="317520"/>
            <a:ext cx="8418600" cy="130968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33160" y="18288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38840" indent="-3747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005f"/>
                </a:solidFill>
                <a:latin typeface="Century Gothic"/>
              </a:rPr>
              <a:t>Юшка -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кровь, животворящая жидкость, значительная потеря которой грозит организму смертью. Юшка – воплощение добра. Утрата его губительна для людей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-3747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005f"/>
                </a:solidFill>
                <a:latin typeface="Century Gothic"/>
              </a:rPr>
              <a:t>Ефим -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значение имени «благочестивый», «благожелательный», «священный»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-3747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005f"/>
                </a:solidFill>
                <a:latin typeface="Century Gothic"/>
              </a:rPr>
              <a:t>Дмитрий -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восходит к имени Деметра, древнегреческая богиня земледелия. Благие зёрна, выращенные на плодородной почве родительской любви, приносят плоды добра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-3747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Заголовок 1" descr=""/>
          <p:cNvPicPr/>
          <p:nvPr/>
        </p:nvPicPr>
        <p:blipFill>
          <a:blip r:embed="rId1"/>
          <a:stretch/>
        </p:blipFill>
        <p:spPr>
          <a:xfrm>
            <a:off x="530280" y="469800"/>
            <a:ext cx="8163000" cy="115092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533520" y="1828800"/>
            <a:ext cx="8076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entury Gothic"/>
              </a:rPr>
              <a:t>1.Любовь к родине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entury Gothic"/>
              </a:rPr>
              <a:t>2.Любовь ко всему живому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entury Gothic"/>
              </a:rPr>
              <a:t>3.Милосердие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entury Gothic"/>
              </a:rPr>
              <a:t>4.Способность дарить добро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entury Gothic"/>
              </a:rPr>
              <a:t>5.Помнить свои корни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entury Gothic"/>
              </a:rPr>
              <a:t>6.Любить бескорыстно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Прямоугольник 4" descr=""/>
          <p:cNvPicPr/>
          <p:nvPr/>
        </p:nvPicPr>
        <p:blipFill>
          <a:blip r:embed="rId1"/>
          <a:stretch/>
        </p:blipFill>
        <p:spPr>
          <a:xfrm>
            <a:off x="360360" y="1792440"/>
            <a:ext cx="8637480" cy="33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dmin</cp:lastModifiedBy>
  <dcterms:modified xsi:type="dcterms:W3CDTF">2012-02-19T14:31:08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