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29.wmf" ContentType="image/x-wmf"/>
  <Override PartName="/ppt/media/image22.wmf" ContentType="image/x-wmf"/>
  <Override PartName="/ppt/media/image19.png" ContentType="image/png"/>
  <Override PartName="/ppt/media/image24.png" ContentType="image/png"/>
  <Override PartName="/ppt/media/image11.jpeg" ContentType="image/jpeg"/>
  <Override PartName="/ppt/media/image21.gif" ContentType="image/gif"/>
  <Override PartName="/ppt/media/image14.png" ContentType="image/png"/>
  <Override PartName="/ppt/media/image54.wmf" ContentType="image/x-wmf"/>
  <Override PartName="/ppt/media/image26.jpeg" ContentType="image/jpeg"/>
  <Override PartName="/ppt/media/image20.wmf" ContentType="image/x-wmf"/>
  <Override PartName="/ppt/media/image18.wmf" ContentType="image/x-wmf"/>
  <Override PartName="/ppt/media/image36.jpeg" ContentType="image/jpeg"/>
  <Override PartName="/ppt/media/image57.png" ContentType="image/png"/>
  <Override PartName="/ppt/media/image17.gif" ContentType="image/gif"/>
  <Override PartName="/ppt/media/image27.jpeg" ContentType="image/jpeg"/>
  <Override PartName="/ppt/media/image52.png" ContentType="image/png"/>
  <Override PartName="/ppt/media/image16.png" ContentType="image/png"/>
  <Override PartName="/ppt/media/image23.gif" ContentType="image/gif"/>
  <Override PartName="/ppt/media/image15.png" ContentType="image/png"/>
  <Override PartName="/ppt/media/image1.jpeg" ContentType="image/jpeg"/>
  <Override PartName="/ppt/media/image10.png" ContentType="image/png"/>
  <Override PartName="/ppt/media/image4.wmf" ContentType="image/x-wmf"/>
  <Override PartName="/ppt/media/image2.png" ContentType="image/png"/>
  <Override PartName="/ppt/media/image32.png" ContentType="image/png"/>
  <Override PartName="/ppt/media/image3.png" ContentType="image/png"/>
  <Override PartName="/ppt/media/image6.jpeg" ContentType="image/jpeg"/>
  <Override PartName="/ppt/media/image25.gif" ContentType="image/gif"/>
  <Override PartName="/ppt/media/image37.jpeg" ContentType="image/jpeg"/>
  <Override PartName="/ppt/media/image50.png" ContentType="image/png"/>
  <Override PartName="/ppt/media/image13.png" ContentType="image/png"/>
  <Override PartName="/ppt/media/image9.jpeg" ContentType="image/jpeg"/>
  <Override PartName="/ppt/media/image48.png" ContentType="image/png"/>
  <Override PartName="/ppt/media/image40.jpeg" ContentType="image/jpeg"/>
  <Override PartName="/ppt/media/image34.png" ContentType="image/png"/>
  <Override PartName="/ppt/media/image42.jpeg" ContentType="image/jpeg"/>
  <Override PartName="/ppt/media/image51.png" ContentType="image/png"/>
  <Override PartName="/ppt/media/image44.jpeg" ContentType="image/jpeg"/>
  <Override PartName="/ppt/media/image45.png" ContentType="image/png"/>
  <Override PartName="/ppt/media/image33.jpeg" ContentType="image/jpeg"/>
  <Override PartName="/ppt/media/image30.wmf" ContentType="image/x-wmf"/>
  <Override PartName="/ppt/media/image46.jpeg" ContentType="image/jpeg"/>
  <Override PartName="/ppt/media/image47.jpeg" ContentType="image/jpeg"/>
  <Override PartName="/ppt/media/image41.png" ContentType="image/png"/>
  <Override PartName="/ppt/media/image53.jpeg" ContentType="image/jpeg"/>
  <Override PartName="/ppt/media/image55.jpeg" ContentType="image/jpeg"/>
  <Override PartName="/ppt/media/image56.png" ContentType="image/png"/>
  <Override PartName="/ppt/media/image49.png" ContentType="image/png"/>
  <Override PartName="/ppt/media/image12.png" ContentType="image/png"/>
  <Override PartName="/ppt/media/image39.jpeg" ContentType="image/jpeg"/>
  <Override PartName="/ppt/media/image8.jpeg" ContentType="image/jpeg"/>
  <Override PartName="/ppt/media/image5.png" ContentType="image/png"/>
  <Override PartName="/ppt/media/image43.jpeg" ContentType="image/jpeg"/>
  <Override PartName="/ppt/media/image35.png" ContentType="image/png"/>
  <Override PartName="/ppt/media/image38.jpeg" ContentType="image/jpeg"/>
  <Override PartName="/ppt/media/image28.png" ContentType="image/png"/>
  <Override PartName="/ppt/media/image31.wmf" ContentType="image/x-wmf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B470-8016-4038-A205-A582E8A37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55D1-EB28-418A-BA54-58EA8AA53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092BCB-9F35-4F55-8440-4E42530EE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D634E1-E196-4C9A-8029-2836A2BC2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814BB5-4520-40AE-978B-746DF2062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124B40-C32F-4583-9739-BF830157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00994F-7C3C-4DB9-8FF1-735721A82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AE2AC6-CB84-4019-9AA4-F93F9AB4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C468A1-83DE-46E1-90B0-0D540C9CF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9FF61E-AEB9-42E7-827A-0A78239A1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D90BBA-BEE0-44A2-83AF-3179F564D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7D93B1-0D67-4CC8-8385-69C69184F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BF42-C3B9-45A8-A3B8-F0ADA9D96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EFA219-E68E-4229-9389-3DCACEB18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BC3C82-A1B9-4993-8595-B520CE250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267241-CAAA-4019-997F-60919A108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15854F-D453-4AE9-AA0E-49CD5F5E6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25622D-F1A2-48FC-A0A1-E682C8EC6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74B6E7-1864-4F65-9715-226E6BCDF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3C1C68-7964-4654-9869-BAD436B92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E192FF-8EDE-4292-9630-783A25E2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E4404A-B687-44F7-86D5-D7493F21C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BA7ECD-F365-4F39-9FEE-9FA2585F6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C89E-2086-4BCF-BFCA-06769A635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5D06FD-50B2-4D05-90AF-72B5700B3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D99E51-AB78-4635-878C-DC0CF91E4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21C963-3F19-474B-A8AB-732F1B1C6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832A73-45D4-403F-9D06-5F34643A3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598C85-D86E-48B3-A11B-EC99BF3F9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5D5408-5FF3-4C42-BFA4-8401AA308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AA6C4F-1AD8-46C2-964E-D085D7A4C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76EF0D-8E7C-4D32-9FA3-DEE8BC1A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F1BA4E-29A3-4CBF-B7EF-D8968D204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D33B2F-1BD1-44F7-9495-237711D7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718D9-1F82-4D30-8870-89960D5D1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F49CED-0F0A-4DB4-A95F-A6884026C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1BE429-38C3-4A1C-9A3D-9D8812574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938D51-BCA2-4725-8569-15EC6F748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210F3-4CF4-4EFE-BE2C-2759DC1F4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EB467-9AF5-4164-A695-C8DE0D1E5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99D72-AA62-4EDE-AD0F-7A3117B46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C8E1B-605B-4650-BA94-B9E64DAE4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03723-6C0F-4DB8-B5AE-F22994FC0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99A31-893D-40BB-8825-2D65E3C7C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5822-1F51-449A-9CA9-EF71308C0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F7D96-1C2F-47DE-B017-F3E6D1903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5CFAC-1A48-4913-9DD2-ECA568D0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F0EB4-AA4D-49E7-A4D0-893BE5789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5B947-A653-4AD5-B72F-9035A8D82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40362-2AA2-493A-8916-ACBA62DD2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ADD81-79FA-4706-9D0A-F1B0C5D71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0C9E4-8F82-471D-99D9-EE5FCB211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6ADF2-C54D-41F3-8764-5E45C7672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644CF-B3C3-473F-ABC9-E312E84DD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B0D35-BC00-42BB-897A-0EAF6FD07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3C42-0347-46C4-8187-D8AF9E696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495CF-0565-4BD2-998E-5F1969E8B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B9838-40DA-49E7-9340-39DF7EE2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70E36-A0F0-423C-897E-C159EBDB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E7625-D249-45AD-B97D-0BA142FAF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E7E1B-FAD4-4E85-812B-B7A93AF6E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E62E6-8F53-4090-A542-EC3C7C45E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AD75E-3594-4AAF-8074-4A884C106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28704-C869-4DFC-9C67-D311662B1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6DCF5-0F99-4F7C-B6E3-78194B19F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078EC-72FE-4A15-B52C-2216C4706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0863-72C1-49AB-A596-9880FC7FF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1E41E-5EAE-480A-82C6-D8AA5F7FB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9952A-62E4-499E-A536-3D820A756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F31C1-9A6E-4BAC-A907-75547BEDB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C4589-1D27-4EF7-B8B4-B09AF2A1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0057E-9030-4DAC-9B61-B489F0D7B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F6499-9899-4B63-A89D-FC167014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C6633-F7E8-4564-8538-397B46133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B147A-9CCA-4109-A6B3-5B3015297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31CCF-3310-4A5D-8CDE-F69BEA523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62F5F2-1D9A-42E9-8CD1-95831091A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57C4-F06A-47BF-B135-16E73DE39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468906-43AD-421E-9E81-E2F2BEBFB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11F55C-6B59-473A-BAD1-82FF7C98B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F6E703-361C-4B56-864B-D7B37E9B8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543F9-1FD7-45C2-8794-7AC12F006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E2E12-AC13-480F-8A93-D4A9F9D8D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3EA0B-F45E-4A22-9A8C-8C307D89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058F7-CAF4-4603-8B8D-3A2799D2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57BC4-C06B-4130-8178-C29BE3CAE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51B8B3-4CA9-4D52-944E-E29E24965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AA666-60BD-42B2-9F97-2140155FC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598F-7DE1-4BAE-BA06-E2A498AD9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8DC3D1-5B03-4A7C-9409-4152A46FE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FEDF3D-F2E0-47B1-B1FC-00633270C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B95E95-DA91-4C86-9FD7-E500F2E71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677DC8-AA13-4E62-A7D0-BC8BCAE8F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EABB15-7792-4077-95D4-E6A3223BD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B7F580-42A0-422A-9EE2-9FA237820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94B69B-7568-4346-8FC5-64DE76075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C92AE0-CB58-4B5B-99FE-04F42D8B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2D98C8-CFFD-42BC-83BD-B19E85DED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3CE881-20F7-4CAA-BA3E-45D40D40C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363C-E5BB-439F-BE32-52C7AF71A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A7F1E8-0609-4185-913B-BEE60EBDC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5DD79C-CFE7-4464-B07A-346C2D212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AC015F-0663-41F6-9ED7-B6AB3149A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096174-E8A0-4E1E-8EDB-33D88E48E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3D56BA-94DA-44E5-B70E-D8CA2198C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99DACD-05E7-44CE-B94A-CC307D913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A5083F-303B-46F2-80FF-4266B3005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430846-E439-4D8A-9B54-A75B88FED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F8E26E-264D-486E-93D3-F5DFC9A3F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A4C2E0-E2FA-45D9-80C7-97850FE62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95B8-0151-4355-8485-EB1267921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58093D-6708-4CFB-A043-F303E237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6A3408-161C-42D8-A0DD-4DBD36AB5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EAE3DA-B5DA-4E4A-9649-A9F652669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F44D22-0A45-4B9B-BAF8-36C665541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7C946A-1C12-4193-BC81-D03B2BB48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803A81-425D-4DDC-9EE4-B48C15212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469B6E-40A9-4AE9-9D79-546BA366C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8AE96E-5876-4473-AE43-07F7CF284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28D7AC-3FB5-4B89-BDB7-898B0BEFC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DE0F5A-7515-45BD-8678-BD8AB46DF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A2B1-8F15-4D39-8494-46D20E01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22FAB2-82E5-4C58-936E-5CA6D114E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CC21A6-5197-4785-9B0B-DBF4BF815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67C7F8-83E0-4BD5-AD79-9442F0BF7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CB00BF-3A3D-4CE7-934C-F03CBC121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5BC709-36B5-4C43-8A0B-883F71932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5CFBB2-786C-4325-A07C-69F3EDBEC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B55133-9083-4564-9B08-B9DA3FF16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A4BA70-CE79-4110-BC96-DE2541CB8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1A1C8E-9D40-4BE8-A6A5-9A30FAA04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82B26E-BCDF-4161-B713-60F49FB52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B2DCC-D4DE-49F1-A10D-DFE10E34CB2F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31CB4-EC97-4132-89EF-4CBC6149C1A9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292C4-6734-48DC-9504-BA24C9F1CF2F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Прямоугольник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A2E38-DCAC-43CB-88B1-F753D710304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Прямоугольник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B1FF1-1F28-46B6-9E9E-27CC50632DE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80D8F-DF25-4A79-87C5-5D08CE09C838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Прямоугольник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Прямоугольник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5C89F-2410-48DA-9060-80079D816C94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Прямоугольник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Прямоугольник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BD89F-412B-4A7F-A4A8-960D3B311D88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Прямоугольник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F5941-C65C-4B57-B037-3D6C93EC838F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95039-ACCB-4346-8EA2-69191D99768D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FA6C2-D154-47CC-8421-B6DBF7803784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1.gif"/><Relationship Id="rId3" Type="http://schemas.openxmlformats.org/officeDocument/2006/relationships/image" Target="../media/image22.wmf"/><Relationship Id="rId4" Type="http://schemas.openxmlformats.org/officeDocument/2006/relationships/image" Target="../media/image23.gif"/><Relationship Id="rId5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gif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image" Target="../media/image40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35.pn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35.pn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0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jpeg"/><Relationship Id="rId3" Type="http://schemas.openxmlformats.org/officeDocument/2006/relationships/image" Target="../media/image54.wmf"/><Relationship Id="rId4" Type="http://schemas.openxmlformats.org/officeDocument/2006/relationships/image" Target="../media/image55.jpeg"/><Relationship Id="rId5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Rectangle 2" descr=""/>
          <p:cNvPicPr/>
          <p:nvPr/>
        </p:nvPicPr>
        <p:blipFill>
          <a:blip r:embed="rId1"/>
          <a:stretch/>
        </p:blipFill>
        <p:spPr>
          <a:xfrm>
            <a:off x="463680" y="457200"/>
            <a:ext cx="8223120" cy="478008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2488680" y="5589360"/>
            <a:ext cx="6147000" cy="126828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 Narrow"/>
              </a:rPr>
              <a:t>Автор: Лозинская Л.Ф.,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Arial Narrow"/>
              </a:rPr>
              <a:t>учитель химии МОУ ТСШ № 17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 Narrow"/>
              </a:rPr>
              <a:t>г. Тирасполь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Rectangle 2" descr=""/>
          <p:cNvPicPr/>
          <p:nvPr/>
        </p:nvPicPr>
        <p:blipFill>
          <a:blip r:embed="rId1"/>
          <a:stretch/>
        </p:blipFill>
        <p:spPr>
          <a:xfrm>
            <a:off x="176040" y="96840"/>
            <a:ext cx="8517240" cy="133020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5194440" cy="48531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о время грозы образуются оксиды азота, растворяясь в дождевой воде они дают азотную кислоту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и извержении вулканов и работе химических заводов выделяются оксиды серы, участвующие в образовании серной кислоты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19" name="Picture 9" descr="39r6"/>
          <p:cNvPicPr/>
          <p:nvPr/>
        </p:nvPicPr>
        <p:blipFill>
          <a:blip r:embed="rId2"/>
          <a:stretch/>
        </p:blipFill>
        <p:spPr>
          <a:xfrm>
            <a:off x="5580000" y="1413000"/>
            <a:ext cx="2737080" cy="243360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11" descr="j0285360"/>
          <p:cNvPicPr/>
          <p:nvPr/>
        </p:nvPicPr>
        <p:blipFill>
          <a:blip r:embed="rId3"/>
          <a:stretch/>
        </p:blipFill>
        <p:spPr>
          <a:xfrm>
            <a:off x="5931000" y="4070520"/>
            <a:ext cx="1473120" cy="181908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13" descr="02"/>
          <p:cNvPicPr/>
          <p:nvPr/>
        </p:nvPicPr>
        <p:blipFill>
          <a:blip r:embed="rId4"/>
          <a:stretch/>
        </p:blipFill>
        <p:spPr>
          <a:xfrm>
            <a:off x="4830840" y="4076640"/>
            <a:ext cx="163188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Rectangle 2" descr=""/>
          <p:cNvPicPr/>
          <p:nvPr/>
        </p:nvPicPr>
        <p:blipFill>
          <a:blip r:embed="rId1"/>
          <a:stretch/>
        </p:blipFill>
        <p:spPr>
          <a:xfrm>
            <a:off x="176040" y="85680"/>
            <a:ext cx="8517240" cy="1047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4978440" cy="48531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Разрушают почвы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Угнетают развитие растений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Разрушают здания, скульптуры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Необходимо на химических производствах принимать меры по очистке выбрасываемых газов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24" name="Picture 6" descr="37r4"/>
          <p:cNvPicPr/>
          <p:nvPr/>
        </p:nvPicPr>
        <p:blipFill>
          <a:blip r:embed="rId2"/>
          <a:stretch/>
        </p:blipFill>
        <p:spPr>
          <a:xfrm>
            <a:off x="5254560" y="260280"/>
            <a:ext cx="3889440" cy="296388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7" descr="0007-007-Zagrjaznenie-atmosfery-v-Moskve"/>
          <p:cNvPicPr/>
          <p:nvPr/>
        </p:nvPicPr>
        <p:blipFill>
          <a:blip r:embed="rId3"/>
          <a:stretch/>
        </p:blipFill>
        <p:spPr>
          <a:xfrm>
            <a:off x="6300720" y="3284640"/>
            <a:ext cx="2637000" cy="197784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8" descr="socha1"/>
          <p:cNvPicPr/>
          <p:nvPr/>
        </p:nvPicPr>
        <p:blipFill>
          <a:blip r:embed="rId4"/>
          <a:stretch/>
        </p:blipFill>
        <p:spPr>
          <a:xfrm>
            <a:off x="5364000" y="4724280"/>
            <a:ext cx="2090880" cy="190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16" descr="j0246209"/>
          <p:cNvPicPr/>
          <p:nvPr/>
        </p:nvPicPr>
        <p:blipFill>
          <a:blip r:embed="rId2"/>
          <a:stretch/>
        </p:blipFill>
        <p:spPr>
          <a:xfrm>
            <a:off x="2781360" y="1774800"/>
            <a:ext cx="3581280" cy="4626000"/>
          </a:xfrm>
          <a:prstGeom prst="rect">
            <a:avLst/>
          </a:prstGeom>
          <a:ln w="0">
            <a:noFill/>
          </a:ln>
        </p:spPr>
      </p:pic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Яблочна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Щавелева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Молочна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Лимонна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скорбинова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цетил-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алицилова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леинова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30" name="Picture 17" descr="j0215513"/>
          <p:cNvPicPr/>
          <p:nvPr/>
        </p:nvPicPr>
        <p:blipFill>
          <a:blip r:embed="rId3"/>
          <a:stretch/>
        </p:blipFill>
        <p:spPr>
          <a:xfrm>
            <a:off x="5219640" y="1484280"/>
            <a:ext cx="2451240" cy="227016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19" descr="FDDNK144"/>
          <p:cNvPicPr/>
          <p:nvPr/>
        </p:nvPicPr>
        <p:blipFill>
          <a:blip r:embed="rId4"/>
          <a:stretch/>
        </p:blipFill>
        <p:spPr>
          <a:xfrm>
            <a:off x="3924360" y="2781360"/>
            <a:ext cx="1368360" cy="13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Rectangle 2" descr=""/>
          <p:cNvPicPr/>
          <p:nvPr/>
        </p:nvPicPr>
        <p:blipFill>
          <a:blip r:embed="rId1"/>
          <a:stretch/>
        </p:blipFill>
        <p:spPr>
          <a:xfrm>
            <a:off x="176040" y="96840"/>
            <a:ext cx="8633160" cy="1330200"/>
          </a:xfrm>
          <a:prstGeom prst="rect">
            <a:avLst/>
          </a:prstGeom>
          <a:ln w="0">
            <a:noFill/>
          </a:ln>
        </p:spPr>
      </p:pic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 желудочном соке – соляная кислота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 обмене веществ участвуют янтарная, уксусная, молочная кислоты и т.д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34" name="Picture 6" descr="12-3"/>
          <p:cNvPicPr/>
          <p:nvPr/>
        </p:nvPicPr>
        <p:blipFill>
          <a:blip r:embed="rId2"/>
          <a:stretch/>
        </p:blipFill>
        <p:spPr>
          <a:xfrm>
            <a:off x="5219640" y="1844640"/>
            <a:ext cx="301464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Rectangle 2" descr=""/>
          <p:cNvPicPr/>
          <p:nvPr/>
        </p:nvPicPr>
        <p:blipFill>
          <a:blip r:embed="rId1"/>
          <a:stretch/>
        </p:blipFill>
        <p:spPr>
          <a:xfrm>
            <a:off x="176040" y="12600"/>
            <a:ext cx="8517240" cy="97488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2"/>
          <a:stretch/>
        </p:blipFill>
        <p:spPr>
          <a:xfrm>
            <a:off x="456840" y="1197000"/>
            <a:ext cx="7931160" cy="485928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4" descr="immunity_almonds_salon"/>
          <p:cNvPicPr/>
          <p:nvPr/>
        </p:nvPicPr>
        <p:blipFill>
          <a:blip r:embed="rId3"/>
          <a:stretch/>
        </p:blipFill>
        <p:spPr>
          <a:xfrm>
            <a:off x="324000" y="981000"/>
            <a:ext cx="2736720" cy="223200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5" descr="123641809821"/>
          <p:cNvPicPr/>
          <p:nvPr/>
        </p:nvPicPr>
        <p:blipFill>
          <a:blip r:embed="rId4"/>
          <a:stretch/>
        </p:blipFill>
        <p:spPr>
          <a:xfrm>
            <a:off x="5796000" y="1125360"/>
            <a:ext cx="2903400" cy="217836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6" descr="655e82091a28ed6f8d7b63930e0"/>
          <p:cNvPicPr/>
          <p:nvPr/>
        </p:nvPicPr>
        <p:blipFill>
          <a:blip r:embed="rId5"/>
          <a:stretch/>
        </p:blipFill>
        <p:spPr>
          <a:xfrm>
            <a:off x="250920" y="4437000"/>
            <a:ext cx="3062160" cy="217332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7" descr="147550"/>
          <p:cNvPicPr/>
          <p:nvPr/>
        </p:nvPicPr>
        <p:blipFill>
          <a:blip r:embed="rId6"/>
          <a:stretch/>
        </p:blipFill>
        <p:spPr>
          <a:xfrm>
            <a:off x="5580000" y="3990960"/>
            <a:ext cx="3564000" cy="286704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8" descr="24"/>
          <p:cNvPicPr/>
          <p:nvPr/>
        </p:nvPicPr>
        <p:blipFill>
          <a:blip r:embed="rId7"/>
          <a:stretch/>
        </p:blipFill>
        <p:spPr>
          <a:xfrm>
            <a:off x="3059280" y="2637000"/>
            <a:ext cx="2736720" cy="20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Rectangle 2" descr=""/>
          <p:cNvPicPr/>
          <p:nvPr/>
        </p:nvPicPr>
        <p:blipFill>
          <a:blip r:embed="rId1"/>
          <a:stretch/>
        </p:blipFill>
        <p:spPr>
          <a:xfrm>
            <a:off x="176040" y="12600"/>
            <a:ext cx="8517240" cy="97488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2"/>
          <a:stretch/>
        </p:blipFill>
        <p:spPr>
          <a:xfrm>
            <a:off x="457200" y="1774800"/>
            <a:ext cx="8229600" cy="462600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4" descr="77422027_AIR7"/>
          <p:cNvPicPr/>
          <p:nvPr/>
        </p:nvPicPr>
        <p:blipFill>
          <a:blip r:embed="rId3"/>
          <a:stretch/>
        </p:blipFill>
        <p:spPr>
          <a:xfrm>
            <a:off x="539640" y="1557360"/>
            <a:ext cx="2971800" cy="380988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5" descr="31904"/>
          <p:cNvPicPr/>
          <p:nvPr/>
        </p:nvPicPr>
        <p:blipFill>
          <a:blip r:embed="rId4"/>
          <a:stretch/>
        </p:blipFill>
        <p:spPr>
          <a:xfrm>
            <a:off x="4427640" y="1197000"/>
            <a:ext cx="3384360" cy="225576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6" descr="voda"/>
          <p:cNvPicPr/>
          <p:nvPr/>
        </p:nvPicPr>
        <p:blipFill>
          <a:blip r:embed="rId5"/>
          <a:stretch/>
        </p:blipFill>
        <p:spPr>
          <a:xfrm>
            <a:off x="4788000" y="3933720"/>
            <a:ext cx="414972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2"/>
          <a:stretch/>
        </p:blipFill>
        <p:spPr>
          <a:xfrm>
            <a:off x="457200" y="1774800"/>
            <a:ext cx="8229600" cy="462600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4" descr="0a1577214375e953f933ab78697d5233"/>
          <p:cNvPicPr/>
          <p:nvPr/>
        </p:nvPicPr>
        <p:blipFill>
          <a:blip r:embed="rId3"/>
          <a:stretch/>
        </p:blipFill>
        <p:spPr>
          <a:xfrm>
            <a:off x="468360" y="1557360"/>
            <a:ext cx="4680000" cy="431964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5" descr="4a5d9bf283d7"/>
          <p:cNvPicPr/>
          <p:nvPr/>
        </p:nvPicPr>
        <p:blipFill>
          <a:blip r:embed="rId4"/>
          <a:stretch/>
        </p:blipFill>
        <p:spPr>
          <a:xfrm>
            <a:off x="5275440" y="1557360"/>
            <a:ext cx="34002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Rectangle 2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астворение серной кислоты в вод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ействие серной кислоты на дерево и бумагу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ывод: работать с кислотами надо очень осторожно, в специальной одежде и защитных очках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Rectangle 2" descr=""/>
          <p:cNvPicPr/>
          <p:nvPr/>
        </p:nvPicPr>
        <p:blipFill>
          <a:blip r:embed="rId1"/>
          <a:stretch/>
        </p:blipFill>
        <p:spPr>
          <a:xfrm>
            <a:off x="176040" y="96840"/>
            <a:ext cx="8517240" cy="133020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5" descr="MD_DOC"/>
          <p:cNvPicPr/>
          <p:nvPr/>
        </p:nvPicPr>
        <p:blipFill>
          <a:blip r:embed="rId2"/>
          <a:stretch/>
        </p:blipFill>
        <p:spPr>
          <a:xfrm>
            <a:off x="539640" y="2133720"/>
            <a:ext cx="3254400" cy="38163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4140000" y="1599840"/>
            <a:ext cx="4546440" cy="48531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и попадании кислоты на кожу: промыть большим количеством воды и 5% раствором соды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Хранение: в недоступном для маленьких детей месте, лучше в пластиковой посуде. Не хранить в пищевой посуде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Rectangle 2" descr=""/>
          <p:cNvPicPr/>
          <p:nvPr/>
        </p:nvPicPr>
        <p:blipFill>
          <a:blip r:embed="rId1"/>
          <a:stretch/>
        </p:blipFill>
        <p:spPr>
          <a:xfrm>
            <a:off x="208080" y="96840"/>
            <a:ext cx="8485200" cy="1330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7" name=""/>
          <p:cNvGraphicFramePr/>
          <p:nvPr/>
        </p:nvGraphicFramePr>
        <p:xfrm>
          <a:off x="928800" y="1357200"/>
          <a:ext cx="6869160" cy="5189760"/>
        </p:xfrm>
        <a:graphic>
          <a:graphicData uri="http://schemas.openxmlformats.org/drawingml/2006/table">
            <a:tbl>
              <a:tblPr/>
              <a:tblGrid>
                <a:gridCol w="2463840"/>
                <a:gridCol w="2165040"/>
                <a:gridCol w="2240280"/>
              </a:tblGrid>
              <a:tr h="94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Призна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4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Серная кисло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4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Соляная кисло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4d6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Химическая форму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4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4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4d6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Агрегатное состоя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4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4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4d6"/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Цве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4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4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4d6"/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Запах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4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4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4d6"/>
                    </a:solidFill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Действие  на индикато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-метилоран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-лакму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4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4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4d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Rectangle 2" descr=""/>
          <p:cNvPicPr/>
          <p:nvPr/>
        </p:nvPicPr>
        <p:blipFill>
          <a:blip r:embed="rId1"/>
          <a:stretch/>
        </p:blipFill>
        <p:spPr>
          <a:xfrm>
            <a:off x="176040" y="85680"/>
            <a:ext cx="8517240" cy="104796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10" descr="j0183328"/>
          <p:cNvPicPr/>
          <p:nvPr/>
        </p:nvPicPr>
        <p:blipFill>
          <a:blip r:embed="rId2"/>
          <a:stretch/>
        </p:blipFill>
        <p:spPr>
          <a:xfrm>
            <a:off x="2428920" y="2214720"/>
            <a:ext cx="3143160" cy="315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Rectangle 2" descr=""/>
          <p:cNvPicPr/>
          <p:nvPr/>
        </p:nvPicPr>
        <p:blipFill>
          <a:blip r:embed="rId1"/>
          <a:stretch/>
        </p:blipFill>
        <p:spPr>
          <a:xfrm>
            <a:off x="176040" y="96840"/>
            <a:ext cx="8517240" cy="1330200"/>
          </a:xfrm>
          <a:prstGeom prst="rect">
            <a:avLst/>
          </a:prstGeom>
          <a:ln w="0">
            <a:noFill/>
          </a:ln>
        </p:spPr>
      </p:pic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87000"/>
          </a:bodyPr>
          <a:p>
            <a:pPr marL="380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Индикатор -                                                     указатель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 пробирку налить 1 мл раствора индикатора, добавить 2-3 капли кислоты, отметить наблюдения в таблице, повторить с другой кислотой и другим индикатором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60" name="Picture 9" descr=""/>
          <p:cNvPicPr/>
          <p:nvPr/>
        </p:nvPicPr>
        <p:blipFill>
          <a:blip r:embed="rId2"/>
          <a:stretch/>
        </p:blipFill>
        <p:spPr>
          <a:xfrm>
            <a:off x="5219640" y="1628640"/>
            <a:ext cx="3484800" cy="482472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11" descr="NATR082"/>
          <p:cNvPicPr/>
          <p:nvPr/>
        </p:nvPicPr>
        <p:blipFill>
          <a:blip r:embed="rId3"/>
          <a:stretch/>
        </p:blipFill>
        <p:spPr>
          <a:xfrm>
            <a:off x="7164360" y="0"/>
            <a:ext cx="1771560" cy="225900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14" descr=""/>
          <p:cNvPicPr/>
          <p:nvPr/>
        </p:nvPicPr>
        <p:blipFill>
          <a:blip r:embed="rId4"/>
          <a:stretch/>
        </p:blipFill>
        <p:spPr>
          <a:xfrm>
            <a:off x="4356000" y="5084640"/>
            <a:ext cx="215928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Rectangle 2" descr=""/>
          <p:cNvPicPr/>
          <p:nvPr/>
        </p:nvPicPr>
        <p:blipFill>
          <a:blip r:embed="rId1"/>
          <a:stretch/>
        </p:blipFill>
        <p:spPr>
          <a:xfrm>
            <a:off x="73080" y="79200"/>
            <a:ext cx="8620200" cy="1335240"/>
          </a:xfrm>
          <a:prstGeom prst="rect">
            <a:avLst/>
          </a:prstGeom>
          <a:ln w="0">
            <a:noFill/>
          </a:ln>
        </p:spPr>
      </p:pic>
      <p:sp>
        <p:nvSpPr>
          <p:cNvPr id="564" name=""/>
          <p:cNvSpPr txBox="1"/>
          <p:nvPr/>
        </p:nvSpPr>
        <p:spPr>
          <a:xfrm>
            <a:off x="1042560" y="1600200"/>
            <a:ext cx="7643880" cy="44560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Индикаторы меняют свой цвет в растворах кислот - это общее свойство кислот, обусловленное особенностями их строения.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Rectangle 2" descr=""/>
          <p:cNvPicPr/>
          <p:nvPr/>
        </p:nvPicPr>
        <p:blipFill>
          <a:blip r:embed="rId1"/>
          <a:stretch/>
        </p:blipFill>
        <p:spPr>
          <a:xfrm>
            <a:off x="73080" y="79200"/>
            <a:ext cx="8620200" cy="1335240"/>
          </a:xfrm>
          <a:prstGeom prst="rect">
            <a:avLst/>
          </a:prstGeom>
          <a:ln w="0">
            <a:noFill/>
          </a:ln>
        </p:spPr>
      </p:pic>
      <p:sp>
        <p:nvSpPr>
          <p:cNvPr id="56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rbel"/>
              </a:rPr>
              <a:t>§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Corbel"/>
              </a:rPr>
              <a:t>Выучить формулы кислот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Rectangle 2" descr=""/>
          <p:cNvPicPr/>
          <p:nvPr/>
        </p:nvPicPr>
        <p:blipFill>
          <a:blip r:embed="rId1"/>
          <a:stretch/>
        </p:blipFill>
        <p:spPr>
          <a:xfrm>
            <a:off x="-55440" y="36360"/>
            <a:ext cx="9096120" cy="8780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81" name="Picture 4" descr="fotosbornik_ru_3138"/>
          <p:cNvPicPr/>
          <p:nvPr/>
        </p:nvPicPr>
        <p:blipFill>
          <a:blip r:embed="rId2"/>
          <a:stretch/>
        </p:blipFill>
        <p:spPr>
          <a:xfrm>
            <a:off x="250920" y="1341360"/>
            <a:ext cx="3097080" cy="232416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5" descr="46972-2011-03-30-img03"/>
          <p:cNvPicPr/>
          <p:nvPr/>
        </p:nvPicPr>
        <p:blipFill>
          <a:blip r:embed="rId3"/>
          <a:stretch/>
        </p:blipFill>
        <p:spPr>
          <a:xfrm>
            <a:off x="3203640" y="1197000"/>
            <a:ext cx="3033720" cy="351000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6" descr="kefir_sp"/>
          <p:cNvPicPr/>
          <p:nvPr/>
        </p:nvPicPr>
        <p:blipFill>
          <a:blip r:embed="rId4"/>
          <a:stretch/>
        </p:blipFill>
        <p:spPr>
          <a:xfrm>
            <a:off x="6084720" y="1052640"/>
            <a:ext cx="2719440" cy="22478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7" descr="02"/>
          <p:cNvPicPr/>
          <p:nvPr/>
        </p:nvPicPr>
        <p:blipFill>
          <a:blip r:embed="rId5"/>
          <a:stretch/>
        </p:blipFill>
        <p:spPr>
          <a:xfrm>
            <a:off x="6048360" y="3357720"/>
            <a:ext cx="3095640" cy="231120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8" descr="img_72_1851164715"/>
          <p:cNvPicPr/>
          <p:nvPr/>
        </p:nvPicPr>
        <p:blipFill>
          <a:blip r:embed="rId6"/>
          <a:stretch/>
        </p:blipFill>
        <p:spPr>
          <a:xfrm>
            <a:off x="324000" y="3267000"/>
            <a:ext cx="3809880" cy="359100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9" descr="klykva07"/>
          <p:cNvPicPr/>
          <p:nvPr/>
        </p:nvPicPr>
        <p:blipFill>
          <a:blip r:embed="rId7"/>
          <a:stretch/>
        </p:blipFill>
        <p:spPr>
          <a:xfrm>
            <a:off x="4716360" y="4653000"/>
            <a:ext cx="2584440" cy="199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Rectangle 2" descr=""/>
          <p:cNvPicPr/>
          <p:nvPr/>
        </p:nvPicPr>
        <p:blipFill>
          <a:blip r:embed="rId1"/>
          <a:stretch/>
        </p:blipFill>
        <p:spPr>
          <a:xfrm>
            <a:off x="176040" y="-23760"/>
            <a:ext cx="8517240" cy="93816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ерная кислота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orbe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orbe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оляная кислота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HCI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зотная кислота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HN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orbe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Фосфорная кислота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orbe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orbe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ероводородная кислота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orbe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лавиковая кислота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HF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Угольная кислота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orbe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orbe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ремниевая кислота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orbe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Si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orbe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Rectangle 2" descr=""/>
          <p:cNvPicPr/>
          <p:nvPr/>
        </p:nvPicPr>
        <p:blipFill>
          <a:blip r:embed="rId1"/>
          <a:stretch/>
        </p:blipFill>
        <p:spPr>
          <a:xfrm>
            <a:off x="-237960" y="-6480"/>
            <a:ext cx="9388440" cy="847800"/>
          </a:xfrm>
          <a:prstGeom prst="rect">
            <a:avLst/>
          </a:prstGeom>
          <a:ln w="0">
            <a:noFill/>
          </a:ln>
        </p:spPr>
      </p:pic>
      <p:sp>
        <p:nvSpPr>
          <p:cNvPr id="490" name="Text Box 6"/>
          <p:cNvSpPr/>
          <p:nvPr/>
        </p:nvSpPr>
        <p:spPr>
          <a:xfrm>
            <a:off x="2771640" y="1197000"/>
            <a:ext cx="3600720" cy="764280"/>
          </a:xfrm>
          <a:prstGeom prst="rect">
            <a:avLst/>
          </a:prstGeom>
          <a:solidFill>
            <a:srgbClr val="168b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Кислоты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8"/>
          <p:cNvSpPr/>
          <p:nvPr/>
        </p:nvSpPr>
        <p:spPr>
          <a:xfrm>
            <a:off x="755640" y="2708280"/>
            <a:ext cx="2808360" cy="1015920"/>
          </a:xfrm>
          <a:prstGeom prst="rect">
            <a:avLst/>
          </a:prstGeom>
          <a:solidFill>
            <a:srgbClr val="6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ислород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одержащ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Text Box 9"/>
          <p:cNvSpPr/>
          <p:nvPr/>
        </p:nvSpPr>
        <p:spPr>
          <a:xfrm>
            <a:off x="5364000" y="2852640"/>
            <a:ext cx="3384720" cy="459720"/>
          </a:xfrm>
          <a:prstGeom prst="rect">
            <a:avLst/>
          </a:prstGeom>
          <a:solidFill>
            <a:srgbClr val="6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Бескислородны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Line 10"/>
          <p:cNvSpPr/>
          <p:nvPr/>
        </p:nvSpPr>
        <p:spPr>
          <a:xfrm flipH="1">
            <a:off x="3563640" y="1989000"/>
            <a:ext cx="647640" cy="71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Line 11"/>
          <p:cNvSpPr/>
          <p:nvPr/>
        </p:nvSpPr>
        <p:spPr>
          <a:xfrm>
            <a:off x="4788000" y="1989000"/>
            <a:ext cx="115092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Rectangle 12"/>
          <p:cNvSpPr/>
          <p:nvPr/>
        </p:nvSpPr>
        <p:spPr>
          <a:xfrm>
            <a:off x="755640" y="4005360"/>
            <a:ext cx="2521080" cy="2663640"/>
          </a:xfrm>
          <a:prstGeom prst="rect">
            <a:avLst/>
          </a:prstGeom>
          <a:solidFill>
            <a:srgbClr val="f0a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N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i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Rectangle 13"/>
          <p:cNvSpPr/>
          <p:nvPr/>
        </p:nvSpPr>
        <p:spPr>
          <a:xfrm>
            <a:off x="6300720" y="3933720"/>
            <a:ext cx="1727280" cy="2735280"/>
          </a:xfrm>
          <a:prstGeom prst="rect">
            <a:avLst/>
          </a:prstGeom>
          <a:solidFill>
            <a:srgbClr val="f0a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C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Rectangle 2" descr=""/>
          <p:cNvPicPr/>
          <p:nvPr/>
        </p:nvPicPr>
        <p:blipFill>
          <a:blip r:embed="rId1"/>
          <a:stretch/>
        </p:blipFill>
        <p:spPr>
          <a:xfrm>
            <a:off x="208080" y="-6480"/>
            <a:ext cx="8485200" cy="847800"/>
          </a:xfrm>
          <a:prstGeom prst="rect">
            <a:avLst/>
          </a:prstGeom>
          <a:ln w="0">
            <a:noFill/>
          </a:ln>
        </p:spPr>
      </p:pic>
      <p:sp>
        <p:nvSpPr>
          <p:cNvPr id="498" name="Text Box 5"/>
          <p:cNvSpPr/>
          <p:nvPr/>
        </p:nvSpPr>
        <p:spPr>
          <a:xfrm>
            <a:off x="2556000" y="1268280"/>
            <a:ext cx="4103640" cy="703440"/>
          </a:xfrm>
          <a:prstGeom prst="rect">
            <a:avLst/>
          </a:prstGeom>
          <a:solidFill>
            <a:srgbClr val="168b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кислоты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 Box 6"/>
          <p:cNvSpPr/>
          <p:nvPr/>
        </p:nvSpPr>
        <p:spPr>
          <a:xfrm>
            <a:off x="684360" y="2565360"/>
            <a:ext cx="3311280" cy="520560"/>
          </a:xfrm>
          <a:prstGeom prst="rect">
            <a:avLst/>
          </a:prstGeom>
          <a:solidFill>
            <a:srgbClr val="6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одноосновны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 Box 7"/>
          <p:cNvSpPr/>
          <p:nvPr/>
        </p:nvSpPr>
        <p:spPr>
          <a:xfrm>
            <a:off x="3059280" y="3716280"/>
            <a:ext cx="3240000" cy="520560"/>
          </a:xfrm>
          <a:prstGeom prst="rect">
            <a:avLst/>
          </a:prstGeom>
          <a:solidFill>
            <a:srgbClr val="6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вухосновны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Text Box 8"/>
          <p:cNvSpPr/>
          <p:nvPr/>
        </p:nvSpPr>
        <p:spPr>
          <a:xfrm>
            <a:off x="5364000" y="2492280"/>
            <a:ext cx="3456000" cy="520560"/>
          </a:xfrm>
          <a:prstGeom prst="rect">
            <a:avLst/>
          </a:prstGeom>
          <a:solidFill>
            <a:srgbClr val="6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ногоосновны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Line 9"/>
          <p:cNvSpPr/>
          <p:nvPr/>
        </p:nvSpPr>
        <p:spPr>
          <a:xfrm flipH="1">
            <a:off x="2987640" y="1989000"/>
            <a:ext cx="93672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Line 10"/>
          <p:cNvSpPr/>
          <p:nvPr/>
        </p:nvSpPr>
        <p:spPr>
          <a:xfrm>
            <a:off x="4788000" y="1989000"/>
            <a:ext cx="0" cy="172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Line 11"/>
          <p:cNvSpPr/>
          <p:nvPr/>
        </p:nvSpPr>
        <p:spPr>
          <a:xfrm>
            <a:off x="5508720" y="1989000"/>
            <a:ext cx="158436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Rectangle 12"/>
          <p:cNvSpPr/>
          <p:nvPr/>
        </p:nvSpPr>
        <p:spPr>
          <a:xfrm>
            <a:off x="755640" y="3213000"/>
            <a:ext cx="1925640" cy="119124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HCI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HNO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Text Box 15"/>
          <p:cNvSpPr/>
          <p:nvPr/>
        </p:nvSpPr>
        <p:spPr>
          <a:xfrm>
            <a:off x="3635280" y="4365720"/>
            <a:ext cx="2233800" cy="134244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Si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Rectangle 17"/>
          <p:cNvSpPr/>
          <p:nvPr/>
        </p:nvSpPr>
        <p:spPr>
          <a:xfrm>
            <a:off x="6516720" y="3213000"/>
            <a:ext cx="2089080" cy="7182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rbel"/>
              </a:rPr>
              <a:t>H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Corbel"/>
              </a:rPr>
              <a:t>2</a:t>
            </a:r>
            <a:r>
              <a:rPr b="1" lang="en-US" sz="6000" spc="-1" strike="noStrike">
                <a:solidFill>
                  <a:srgbClr val="000000"/>
                </a:solidFill>
                <a:latin typeface="Corbel"/>
              </a:rPr>
              <a:t>SO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Corbe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rbel"/>
              </a:rPr>
              <a:t>HCI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Rectangle 2" descr=""/>
          <p:cNvPicPr/>
          <p:nvPr/>
        </p:nvPicPr>
        <p:blipFill>
          <a:blip r:embed="rId1"/>
          <a:stretch/>
        </p:blipFill>
        <p:spPr>
          <a:xfrm>
            <a:off x="208080" y="-30240"/>
            <a:ext cx="8485200" cy="1457280"/>
          </a:xfrm>
          <a:prstGeom prst="rect">
            <a:avLst/>
          </a:prstGeom>
          <a:ln w="0">
            <a:noFill/>
          </a:ln>
        </p:spPr>
      </p:pic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402080" cy="44560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ервая известная человечеству кислота – уксусная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rbe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OOH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. Люди выращивали виноград, готовили вино, при прокисании вина получался уксус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лово «кислота» произошло от латинского названия уксус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12" name="Picture 11" descr="j0284041"/>
          <p:cNvPicPr/>
          <p:nvPr/>
        </p:nvPicPr>
        <p:blipFill>
          <a:blip r:embed="rId2"/>
          <a:stretch/>
        </p:blipFill>
        <p:spPr>
          <a:xfrm>
            <a:off x="6262560" y="3436920"/>
            <a:ext cx="809640" cy="78120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12" descr="FDDNK122"/>
          <p:cNvPicPr/>
          <p:nvPr/>
        </p:nvPicPr>
        <p:blipFill>
          <a:blip r:embed="rId3"/>
          <a:stretch/>
        </p:blipFill>
        <p:spPr>
          <a:xfrm>
            <a:off x="7308720" y="0"/>
            <a:ext cx="2405160" cy="314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Rectangle 4" descr=""/>
          <p:cNvPicPr/>
          <p:nvPr/>
        </p:nvPicPr>
        <p:blipFill>
          <a:blip r:embed="rId1"/>
          <a:stretch/>
        </p:blipFill>
        <p:spPr>
          <a:xfrm>
            <a:off x="176040" y="96840"/>
            <a:ext cx="8517240" cy="1330200"/>
          </a:xfrm>
          <a:prstGeom prst="rect">
            <a:avLst/>
          </a:prstGeom>
          <a:ln w="0">
            <a:noFill/>
          </a:ln>
        </p:spPr>
      </p:pic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Углекислый газ воздуха, растворяясь в дождевой воде превращается в угольную кислоту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Н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Corbe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О+СО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Corbe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=Н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Corbe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СО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Corbe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16" name="Picture 7" descr="j0293828"/>
          <p:cNvPicPr/>
          <p:nvPr/>
        </p:nvPicPr>
        <p:blipFill>
          <a:blip r:embed="rId2"/>
          <a:stretch/>
        </p:blipFill>
        <p:spPr>
          <a:xfrm>
            <a:off x="4716360" y="1844640"/>
            <a:ext cx="3834000" cy="3270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8T12:22:11Z</dcterms:created>
  <dc:creator>user_a</dc:creator>
  <dc:description/>
  <dc:language>en-US</dc:language>
  <cp:lastModifiedBy>Дима</cp:lastModifiedBy>
  <dcterms:modified xsi:type="dcterms:W3CDTF">2013-02-27T15:38:36Z</dcterms:modified>
  <cp:revision>25</cp:revision>
  <dc:subject/>
  <dc:title>Урок-путешествие по химии</dc:title>
</cp:coreProperties>
</file>