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32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20.jpeg" ContentType="image/jpeg"/>
  <Override PartName="/ppt/media/image11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79976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685440"/>
            <a:ext cx="4896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0F22-EDC9-4936-9486-ECC3D2DF0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81000" y="685800"/>
            <a:ext cx="4896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019C-CDC2-4067-B1AC-17C34033A6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7F2-CD4F-4014-AD77-54E1C36B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8A4-9855-4087-B565-B49CC5B5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D2C-501C-4466-BDC6-C304C1B1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A8D-971D-45B3-83C4-A04E5E5D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BE9-C4DA-4B29-B117-D2ACBCA7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386-DFA3-4F5A-B2F1-4750DF10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316-CE66-4082-B989-E37F6793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859-8154-44F0-8F4C-47E18E9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03120"/>
            <a:ext cx="9721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9B4-B404-4BE1-A20D-DBE110F7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238-7E00-40FC-800A-02883BCD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A68-E971-4996-B4F8-2235A29F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C68-0F5E-466A-8BC3-893F2073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317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2680" indent="-253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97120" indent="-254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156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156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156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700884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7008840"/>
            <a:ext cx="3419280" cy="401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7008840"/>
            <a:ext cx="2520720" cy="401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79B1-B57B-4019-AF2F-2DAE5482E09C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rive.ru/images/lib/news/additional/1551751.jpe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001.radikal.ru/0712/e2/b3553fdb4bb0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7.wmf"/><Relationship Id="rId39" Type="http://schemas.openxmlformats.org/officeDocument/2006/relationships/image" Target="../media/image7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7.wmf"/><Relationship Id="rId5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www.electrohit.ru/images/it/s_962266.jpg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www.te.by/9314/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www.te.by/10831/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hyperlink" Target="http://www.te.by/7218/" TargetMode="External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hyperlink" Target="http://www.sxc.hu/browse.phtml?f=download&amp;id=795365" TargetMode="External"/><Relationship Id="rId21" Type="http://schemas.openxmlformats.org/officeDocument/2006/relationships/image" Target="../media/image20.jpeg"/><Relationship Id="rId22" Type="http://schemas.openxmlformats.org/officeDocument/2006/relationships/hyperlink" Target="http://www.freefoto.com/images/11/12/11_12_52---Electric-Light-Bulb_web.jpg?&amp;k=Electric+Light+Bulb" TargetMode="External"/><Relationship Id="rId23" Type="http://schemas.openxmlformats.org/officeDocument/2006/relationships/image" Target="../media/image21.jpeg"/><Relationship Id="rId24" Type="http://schemas.openxmlformats.org/officeDocument/2006/relationships/hyperlink" Target="http://www.telestar.com.ua/i/p/ven-26438_nokia--sapphire-arte-h_resize.jpg" TargetMode="External"/><Relationship Id="rId25" Type="http://schemas.openxmlformats.org/officeDocument/2006/relationships/image" Target="../media/image22.jpe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3.jpeg"/><Relationship Id="rId3" Type="http://schemas.openxmlformats.org/officeDocument/2006/relationships/image" Target="../media/image11.jpeg"/><Relationship Id="rId4" Type="http://schemas.openxmlformats.org/officeDocument/2006/relationships/hyperlink" Target="http://www.electrohit.ru/images/it/s_962266.jpg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8.jpeg"/><Relationship Id="rId7" Type="http://schemas.openxmlformats.org/officeDocument/2006/relationships/hyperlink" Target="http://www.te.by/8661/" TargetMode="External"/><Relationship Id="rId8" Type="http://schemas.openxmlformats.org/officeDocument/2006/relationships/image" Target="../media/image24.jpeg"/><Relationship Id="rId9" Type="http://schemas.openxmlformats.org/officeDocument/2006/relationships/image" Target="../media/image15.jpeg"/><Relationship Id="rId10" Type="http://schemas.openxmlformats.org/officeDocument/2006/relationships/image" Target="../media/image14.jpeg"/><Relationship Id="rId11" Type="http://schemas.openxmlformats.org/officeDocument/2006/relationships/image" Target="../media/image17.jpe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http://www.photodom.com/fotos/2007/01/08/185564.jpg"/>
          <p:cNvPicPr/>
          <p:nvPr/>
        </p:nvPicPr>
        <p:blipFill>
          <a:blip r:embed="rId1"/>
          <a:stretch/>
        </p:blipFill>
        <p:spPr>
          <a:xfrm>
            <a:off x="0" y="0"/>
            <a:ext cx="10801440" cy="79549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792440" y="-42840"/>
            <a:ext cx="7448400" cy="11224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9" descr=""/>
          <p:cNvPicPr/>
          <p:nvPr/>
        </p:nvPicPr>
        <p:blipFill>
          <a:blip r:embed="rId3"/>
          <a:stretch/>
        </p:blipFill>
        <p:spPr>
          <a:xfrm>
            <a:off x="2090880" y="3535200"/>
            <a:ext cx="5857560" cy="2030400"/>
          </a:xfrm>
          <a:prstGeom prst="rect">
            <a:avLst/>
          </a:prstGeom>
          <a:ln w="0">
            <a:noFill/>
          </a:ln>
        </p:spPr>
      </p:pic>
      <p:grpSp>
        <p:nvGrpSpPr>
          <p:cNvPr id="51" name="Прямоугольник 10"/>
          <p:cNvGrpSpPr/>
          <p:nvPr/>
        </p:nvGrpSpPr>
        <p:grpSpPr>
          <a:xfrm>
            <a:off x="-19080" y="7010280"/>
            <a:ext cx="10833120" cy="560520"/>
            <a:chOff x="-19080" y="7010280"/>
            <a:chExt cx="10833120" cy="560520"/>
          </a:xfrm>
        </p:grpSpPr>
        <p:pic>
          <p:nvPicPr>
            <p:cNvPr id="52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-19080" y="7010280"/>
              <a:ext cx="108331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7026120"/>
              <a:ext cx="1080144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Form</a:t>
              </a: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6</a:t>
              </a:r>
              <a:r>
                <a:rPr b="1" lang="en-US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th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Book</a:t>
              </a:r>
              <a:r>
                <a:rPr b="1" lang="ru-RU" sz="28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:</a:t>
              </a: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Click on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0"/>
          <p:cNvSpPr/>
          <p:nvPr/>
        </p:nvSpPr>
        <p:spPr>
          <a:xfrm>
            <a:off x="0" y="0"/>
            <a:ext cx="10804680" cy="7772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"/>
          <p:cNvSpPr/>
          <p:nvPr/>
        </p:nvSpPr>
        <p:spPr>
          <a:xfrm>
            <a:off x="328680" y="0"/>
            <a:ext cx="100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ike was very rich until the day he lost his job. Make up a dialog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http://www.trimforti.ru/images/image002.jpg"/>
          <p:cNvPicPr/>
          <p:nvPr/>
        </p:nvPicPr>
        <p:blipFill>
          <a:blip r:embed="rId1"/>
          <a:stretch/>
        </p:blipFill>
        <p:spPr>
          <a:xfrm>
            <a:off x="3543480" y="1673280"/>
            <a:ext cx="3500280" cy="5888160"/>
          </a:xfrm>
          <a:prstGeom prst="rect">
            <a:avLst/>
          </a:prstGeom>
          <a:ln w="0">
            <a:noFill/>
          </a:ln>
        </p:spPr>
      </p:pic>
      <p:sp>
        <p:nvSpPr>
          <p:cNvPr id="166" name="Вертикальный свиток 5"/>
          <p:cNvSpPr/>
          <p:nvPr/>
        </p:nvSpPr>
        <p:spPr>
          <a:xfrm>
            <a:off x="0" y="1636560"/>
            <a:ext cx="4329000" cy="45738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542880" y="2494080"/>
            <a:ext cx="3357720" cy="30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y seco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nd cloth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t go ou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at in fast-foo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staur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ертикальный свиток 6"/>
          <p:cNvSpPr/>
          <p:nvPr/>
        </p:nvSpPr>
        <p:spPr>
          <a:xfrm>
            <a:off x="6186600" y="2922480"/>
            <a:ext cx="4614840" cy="46389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0c2e2"/>
              </a:gs>
              <a:gs pos="100000">
                <a:srgbClr val="f0ecf5"/>
              </a:gs>
            </a:gsLst>
            <a:lin ang="54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6829560" y="3995640"/>
            <a:ext cx="3500280" cy="30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uy design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loth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go to part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at in expens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staur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2"/>
          <p:cNvSpPr/>
          <p:nvPr/>
        </p:nvSpPr>
        <p:spPr>
          <a:xfrm>
            <a:off x="1690560" y="1565280"/>
            <a:ext cx="120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7926840" y="2916360"/>
            <a:ext cx="1337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Картинка 14 из 866"/>
          <p:cNvPicPr/>
          <p:nvPr/>
        </p:nvPicPr>
        <p:blipFill>
          <a:blip r:embed="rId1"/>
          <a:stretch/>
        </p:blipFill>
        <p:spPr>
          <a:xfrm>
            <a:off x="-287280" y="0"/>
            <a:ext cx="7829640" cy="5638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34" descr="Картинка 84 из 907"/>
          <p:cNvPicPr/>
          <p:nvPr/>
        </p:nvPicPr>
        <p:blipFill>
          <a:blip r:embed="rId2"/>
          <a:stretch/>
        </p:blipFill>
        <p:spPr>
          <a:xfrm>
            <a:off x="4319640" y="3924360"/>
            <a:ext cx="6481800" cy="3637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282960" y="4789440"/>
            <a:ext cx="66254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ffff00"/>
                </a:solidFill>
                <a:latin typeface="comic"/>
              </a:rPr>
              <a:t>ENVIRONMENT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5"/>
          <p:cNvSpPr/>
          <p:nvPr/>
        </p:nvSpPr>
        <p:spPr>
          <a:xfrm>
            <a:off x="2376360" y="1620720"/>
            <a:ext cx="5400720" cy="4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People were more honest in the p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http://www.nowandthenmag.co.uk/ntlogo.gif"/>
          <p:cNvPicPr/>
          <p:nvPr/>
        </p:nvPicPr>
        <p:blipFill>
          <a:blip r:embed="rId3"/>
          <a:stretch/>
        </p:blipFill>
        <p:spPr>
          <a:xfrm>
            <a:off x="6048360" y="324000"/>
            <a:ext cx="41004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Картинка 94 из 1357"/>
          <p:cNvPicPr/>
          <p:nvPr/>
        </p:nvPicPr>
        <p:blipFill>
          <a:blip r:embed="rId1"/>
          <a:stretch/>
        </p:blipFill>
        <p:spPr>
          <a:xfrm>
            <a:off x="-69840" y="0"/>
            <a:ext cx="10871280" cy="7813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8"/>
          <p:cNvSpPr/>
          <p:nvPr/>
        </p:nvSpPr>
        <p:spPr>
          <a:xfrm>
            <a:off x="2879640" y="1405080"/>
            <a:ext cx="59770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Times New Roman"/>
                <a:ea typeface="Calibri"/>
              </a:rPr>
              <a:t>Homewo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800360" y="3924360"/>
            <a:ext cx="900108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. 14 (a, b)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.18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(SB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. 14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. 13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(WB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. 8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. 74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(WB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eur-lang.narod.ru/histart/tudor/191_travels.jpg"/>
          <p:cNvPicPr/>
          <p:nvPr/>
        </p:nvPicPr>
        <p:blipFill>
          <a:blip r:embed="rId1"/>
          <a:stretch/>
        </p:blipFill>
        <p:spPr>
          <a:xfrm>
            <a:off x="0" y="0"/>
            <a:ext cx="11017080" cy="75614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/>
          <p:cNvSpPr/>
          <p:nvPr/>
        </p:nvSpPr>
        <p:spPr>
          <a:xfrm>
            <a:off x="343080" y="393840"/>
            <a:ext cx="270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-3960" y="0"/>
            <a:ext cx="7216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"/>
                <a:ea typeface="Times New Roman"/>
              </a:rPr>
              <a:t>TRANSPOR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Скругленный прямоугольник 16"/>
          <p:cNvSpPr/>
          <p:nvPr/>
        </p:nvSpPr>
        <p:spPr>
          <a:xfrm>
            <a:off x="1655640" y="6372360"/>
            <a:ext cx="2808360" cy="1008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13"/>
          <p:cNvSpPr/>
          <p:nvPr/>
        </p:nvSpPr>
        <p:spPr>
          <a:xfrm>
            <a:off x="0" y="3060720"/>
            <a:ext cx="3313080" cy="2592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12"/>
          <p:cNvSpPr/>
          <p:nvPr/>
        </p:nvSpPr>
        <p:spPr>
          <a:xfrm>
            <a:off x="6657840" y="136440"/>
            <a:ext cx="4143600" cy="3787920"/>
          </a:xfrm>
          <a:prstGeom prst="roundRect">
            <a:avLst>
              <a:gd name="adj" fmla="val 16667"/>
            </a:avLst>
          </a:prstGeom>
          <a:solidFill>
            <a:srgbClr val="f78b3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9"/>
          <p:cNvSpPr/>
          <p:nvPr/>
        </p:nvSpPr>
        <p:spPr>
          <a:xfrm>
            <a:off x="0" y="181080"/>
            <a:ext cx="3240000" cy="1800000"/>
          </a:xfrm>
          <a:prstGeom prst="ellipse">
            <a:avLst/>
          </a:prstGeom>
          <a:solidFill>
            <a:srgbClr val="f78b3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3"/>
          <p:cNvSpPr/>
          <p:nvPr/>
        </p:nvSpPr>
        <p:spPr>
          <a:xfrm>
            <a:off x="2808360" y="2268360"/>
            <a:ext cx="3643200" cy="1144800"/>
          </a:xfrm>
          <a:prstGeom prst="ellipse">
            <a:avLst/>
          </a:pr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1874880" y="396720"/>
            <a:ext cx="83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216000" y="468360"/>
            <a:ext cx="3097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No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s there was no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was done by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10440" y="3060720"/>
            <a:ext cx="356832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us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Beautiful nature. People enjoy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beauty of the country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No pollution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No industrial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ivers were 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The air was fresh and 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People ate ecologically clean f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8"/>
          <p:cNvSpPr/>
          <p:nvPr/>
        </p:nvSpPr>
        <p:spPr>
          <a:xfrm>
            <a:off x="6696000" y="208080"/>
            <a:ext cx="41054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 technology   destroys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llution in its many forms ( wat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llution, air pollution, nuclea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l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uction of wildlife and th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uty of the country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ise from cars, busses,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age of natural resources                  ( metals, different kinds of fu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own of popul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5"/>
          <p:cNvSpPr/>
          <p:nvPr/>
        </p:nvSpPr>
        <p:spPr>
          <a:xfrm>
            <a:off x="1368360" y="6229440"/>
            <a:ext cx="31575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3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us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3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New technology which makes people’s life eas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Прямая со стрелкой 18"/>
          <p:cNvCxnSpPr>
            <a:stCxn id="187" idx="4"/>
            <a:endCxn id="192" idx="0"/>
          </p:cNvCxnSpPr>
          <p:nvPr/>
        </p:nvCxnSpPr>
        <p:spPr>
          <a:xfrm flipH="1">
            <a:off x="2947680" y="3412800"/>
            <a:ext cx="1683360" cy="2817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4" name="Прямая со стрелкой 20"/>
          <p:cNvCxnSpPr/>
          <p:nvPr/>
        </p:nvCxnSpPr>
        <p:spPr>
          <a:xfrm flipV="1">
            <a:off x="5616360" y="1188720"/>
            <a:ext cx="937080" cy="108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Прямая со стрелкой 26"/>
          <p:cNvCxnSpPr>
            <a:endCxn id="186" idx="5"/>
          </p:cNvCxnSpPr>
          <p:nvPr/>
        </p:nvCxnSpPr>
        <p:spPr>
          <a:xfrm flipH="1" flipV="1">
            <a:off x="2764800" y="1730160"/>
            <a:ext cx="1122840" cy="467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6" name="Прямоугольник 43"/>
          <p:cNvSpPr/>
          <p:nvPr/>
        </p:nvSpPr>
        <p:spPr>
          <a:xfrm>
            <a:off x="9121320" y="0"/>
            <a:ext cx="1326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12"/>
          <p:cNvSpPr/>
          <p:nvPr/>
        </p:nvSpPr>
        <p:spPr>
          <a:xfrm>
            <a:off x="4968720" y="4068720"/>
            <a:ext cx="5832720" cy="3492720"/>
          </a:xfrm>
          <a:prstGeom prst="roundRect">
            <a:avLst>
              <a:gd name="adj" fmla="val 16667"/>
            </a:avLst>
          </a:prstGeom>
          <a:solidFill>
            <a:srgbClr val="f78b3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056200" y="4140360"/>
            <a:ext cx="574524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No ocean or sea which is not used as a 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actories and plants pour their industrial waste into rivers, se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nd oc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ivers and lakes are polluted and poiso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sh and sea animals can’t live in them. Nuclear and indust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waste poison and kill fish and sea anim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people drink this water they can d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eople destroy forests, they cut  down tre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imals leave their habitats and many plants d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imals are endang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have acid rains and greenhouse eff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are holes in the ozone layer. If we spend too much tim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 sunlight, the sun can cause skin can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Овал 3"/>
          <p:cNvSpPr/>
          <p:nvPr/>
        </p:nvSpPr>
        <p:spPr>
          <a:xfrm>
            <a:off x="3471840" y="2700360"/>
            <a:ext cx="5786640" cy="1581120"/>
          </a:xfrm>
          <a:prstGeom prst="ellipse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21"/>
          <p:cNvSpPr/>
          <p:nvPr/>
        </p:nvSpPr>
        <p:spPr>
          <a:xfrm>
            <a:off x="0" y="351000"/>
            <a:ext cx="3828960" cy="4787640"/>
          </a:xfrm>
          <a:custGeom>
            <a:avLst/>
            <a:gdLst>
              <a:gd name="textAreaLeft" fmla="*/ 186840 w 3828960"/>
              <a:gd name="textAreaRight" fmla="*/ 3642120 w 3828960"/>
              <a:gd name="textAreaTop" fmla="*/ 186840 h 4787640"/>
              <a:gd name="textAreaBottom" fmla="*/ 4600800 h 4787640"/>
            </a:gdLst>
            <a:ahLst/>
            <a:rect l="textAreaLeft" t="textAreaTop" r="textAreaRight" b="textAreaBottom"/>
            <a:pathLst>
              <a:path w="21600" h="27008">
                <a:moveTo>
                  <a:pt x="3600" y="0"/>
                </a:moveTo>
                <a:arcTo wR="3600" hR="3600" stAng="16200000" swAng="-5400000"/>
                <a:lnTo>
                  <a:pt x="0" y="23408"/>
                </a:lnTo>
                <a:arcTo wR="3600" hR="3600" stAng="10800000" swAng="-5400000"/>
                <a:lnTo>
                  <a:pt x="18000" y="270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6"/>
          <p:cNvSpPr/>
          <p:nvPr/>
        </p:nvSpPr>
        <p:spPr>
          <a:xfrm>
            <a:off x="7186680" y="5210280"/>
            <a:ext cx="3143160" cy="2071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3"/>
          <p:cNvSpPr/>
          <p:nvPr/>
        </p:nvSpPr>
        <p:spPr>
          <a:xfrm>
            <a:off x="1042920" y="5567400"/>
            <a:ext cx="3757680" cy="1643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12"/>
          <p:cNvSpPr/>
          <p:nvPr/>
        </p:nvSpPr>
        <p:spPr>
          <a:xfrm>
            <a:off x="7086600" y="351000"/>
            <a:ext cx="3714840" cy="235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2262600" y="279360"/>
            <a:ext cx="1337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9405720" y="351000"/>
            <a:ext cx="120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216000" y="324000"/>
            <a:ext cx="3571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There were no cars, trains or planes th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People traveled by horses or c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raveled on 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he roads were b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It used to take days just to travel from one plac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It was rather tiresome and quite boring to travel a long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Sometimes it was dangerous to travel by coach and it was also bum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1257480" y="5495760"/>
            <a:ext cx="357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us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r was p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untryside was beautif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ould enjoy trave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7129440" y="396720"/>
            <a:ext cx="392904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Now there are too many cars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tree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raffic jams are terr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The air is polluted. It is neith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sh nor p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Noise 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5"/>
          <p:cNvSpPr/>
          <p:nvPr/>
        </p:nvSpPr>
        <p:spPr>
          <a:xfrm>
            <a:off x="6913440" y="5211720"/>
            <a:ext cx="36356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3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us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>
              <a:lnSpc>
                <a:spcPct val="100000"/>
              </a:lnSpc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of transportation-cars, trains,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3960">
              <a:lnSpc>
                <a:spcPct val="100000"/>
              </a:lnSpc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choose whate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3960">
              <a:lnSpc>
                <a:spcPct val="100000"/>
              </a:lnSpc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3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Прямая со стрелкой 18"/>
          <p:cNvCxnSpPr>
            <a:endCxn id="201" idx="0"/>
          </p:cNvCxnSpPr>
          <p:nvPr/>
        </p:nvCxnSpPr>
        <p:spPr>
          <a:xfrm>
            <a:off x="6768720" y="4284360"/>
            <a:ext cx="1989720" cy="9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Прямая со стрелкой 20"/>
          <p:cNvCxnSpPr>
            <a:stCxn id="199" idx="0"/>
            <a:endCxn id="203" idx="1"/>
          </p:cNvCxnSpPr>
          <p:nvPr/>
        </p:nvCxnSpPr>
        <p:spPr>
          <a:xfrm flipV="1">
            <a:off x="6365520" y="1530000"/>
            <a:ext cx="708840" cy="1157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Прямая со стрелкой 26"/>
          <p:cNvCxnSpPr/>
          <p:nvPr/>
        </p:nvCxnSpPr>
        <p:spPr>
          <a:xfrm flipH="1" flipV="1">
            <a:off x="3828240" y="1564560"/>
            <a:ext cx="1500840" cy="1207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Прямая со стрелкой 29"/>
          <p:cNvCxnSpPr>
            <a:endCxn id="207" idx="0"/>
          </p:cNvCxnSpPr>
          <p:nvPr/>
        </p:nvCxnSpPr>
        <p:spPr>
          <a:xfrm flipH="1">
            <a:off x="3042360" y="4138560"/>
            <a:ext cx="1715400" cy="13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Картинка 121 из 13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862360"/>
            <a:ext cx="5545080" cy="469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Картинка 25 из 42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88000" y="0"/>
            <a:ext cx="51134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4360" y="-360"/>
            <a:ext cx="7345440" cy="12603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How do you form the Past Simple </a:t>
            </a:r>
            <a:br>
              <a:rPr sz="3800"/>
            </a:br>
            <a:r>
              <a:rPr b="1" lang="en-US" sz="3800" spc="-1" strike="noStrike" u="sng">
                <a:solidFill>
                  <a:srgbClr val="000000"/>
                </a:solidFill>
                <a:uFillTx/>
                <a:latin typeface="Times New Roman"/>
              </a:rPr>
              <a:t>for regular verb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332000"/>
          <a:ext cx="10544040" cy="5476680"/>
        </p:xfrm>
        <a:graphic>
          <a:graphicData uri="http://schemas.openxmlformats.org/drawingml/2006/table">
            <a:tbl>
              <a:tblPr/>
              <a:tblGrid>
                <a:gridCol w="2849400"/>
                <a:gridCol w="3063960"/>
                <a:gridCol w="4630680"/>
              </a:tblGrid>
              <a:tr h="537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Affirmative (+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Interrogative (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Negative (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wait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 wai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 n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didn’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wait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wai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 n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didn’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wait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wai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 n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didn’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wait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wai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 n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didn’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wait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wai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 n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didn’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ait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ai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 n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didn’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wait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wai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 n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didn’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wait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wai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d n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didn’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179"/>
          <p:cNvSpPr/>
          <p:nvPr/>
        </p:nvSpPr>
        <p:spPr>
          <a:xfrm>
            <a:off x="665280" y="6805440"/>
            <a:ext cx="6576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 special rules for irregular verbs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8"/>
          <p:cNvSpPr/>
          <p:nvPr/>
        </p:nvSpPr>
        <p:spPr>
          <a:xfrm>
            <a:off x="0" y="0"/>
            <a:ext cx="10801440" cy="7407000"/>
          </a:xfrm>
          <a:prstGeom prst="rect">
            <a:avLst/>
          </a:prstGeom>
          <a:solidFill>
            <a:srgbClr val="1a9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71680" y="208080"/>
          <a:ext cx="7643880" cy="5275080"/>
        </p:xfrm>
        <a:graphic>
          <a:graphicData uri="http://schemas.openxmlformats.org/drawingml/2006/table">
            <a:tbl>
              <a:tblPr/>
              <a:tblGrid>
                <a:gridCol w="555480"/>
                <a:gridCol w="411120"/>
                <a:gridCol w="495360"/>
                <a:gridCol w="486000"/>
                <a:gridCol w="480960"/>
                <a:gridCol w="492120"/>
                <a:gridCol w="557280"/>
                <a:gridCol w="415800"/>
                <a:gridCol w="477720"/>
                <a:gridCol w="469800"/>
                <a:gridCol w="493920"/>
                <a:gridCol w="495360"/>
                <a:gridCol w="493560"/>
                <a:gridCol w="461880"/>
                <a:gridCol w="441360"/>
                <a:gridCol w="416160"/>
              </a:tblGrid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328760" y="5424480"/>
          <a:ext cx="8319960" cy="3003480"/>
        </p:xfrm>
        <a:graphic>
          <a:graphicData uri="http://schemas.openxmlformats.org/drawingml/2006/table">
            <a:tbl>
              <a:tblPr/>
              <a:tblGrid>
                <a:gridCol w="3618000"/>
                <a:gridCol w="4701960"/>
              </a:tblGrid>
              <a:tr h="2705040">
                <a:tc>
                  <a:txBody>
                    <a:bodyPr lIns="66672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ross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buy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4   eat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  drink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6   make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  win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9   do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lose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3  sleep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256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        2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ild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r          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e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write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 tell</a:t>
                      </a:r>
                      <a:br>
                        <a:rPr sz="22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12  know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3   s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t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  pa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6672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256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Прямая соединительная линия 7"/>
          <p:cNvSpPr/>
          <p:nvPr/>
        </p:nvSpPr>
        <p:spPr>
          <a:xfrm flipH="1">
            <a:off x="5400720" y="5495760"/>
            <a:ext cx="1440" cy="19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HTMLText1" descr=""/>
          <p:cNvPicPr/>
          <p:nvPr/>
        </p:nvPicPr>
        <p:blipFill>
          <a:blip r:embed="rId2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HTMLText2" descr=""/>
          <p:cNvPicPr/>
          <p:nvPr/>
        </p:nvPicPr>
        <p:blipFill>
          <a:blip r:embed="rId3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HTMLText3" descr=""/>
          <p:cNvPicPr/>
          <p:nvPr/>
        </p:nvPicPr>
        <p:blipFill>
          <a:blip r:embed="rId4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HTMLText4" descr=""/>
          <p:cNvPicPr/>
          <p:nvPr/>
        </p:nvPicPr>
        <p:blipFill>
          <a:blip r:embed="rId5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HTMLText5" descr=""/>
          <p:cNvPicPr/>
          <p:nvPr/>
        </p:nvPicPr>
        <p:blipFill>
          <a:blip r:embed="rId6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HTMLText6" descr=""/>
          <p:cNvPicPr/>
          <p:nvPr/>
        </p:nvPicPr>
        <p:blipFill>
          <a:blip r:embed="rId7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HTMLText7" descr=""/>
          <p:cNvPicPr/>
          <p:nvPr/>
        </p:nvPicPr>
        <p:blipFill>
          <a:blip r:embed="rId8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HTMLText8" descr=""/>
          <p:cNvPicPr/>
          <p:nvPr/>
        </p:nvPicPr>
        <p:blipFill>
          <a:blip r:embed="rId9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HTMLText9" descr=""/>
          <p:cNvPicPr/>
          <p:nvPr/>
        </p:nvPicPr>
        <p:blipFill>
          <a:blip r:embed="rId10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HTMLText10" descr=""/>
          <p:cNvPicPr/>
          <p:nvPr/>
        </p:nvPicPr>
        <p:blipFill>
          <a:blip r:embed="rId11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HTMLText11" descr=""/>
          <p:cNvPicPr/>
          <p:nvPr/>
        </p:nvPicPr>
        <p:blipFill>
          <a:blip r:embed="rId12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HTMLText12" descr=""/>
          <p:cNvPicPr/>
          <p:nvPr/>
        </p:nvPicPr>
        <p:blipFill>
          <a:blip r:embed="rId13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HTMLText13" descr=""/>
          <p:cNvPicPr/>
          <p:nvPr/>
        </p:nvPicPr>
        <p:blipFill>
          <a:blip r:embed="rId14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HTMLText14" descr=""/>
          <p:cNvPicPr/>
          <p:nvPr/>
        </p:nvPicPr>
        <p:blipFill>
          <a:blip r:embed="rId15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HTMLText15" descr=""/>
          <p:cNvPicPr/>
          <p:nvPr/>
        </p:nvPicPr>
        <p:blipFill>
          <a:blip r:embed="rId16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HTMLText16" descr=""/>
          <p:cNvPicPr/>
          <p:nvPr/>
        </p:nvPicPr>
        <p:blipFill>
          <a:blip r:embed="rId17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HTMLText17" descr=""/>
          <p:cNvPicPr/>
          <p:nvPr/>
        </p:nvPicPr>
        <p:blipFill>
          <a:blip r:embed="rId18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HTMLText18" descr=""/>
          <p:cNvPicPr/>
          <p:nvPr/>
        </p:nvPicPr>
        <p:blipFill>
          <a:blip r:embed="rId19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HTMLText19" descr=""/>
          <p:cNvPicPr/>
          <p:nvPr/>
        </p:nvPicPr>
        <p:blipFill>
          <a:blip r:embed="rId20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HTMLText20" descr=""/>
          <p:cNvPicPr/>
          <p:nvPr/>
        </p:nvPicPr>
        <p:blipFill>
          <a:blip r:embed="rId21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HTMLText21" descr=""/>
          <p:cNvPicPr/>
          <p:nvPr/>
        </p:nvPicPr>
        <p:blipFill>
          <a:blip r:embed="rId22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HTMLText22" descr=""/>
          <p:cNvPicPr/>
          <p:nvPr/>
        </p:nvPicPr>
        <p:blipFill>
          <a:blip r:embed="rId23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HTMLText23" descr=""/>
          <p:cNvPicPr/>
          <p:nvPr/>
        </p:nvPicPr>
        <p:blipFill>
          <a:blip r:embed="rId24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HTMLText24" descr=""/>
          <p:cNvPicPr/>
          <p:nvPr/>
        </p:nvPicPr>
        <p:blipFill>
          <a:blip r:embed="rId25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HTMLText25" descr=""/>
          <p:cNvPicPr/>
          <p:nvPr/>
        </p:nvPicPr>
        <p:blipFill>
          <a:blip r:embed="rId26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HTMLText26" descr=""/>
          <p:cNvPicPr/>
          <p:nvPr/>
        </p:nvPicPr>
        <p:blipFill>
          <a:blip r:embed="rId27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HTMLText27" descr=""/>
          <p:cNvPicPr/>
          <p:nvPr/>
        </p:nvPicPr>
        <p:blipFill>
          <a:blip r:embed="rId28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HTMLText28" descr=""/>
          <p:cNvPicPr/>
          <p:nvPr/>
        </p:nvPicPr>
        <p:blipFill>
          <a:blip r:embed="rId29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HTMLText29" descr=""/>
          <p:cNvPicPr/>
          <p:nvPr/>
        </p:nvPicPr>
        <p:blipFill>
          <a:blip r:embed="rId30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HTMLText30" descr=""/>
          <p:cNvPicPr/>
          <p:nvPr/>
        </p:nvPicPr>
        <p:blipFill>
          <a:blip r:embed="rId31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HTMLText31" descr=""/>
          <p:cNvPicPr/>
          <p:nvPr/>
        </p:nvPicPr>
        <p:blipFill>
          <a:blip r:embed="rId32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HTMLText32" descr=""/>
          <p:cNvPicPr/>
          <p:nvPr/>
        </p:nvPicPr>
        <p:blipFill>
          <a:blip r:embed="rId33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HTMLText33" descr=""/>
          <p:cNvPicPr/>
          <p:nvPr/>
        </p:nvPicPr>
        <p:blipFill>
          <a:blip r:embed="rId34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HTMLText34" descr=""/>
          <p:cNvPicPr/>
          <p:nvPr/>
        </p:nvPicPr>
        <p:blipFill>
          <a:blip r:embed="rId35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HTMLText35" descr=""/>
          <p:cNvPicPr/>
          <p:nvPr/>
        </p:nvPicPr>
        <p:blipFill>
          <a:blip r:embed="rId36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HTMLText36" descr=""/>
          <p:cNvPicPr/>
          <p:nvPr/>
        </p:nvPicPr>
        <p:blipFill>
          <a:blip r:embed="rId37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HTMLText37" descr=""/>
          <p:cNvPicPr/>
          <p:nvPr/>
        </p:nvPicPr>
        <p:blipFill>
          <a:blip r:embed="rId38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HTMLText38" descr=""/>
          <p:cNvPicPr/>
          <p:nvPr/>
        </p:nvPicPr>
        <p:blipFill>
          <a:blip r:embed="rId39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HTMLText39" descr=""/>
          <p:cNvPicPr/>
          <p:nvPr/>
        </p:nvPicPr>
        <p:blipFill>
          <a:blip r:embed="rId40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HTMLText40" descr=""/>
          <p:cNvPicPr/>
          <p:nvPr/>
        </p:nvPicPr>
        <p:blipFill>
          <a:blip r:embed="rId41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HTMLText41" descr=""/>
          <p:cNvPicPr/>
          <p:nvPr/>
        </p:nvPicPr>
        <p:blipFill>
          <a:blip r:embed="rId42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HTMLText42" descr=""/>
          <p:cNvPicPr/>
          <p:nvPr/>
        </p:nvPicPr>
        <p:blipFill>
          <a:blip r:embed="rId43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HTMLText43" descr=""/>
          <p:cNvPicPr/>
          <p:nvPr/>
        </p:nvPicPr>
        <p:blipFill>
          <a:blip r:embed="rId44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HTMLText44" descr=""/>
          <p:cNvPicPr/>
          <p:nvPr/>
        </p:nvPicPr>
        <p:blipFill>
          <a:blip r:embed="rId45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HTMLText45" descr=""/>
          <p:cNvPicPr/>
          <p:nvPr/>
        </p:nvPicPr>
        <p:blipFill>
          <a:blip r:embed="rId46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HTMLText46" descr=""/>
          <p:cNvPicPr/>
          <p:nvPr/>
        </p:nvPicPr>
        <p:blipFill>
          <a:blip r:embed="rId47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HTMLText47" descr=""/>
          <p:cNvPicPr/>
          <p:nvPr/>
        </p:nvPicPr>
        <p:blipFill>
          <a:blip r:embed="rId48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HTMLText48" descr=""/>
          <p:cNvPicPr/>
          <p:nvPr/>
        </p:nvPicPr>
        <p:blipFill>
          <a:blip r:embed="rId49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HTMLText49" descr=""/>
          <p:cNvPicPr/>
          <p:nvPr/>
        </p:nvPicPr>
        <p:blipFill>
          <a:blip r:embed="rId50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HTMLText50" descr=""/>
          <p:cNvPicPr/>
          <p:nvPr/>
        </p:nvPicPr>
        <p:blipFill>
          <a:blip r:embed="rId51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HTMLText51" descr=""/>
          <p:cNvPicPr/>
          <p:nvPr/>
        </p:nvPicPr>
        <p:blipFill>
          <a:blip r:embed="rId52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HTMLText52" descr=""/>
          <p:cNvPicPr/>
          <p:nvPr/>
        </p:nvPicPr>
        <p:blipFill>
          <a:blip r:embed="rId53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HTMLText53" descr=""/>
          <p:cNvPicPr/>
          <p:nvPr/>
        </p:nvPicPr>
        <p:blipFill>
          <a:blip r:embed="rId54"/>
          <a:stretch/>
        </p:blipFill>
        <p:spPr>
          <a:xfrm>
            <a:off x="0" y="0"/>
            <a:ext cx="231840" cy="2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185840" y="279360"/>
          <a:ext cx="7715160" cy="6392880"/>
        </p:xfrm>
        <a:graphic>
          <a:graphicData uri="http://schemas.openxmlformats.org/drawingml/2006/table">
            <a:tbl>
              <a:tblPr/>
              <a:tblGrid>
                <a:gridCol w="500040"/>
                <a:gridCol w="500040"/>
                <a:gridCol w="428760"/>
                <a:gridCol w="426960"/>
                <a:gridCol w="573120"/>
                <a:gridCol w="428760"/>
                <a:gridCol w="571320"/>
                <a:gridCol w="428760"/>
                <a:gridCol w="428400"/>
                <a:gridCol w="427320"/>
                <a:gridCol w="572760"/>
                <a:gridCol w="428760"/>
                <a:gridCol w="573120"/>
                <a:gridCol w="426960"/>
                <a:gridCol w="573120"/>
                <a:gridCol w="42696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4" descr="http://www.superkuhnia.ru/foto/nem6.jpg"/>
          <p:cNvPicPr/>
          <p:nvPr/>
        </p:nvPicPr>
        <p:blipFill>
          <a:blip r:embed="rId1"/>
          <a:stretch/>
        </p:blipFill>
        <p:spPr>
          <a:xfrm>
            <a:off x="0" y="0"/>
            <a:ext cx="11212560" cy="756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Закрыть"/>
          <p:cNvPicPr/>
          <p:nvPr/>
        </p:nvPicPr>
        <p:blipFill>
          <a:blip r:embed="rId2"/>
          <a:stretch/>
        </p:blipFill>
        <p:spPr>
          <a:xfrm>
            <a:off x="184320" y="-150840"/>
            <a:ext cx="10800" cy="11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Закрыть"/>
          <p:cNvPicPr/>
          <p:nvPr/>
        </p:nvPicPr>
        <p:blipFill>
          <a:blip r:embed="rId3"/>
          <a:stretch/>
        </p:blipFill>
        <p:spPr>
          <a:xfrm>
            <a:off x="184320" y="-150840"/>
            <a:ext cx="10800" cy="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Закрыть"/>
          <p:cNvPicPr/>
          <p:nvPr/>
        </p:nvPicPr>
        <p:blipFill>
          <a:blip r:embed="rId4"/>
          <a:stretch/>
        </p:blipFill>
        <p:spPr>
          <a:xfrm>
            <a:off x="184320" y="-150840"/>
            <a:ext cx="10800" cy="11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Закрыть"/>
          <p:cNvPicPr/>
          <p:nvPr/>
        </p:nvPicPr>
        <p:blipFill>
          <a:blip r:embed="rId5"/>
          <a:stretch/>
        </p:blipFill>
        <p:spPr>
          <a:xfrm>
            <a:off x="184320" y="-150840"/>
            <a:ext cx="10800" cy="11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SUPRA VCS-1685"/>
          <p:cNvPicPr/>
          <p:nvPr/>
        </p:nvPicPr>
        <p:blipFill>
          <a:blip r:embed="rId6"/>
          <a:stretch/>
        </p:blipFill>
        <p:spPr>
          <a:xfrm>
            <a:off x="6900840" y="6578640"/>
            <a:ext cx="1584360" cy="98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PHILIPS HD2686/30"/>
          <p:cNvPicPr/>
          <p:nvPr/>
        </p:nvPicPr>
        <p:blipFill>
          <a:blip r:embed="rId7"/>
          <a:stretch/>
        </p:blipFill>
        <p:spPr>
          <a:xfrm>
            <a:off x="3097080" y="2916360"/>
            <a:ext cx="833400" cy="72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Картинка 14 из 14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4520" y="5710320"/>
            <a:ext cx="2214360" cy="1851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CANDY CCM 360 SL"/>
          <p:cNvPicPr/>
          <p:nvPr/>
        </p:nvPicPr>
        <p:blipFill>
          <a:blip r:embed="rId10"/>
          <a:stretch/>
        </p:blipFill>
        <p:spPr>
          <a:xfrm>
            <a:off x="9375840" y="612720"/>
            <a:ext cx="1795320" cy="374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7" name="Picture 12" descr="BOSCH WLF 20060 O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401040" y="4352760"/>
            <a:ext cx="1857600" cy="2313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PHILIPS HD466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57920" y="3422520"/>
            <a:ext cx="897120" cy="9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BROTHER X-5"/>
          <p:cNvPicPr/>
          <p:nvPr/>
        </p:nvPicPr>
        <p:blipFill>
          <a:blip r:embed="rId15"/>
          <a:stretch/>
        </p:blipFill>
        <p:spPr>
          <a:xfrm>
            <a:off x="1042920" y="3279600"/>
            <a:ext cx="1139760" cy="93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PHILIPS GC3320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971800" y="779400"/>
            <a:ext cx="782640" cy="9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www.fotoplus.su/assets/images/items/i1208866313.jpg"/>
          <p:cNvPicPr/>
          <p:nvPr/>
        </p:nvPicPr>
        <p:blipFill>
          <a:blip r:embed="rId18"/>
          <a:stretch/>
        </p:blipFill>
        <p:spPr>
          <a:xfrm>
            <a:off x="1542960" y="4495680"/>
            <a:ext cx="871560" cy="638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Next Product"/>
          <p:cNvPicPr/>
          <p:nvPr/>
        </p:nvPicPr>
        <p:blipFill>
          <a:blip r:embed="rId19"/>
          <a:stretch/>
        </p:blipFill>
        <p:spPr>
          <a:xfrm>
            <a:off x="4043520" y="62038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A broom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0" y="5710320"/>
            <a:ext cx="716040" cy="1851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4" descr="Картинка 1 из 59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4186080" y="493560"/>
            <a:ext cx="785880" cy="1000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Картинка 21 из 2192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686040" y="4638600"/>
            <a:ext cx="433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117360"/>
          <a:ext cx="10640880" cy="7766280"/>
        </p:xfrm>
        <a:graphic>
          <a:graphicData uri="http://schemas.openxmlformats.org/drawingml/2006/table">
            <a:tbl>
              <a:tblPr/>
              <a:tblGrid>
                <a:gridCol w="517320"/>
                <a:gridCol w="252000"/>
                <a:gridCol w="6414840"/>
                <a:gridCol w="3456720"/>
              </a:tblGrid>
              <a:tr h="711000"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THING THAT WE USE FOR MAKING CLOTHES SMO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1000"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IECE OF EQUIPMENT USED TO TAKE PHOTOGRAP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480"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ACHINE FOR WASHING CLOT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480"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ETAL OR PLASTIC CONTAINER TO BOIL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640"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ACHINE FOR JOINING PIECES OF CLOTH TOGERHER TO MAKE CLOTH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5920"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PECIAL CUPBOARD FOR KEEPING FOOD C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480"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ACHINE THAT CLEANS FLOORS AND CARP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480"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ACHINE YOU USE FOR TOASTING 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5920"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OVEN THAT COOKS FOOD VERY QUICKLY USING VERY SHORT ELECTRIC W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080"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ACHINE THAT WASHES DI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10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7080"/>
                          <a:tab algn="l" pos="2054160"/>
                          <a:tab algn="l" pos="3081240"/>
                          <a:tab algn="l" pos="4108320"/>
                          <a:tab algn="l" pos="5135400"/>
                          <a:tab algn="l" pos="6162840"/>
                          <a:tab algn="l" pos="7189920"/>
                          <a:tab algn="l" pos="8217000"/>
                          <a:tab algn="l" pos="9244080"/>
                          <a:tab algn="l" pos="102711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7" name="Picture 14" descr="SUPRA VCS-1685"/>
          <p:cNvPicPr/>
          <p:nvPr/>
        </p:nvPicPr>
        <p:blipFill>
          <a:blip r:embed="rId1"/>
          <a:stretch/>
        </p:blipFill>
        <p:spPr>
          <a:xfrm>
            <a:off x="7932600" y="0"/>
            <a:ext cx="1354320" cy="83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CANDY CCM 360 SL"/>
          <p:cNvPicPr/>
          <p:nvPr/>
        </p:nvPicPr>
        <p:blipFill>
          <a:blip r:embed="rId2"/>
          <a:stretch/>
        </p:blipFill>
        <p:spPr>
          <a:xfrm>
            <a:off x="9401040" y="5940360"/>
            <a:ext cx="1057320" cy="1471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9" name="Picture 2" descr="PHILIPS HD2686/30"/>
          <p:cNvPicPr/>
          <p:nvPr/>
        </p:nvPicPr>
        <p:blipFill>
          <a:blip r:embed="rId3"/>
          <a:stretch/>
        </p:blipFill>
        <p:spPr>
          <a:xfrm>
            <a:off x="9366120" y="600120"/>
            <a:ext cx="928800" cy="80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Картинка 14 из 14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361440" y="3421080"/>
            <a:ext cx="1096920" cy="97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www.fotoplus.su/assets/images/items/i1208866313.jpg"/>
          <p:cNvPicPr/>
          <p:nvPr/>
        </p:nvPicPr>
        <p:blipFill>
          <a:blip r:embed="rId6"/>
          <a:stretch/>
        </p:blipFill>
        <p:spPr>
          <a:xfrm>
            <a:off x="9198000" y="2109960"/>
            <a:ext cx="1012680" cy="74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SUPRA MWS-371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78800" y="1496880"/>
            <a:ext cx="1434960" cy="750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PHILIPS HD4667"/>
          <p:cNvPicPr/>
          <p:nvPr/>
        </p:nvPicPr>
        <p:blipFill>
          <a:blip r:embed="rId9"/>
          <a:stretch/>
        </p:blipFill>
        <p:spPr>
          <a:xfrm>
            <a:off x="7848720" y="4646520"/>
            <a:ext cx="842760" cy="87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BOSCH WLF 20060 OE"/>
          <p:cNvPicPr/>
          <p:nvPr/>
        </p:nvPicPr>
        <p:blipFill>
          <a:blip r:embed="rId10"/>
          <a:stretch/>
        </p:blipFill>
        <p:spPr>
          <a:xfrm>
            <a:off x="9450360" y="5076720"/>
            <a:ext cx="98604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PHILIPS GC3320"/>
          <p:cNvPicPr/>
          <p:nvPr/>
        </p:nvPicPr>
        <p:blipFill>
          <a:blip r:embed="rId11"/>
          <a:stretch/>
        </p:blipFill>
        <p:spPr>
          <a:xfrm>
            <a:off x="7848720" y="2992320"/>
            <a:ext cx="782640" cy="903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BROTHER X-5"/>
          <p:cNvPicPr/>
          <p:nvPr/>
        </p:nvPicPr>
        <p:blipFill>
          <a:blip r:embed="rId12"/>
          <a:stretch/>
        </p:blipFill>
        <p:spPr>
          <a:xfrm>
            <a:off x="7705800" y="6300720"/>
            <a:ext cx="1154160" cy="9381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ая соединительная линия 15"/>
          <p:cNvSpPr/>
          <p:nvPr/>
        </p:nvSpPr>
        <p:spPr>
          <a:xfrm flipH="1">
            <a:off x="506520" y="157320"/>
            <a:ext cx="1440" cy="7404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8"/>
          <p:cNvSpPr/>
          <p:nvPr/>
        </p:nvSpPr>
        <p:spPr>
          <a:xfrm flipH="1">
            <a:off x="7004160" y="157320"/>
            <a:ext cx="1440" cy="740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Картинка 96 из 357"/>
          <p:cNvPicPr/>
          <p:nvPr/>
        </p:nvPicPr>
        <p:blipFill>
          <a:blip r:embed="rId1"/>
          <a:stretch/>
        </p:blipFill>
        <p:spPr>
          <a:xfrm>
            <a:off x="0" y="0"/>
            <a:ext cx="10801440" cy="7561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3"/>
          <p:cNvSpPr/>
          <p:nvPr/>
        </p:nvSpPr>
        <p:spPr>
          <a:xfrm>
            <a:off x="0" y="1708200"/>
            <a:ext cx="6192720" cy="53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  <a:ea typeface="Times New Roman"/>
              </a:rPr>
              <a:t>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Berlin Sans FB Demi"/>
                <a:ea typeface="Times New Roman"/>
              </a:rPr>
              <a:t>USED TO </a:t>
            </a:r>
            <a:r>
              <a:rPr b="1" lang="en-US" sz="3200" spc="-1" strike="noStrike">
                <a:solidFill>
                  <a:srgbClr val="ffff00"/>
                </a:solidFill>
                <a:latin typeface="Berlin Sans FB Demi"/>
                <a:ea typeface="Times New Roman"/>
              </a:rPr>
              <a:t>TRAVEL A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  <a:ea typeface="Times New Roman"/>
              </a:rPr>
              <a:t>WHEN HE WAS YOU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Berlin Sans FB Demi"/>
                <a:ea typeface="Times New Roman"/>
              </a:rPr>
              <a:t>DID</a:t>
            </a:r>
            <a:r>
              <a:rPr b="1" lang="en-US" sz="3200" spc="-1" strike="noStrike">
                <a:solidFill>
                  <a:srgbClr val="ffff00"/>
                </a:solidFill>
                <a:latin typeface="Berlin Sans FB Demi"/>
                <a:ea typeface="Times New Roman"/>
              </a:rPr>
              <a:t> 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Berlin Sans FB Demi"/>
                <a:ea typeface="Times New Roman"/>
              </a:rPr>
              <a:t>USE TO </a:t>
            </a:r>
            <a:r>
              <a:rPr b="1" lang="en-US" sz="3200" spc="-1" strike="noStrike">
                <a:solidFill>
                  <a:srgbClr val="ffff00"/>
                </a:solidFill>
                <a:latin typeface="Berlin Sans FB Demi"/>
                <a:ea typeface="Times New Roman"/>
              </a:rPr>
              <a:t>TRA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  <a:ea typeface="Times New Roman"/>
              </a:rPr>
              <a:t>WHEN HE WAS YOU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  <a:ea typeface="Times New Roman"/>
              </a:rPr>
              <a:t>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Berlin Sans FB Demi"/>
                <a:ea typeface="Times New Roman"/>
              </a:rPr>
              <a:t>DIDN’T USE TO </a:t>
            </a:r>
            <a:r>
              <a:rPr b="1" lang="en-US" sz="3200" spc="-1" strike="noStrike">
                <a:solidFill>
                  <a:srgbClr val="ffff00"/>
                </a:solidFill>
                <a:latin typeface="Berlin Sans FB Demi"/>
                <a:ea typeface="Times New Roman"/>
              </a:rPr>
              <a:t>TRA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 Demi"/>
                <a:ea typeface="Times New Roman"/>
              </a:rPr>
              <a:t>WHEN HE WAS YOUNG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 Black"/>
              </a:rPr>
              <a:t>(?), (-) did / didn’t + subject and the verb “use to” without – d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7767000" y="6924600"/>
            <a:ext cx="1713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 Бо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-46440" y="20160"/>
            <a:ext cx="108165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920"/>
                <a:tab algn="l" pos="17928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e use “used to” to talk about past habits or th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920"/>
                <a:tab algn="l" pos="17928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at do not happen any mo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6"/>
          <p:cNvSpPr/>
          <p:nvPr/>
        </p:nvSpPr>
        <p:spPr>
          <a:xfrm>
            <a:off x="0" y="0"/>
            <a:ext cx="10801440" cy="7498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Картинка 12 из 2257"/>
          <p:cNvPicPr/>
          <p:nvPr/>
        </p:nvPicPr>
        <p:blipFill>
          <a:blip r:embed="rId1"/>
          <a:stretch/>
        </p:blipFill>
        <p:spPr>
          <a:xfrm>
            <a:off x="3471840" y="1565280"/>
            <a:ext cx="3702240" cy="5259240"/>
          </a:xfrm>
          <a:prstGeom prst="rect">
            <a:avLst/>
          </a:prstGeom>
          <a:ln w="0">
            <a:noFill/>
          </a:ln>
        </p:spPr>
      </p:pic>
      <p:sp>
        <p:nvSpPr>
          <p:cNvPr id="155" name="Вертикальный свиток 7"/>
          <p:cNvSpPr/>
          <p:nvPr/>
        </p:nvSpPr>
        <p:spPr>
          <a:xfrm>
            <a:off x="0" y="1565280"/>
            <a:ext cx="4186080" cy="3573360"/>
          </a:xfrm>
          <a:prstGeom prst="verticalScroll">
            <a:avLst>
              <a:gd name="adj" fmla="val 12500"/>
            </a:avLst>
          </a:prstGeom>
          <a:solidFill>
            <a:srgbClr val="fcd5b5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Вертикальный свиток 9"/>
          <p:cNvSpPr/>
          <p:nvPr/>
        </p:nvSpPr>
        <p:spPr>
          <a:xfrm>
            <a:off x="6615000" y="2851200"/>
            <a:ext cx="4071960" cy="3930480"/>
          </a:xfrm>
          <a:prstGeom prst="verticalScroll">
            <a:avLst>
              <a:gd name="adj" fmla="val 12500"/>
            </a:avLst>
          </a:prstGeom>
          <a:solidFill>
            <a:srgbClr val="b3a2c7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471680" y="1422360"/>
            <a:ext cx="1785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7972560" y="2779560"/>
            <a:ext cx="1643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542880" y="2136600"/>
            <a:ext cx="321480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ve in a smal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ork long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u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ugh lif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7115040" y="3494160"/>
            <a:ext cx="314352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live in a huge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fl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have lots of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free ti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</a:t>
            </a:r>
            <a:r>
              <a:rPr b="1" lang="en-US" sz="3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much mone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3137040" y="6710400"/>
            <a:ext cx="44586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up a dialog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5"/>
          <p:cNvSpPr/>
          <p:nvPr/>
        </p:nvSpPr>
        <p:spPr>
          <a:xfrm>
            <a:off x="51840" y="0"/>
            <a:ext cx="109627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ndra was very poor until the day she won £100,000 in a compet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: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ndr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y designer cloth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:    No, she didn’t. S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y second-hand clot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0:50:10Z</dcterms:created>
  <dc:creator>User</dc:creator>
  <dc:description/>
  <dc:language>en-US</dc:language>
  <cp:lastModifiedBy>Ирина</cp:lastModifiedBy>
  <dcterms:modified xsi:type="dcterms:W3CDTF">2013-02-27T18:14:32Z</dcterms:modified>
  <cp:revision>445</cp:revision>
  <dc:subject/>
  <dc:title>Слайд 1</dc:title>
</cp:coreProperties>
</file>