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9529F-C715-4519-9504-88D0121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6E7D0-9DB0-4E75-AD00-C240C0B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E8C01-8839-46C4-95D4-E17219B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6C8A-D2DD-4463-BD99-A6D0D70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BB32-1E88-4F90-B0F9-A819CDC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40AA-9779-4814-92D8-1974898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AED8-DB60-48EE-B06D-CC6F616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A4A0-6662-4DA8-8D1A-2E965058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22640-C607-442A-A495-AD537AD6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9600-3D05-4EB7-8AA7-73023F5D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4966D-83E8-4EC9-A04F-5B5F1A98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344C-20FD-42F8-89BE-B7D7381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CE4C-3C52-44ED-9815-79568A8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33205-4811-47BE-8468-9C1906F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F148-51F1-4135-AC55-B99A965E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0C78-ACE0-4DB3-A1E6-28D8761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81EAB-804C-4E9E-98D1-F6715AA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DE06D-CBA6-46C9-B737-990D824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EDD4E-F097-4257-B633-121689C3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DC98-E821-4C42-86BF-A28A0BF3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6EA7-F6E7-4318-B3C9-F49AA284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6785-0658-4BF4-918A-BFA3A56D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1317B-3EDE-493F-8DBD-3794974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0025-B00C-41E4-832D-18FB03D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E1091-FC47-44DD-B0A7-0837502C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5C377-29D7-4A66-8F90-05720C4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5E7B6-849B-4CF3-AD1E-FA258D6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B97B3-9224-4C0F-A799-85F3CE2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517F7-8555-48A0-8DE0-24DC8685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C33E6-26B3-4AFF-BB9C-D4EF729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76FFE-8AF6-4901-BA7B-4959DC38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2A3B-6D20-4A71-996A-E12F8A3A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BF910-1E8F-47DA-A8D4-68622270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6A4F7-5BDD-46F1-B91A-D4867AB9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932BE-2DB1-4314-993A-B364BEF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19EC9-5622-4AF8-9485-0B37C60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90D15-AAFB-4FBD-9BA7-33F74AC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4B8B-C3C4-40E3-90F0-D9D66D9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C463A-FD49-4CC8-916A-FCF6ECB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06F3D-1B8D-4AE4-BBF0-CECE90F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1FB50-8E77-4B70-8815-3FF3EF6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1B605-B2AB-43EC-9280-2B6801E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8A5D0-3EE0-4691-BF79-D9F8DAFA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0EFE5-D07D-4750-B2AC-7759475E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967E7-760F-4C63-B01E-0C40FE95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88E-D879-4B19-A55A-F648C49B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17B-0ED8-4336-ABDD-66081730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BF4-E6D4-4E23-9312-3EAF3AF4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F10-BA6F-4AF2-8AF9-877872B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C91-6580-4DDC-9BC0-70914CEB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D9F-C5F0-404E-A80D-34B1A91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1C9-DAEE-48BA-9815-E3384C5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0D8-4AE3-4899-A6BA-FD78E76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5A9-267B-45D3-833C-957DD3B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D88-C6F4-4327-8A01-9FC55E61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23B-25C6-4F6A-951B-CE617E90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2A4-420F-4D69-93DE-B16105CE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2098-BA1A-4A1E-9F9B-BFBC640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42B5-1FBB-41CB-8266-C2E51BA2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AB9E-21F4-4F78-B298-3F705927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6C4-D92E-432C-A303-84EDB03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479-05B1-45BD-9B50-00D9AC42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425F-E65E-4EC3-BF8D-F219F5F5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8337-0590-411B-9FC7-9468115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619-00AA-47F2-B8E3-860882C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4E52-B8C4-4C7E-94B3-2E26537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AC7-864E-497F-ABD8-26F36A47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DEB9-C08A-4D17-AF27-5B259908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672A-6BB0-4EF2-9B90-54FB9739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57A7-3FA5-4D48-8EEF-D4B74763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4C8A-A645-4333-AB19-DAF0635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BA1B-33F8-4821-80AB-D13E00F1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3CF5-B5E1-4C54-9C7F-1283D5B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0981-6485-4C9C-B702-06C9EC7A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1DF6-9E37-4FD9-9FBD-82E7EF5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85F4-B938-4F2B-9727-3E9817AB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56D1-0045-4A6D-91EF-4D3E48C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027A-0F54-42A3-8755-0C6329A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A710-8375-4153-A6FA-7E4F345C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9820-A38A-44BC-B684-9836DE77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DF17-7B11-48A5-9CFA-CE44FC8E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F14D-3A1E-45B1-BE9E-7E679FF3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EC8E-CC22-4E44-B68B-D3431A54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84D7-BD7C-413F-9267-864C7BC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D3D6-029F-475F-A7BB-93637CA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C3C5-F265-42BC-8B18-2CF3333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0695-3A61-4DAF-8369-7497C77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5C24-9043-49CF-9B45-A0BC454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8EAF-BBDE-4D49-9A1E-608E25B2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0622-ABB9-424D-96D4-6386FA15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ACAB-CE57-4F6F-B346-0518163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B067-2889-4E76-A105-B53247F3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07F8-FAC2-4944-8A12-EB59B408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E8223-ADB7-4949-BF31-400BE8F8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F9F8-85E5-42FB-B4C3-694CFDE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5BD3-A928-46EB-ABC9-22BB21D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1934-36E8-4768-8347-418DE28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AE83-0407-452E-A19F-4921B83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4F092-67C0-4235-A5F8-FCB8534C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1E03-596D-4A37-9C46-542E9EB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9FB2-A28C-465C-B61A-58A6F4E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C2F8-640D-48F2-ACD8-4ED9D0D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CF6E-2199-4C1B-9B1D-7CAC81E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749E1-EEE2-4EE2-A3FE-84344559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864B-AB4B-4EFB-B446-8ABD088F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BB53-82B8-4259-958F-52512A53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8A10-CE5D-4530-AE4E-11BC2AF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5854-8C0F-49FD-9288-15809781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BAB51-7792-4652-BBDC-D98E41F0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A16C-8B5A-4AF1-B61E-A3300C9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9146-5F0D-490D-B57B-9E00B52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BCC5-F27E-4808-8115-25AB4CF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C40B-565D-4C33-B190-1AD9FBF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498C-2FFE-4CA1-AD77-F210A40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C300-C7DA-4027-93F8-962DC5B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5E3D-4704-413C-9EF4-E31055D7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A7B08-E204-449D-9441-30EB84D9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3C80-6B5F-4206-B429-966D1C20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AA83F-9A96-4774-8AD1-E421C37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CA202-597C-4A99-AEB9-3DDE71B4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6404-53CC-4A4F-B407-C378C1ACF82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B1C-F827-4049-94B2-199D0F2744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8CD5-9B3E-4780-8D5C-6AF51B27966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G:\Presentations\NewYearBlueLight\NewYearBlueLightMai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E45-075F-4643-8411-F9082BA7003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B47-2B96-4885-927B-D25BE53718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2D7-06B7-4869-9856-A01671252B9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93C-7347-47F0-9380-60DA84075B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EE6D-0A98-4C5B-A8BC-AD2B79E62CD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E9A-F5BF-4BFC-BAEC-EAEE4CB3B2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G:\Presentations\NewYearBlueLight\NewYearBlueLightSlai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7CFD-64BD-4F40-9905-0C4EDEBF73D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3840" y="260280"/>
            <a:ext cx="5078520" cy="93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i="1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745080" cy="17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Приставка</a:t>
            </a:r>
            <a:endParaRPr b="0" i="1" lang="en-US" sz="4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TextBox 1" descr=""/>
          <p:cNvPicPr/>
          <p:nvPr/>
        </p:nvPicPr>
        <p:blipFill>
          <a:blip r:embed="rId1"/>
          <a:stretch/>
        </p:blipFill>
        <p:spPr>
          <a:xfrm>
            <a:off x="798480" y="285840"/>
            <a:ext cx="7547040" cy="1158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C:\Documents and Settings\FaNtoM\Рабочий стол\Картинки\Учебники\9785358090910.jpg"/>
          <p:cNvPicPr/>
          <p:nvPr/>
        </p:nvPicPr>
        <p:blipFill>
          <a:blip r:embed="rId2"/>
          <a:stretch/>
        </p:blipFill>
        <p:spPr>
          <a:xfrm>
            <a:off x="826920" y="1628640"/>
            <a:ext cx="2449800" cy="4248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C:\Documents and Settings\FaNtoM\Рабочий стол\Картинки\Зимние картинки\Новые зимние\Новогодние рамки\рамка4.jpeg"/>
          <p:cNvPicPr/>
          <p:nvPr/>
        </p:nvPicPr>
        <p:blipFill>
          <a:blip r:embed="rId3"/>
          <a:stretch/>
        </p:blipFill>
        <p:spPr>
          <a:xfrm>
            <a:off x="3695760" y="1628640"/>
            <a:ext cx="3468600" cy="4248360"/>
          </a:xfrm>
          <a:prstGeom prst="rect">
            <a:avLst/>
          </a:prstGeom>
          <a:ln w="0">
            <a:noFill/>
          </a:ln>
        </p:spPr>
      </p:pic>
      <p:sp>
        <p:nvSpPr>
          <p:cNvPr id="571" name="TextBox 4"/>
          <p:cNvSpPr/>
          <p:nvPr/>
        </p:nvSpPr>
        <p:spPr>
          <a:xfrm>
            <a:off x="4356000" y="2565360"/>
            <a:ext cx="261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№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исьмен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TextBox 1" descr=""/>
          <p:cNvPicPr/>
          <p:nvPr/>
        </p:nvPicPr>
        <p:blipFill>
          <a:blip r:embed="rId1"/>
          <a:stretch/>
        </p:blipFill>
        <p:spPr>
          <a:xfrm>
            <a:off x="743040" y="396720"/>
            <a:ext cx="7724520" cy="10972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2"/>
          <p:cNvSpPr/>
          <p:nvPr/>
        </p:nvSpPr>
        <p:spPr>
          <a:xfrm>
            <a:off x="539640" y="177336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…)летел ураган, (…)бежал первы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…)шёл в дом, (…)ехал из дом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…)копал яму, (…)шёл дру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C:\Documents and Settings\FaNtoM\Рабочий стол\Картинки\Зимние картинки\Новые зимние\Новогодние рамки\рамка1.jpeg"/>
          <p:cNvPicPr/>
          <p:nvPr/>
        </p:nvPicPr>
        <p:blipFill>
          <a:blip r:embed="rId1"/>
          <a:stretch/>
        </p:blipFill>
        <p:spPr>
          <a:xfrm>
            <a:off x="488880" y="981000"/>
            <a:ext cx="8259840" cy="5616720"/>
          </a:xfrm>
          <a:prstGeom prst="rect">
            <a:avLst/>
          </a:prstGeom>
          <a:ln w="0">
            <a:noFill/>
          </a:ln>
        </p:spPr>
      </p:pic>
      <p:pic>
        <p:nvPicPr>
          <p:cNvPr id="575" name="TextBox 2" descr=""/>
          <p:cNvPicPr/>
          <p:nvPr/>
        </p:nvPicPr>
        <p:blipFill>
          <a:blip r:embed="rId2"/>
          <a:stretch/>
        </p:blipFill>
        <p:spPr>
          <a:xfrm>
            <a:off x="457200" y="249120"/>
            <a:ext cx="7943760" cy="74448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2556000" y="1989000"/>
            <a:ext cx="34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.138-13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Упр.32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extBox 1" descr=""/>
          <p:cNvPicPr/>
          <p:nvPr/>
        </p:nvPicPr>
        <p:blipFill>
          <a:blip r:embed="rId1"/>
          <a:stretch/>
        </p:blipFill>
        <p:spPr>
          <a:xfrm>
            <a:off x="974880" y="371520"/>
            <a:ext cx="7473960" cy="10065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2"/>
          <p:cNvSpPr/>
          <p:nvPr/>
        </p:nvSpPr>
        <p:spPr>
          <a:xfrm>
            <a:off x="826920" y="1484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Как найти приставку в слов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826920" y="2421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риведите приме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C:\Documents and Settings\FaNtoM\Рабочий стол\Картинки\Зимние картинки\Новые зимние\Дракоша\дракоша.jpeg"/>
          <p:cNvPicPr/>
          <p:nvPr/>
        </p:nvPicPr>
        <p:blipFill>
          <a:blip r:embed="rId2"/>
          <a:stretch/>
        </p:blipFill>
        <p:spPr>
          <a:xfrm>
            <a:off x="3132000" y="3357720"/>
            <a:ext cx="280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extBox 1" descr=""/>
          <p:cNvPicPr/>
          <p:nvPr/>
        </p:nvPicPr>
        <p:blipFill>
          <a:blip r:embed="rId1"/>
          <a:stretch/>
        </p:blipFill>
        <p:spPr>
          <a:xfrm>
            <a:off x="890640" y="615960"/>
            <a:ext cx="7570800" cy="1236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C:\Documents and Settings\FaNtoM\Рабочий стол\1.jpeg"/>
          <p:cNvPicPr/>
          <p:nvPr/>
        </p:nvPicPr>
        <p:blipFill>
          <a:blip r:embed="rId2"/>
          <a:stretch/>
        </p:blipFill>
        <p:spPr>
          <a:xfrm>
            <a:off x="971640" y="184464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Documents and Settings\FaNtoM\Рабочий стол\2.jpeg"/>
          <p:cNvPicPr/>
          <p:nvPr/>
        </p:nvPicPr>
        <p:blipFill>
          <a:blip r:embed="rId3"/>
          <a:stretch/>
        </p:blipFill>
        <p:spPr>
          <a:xfrm>
            <a:off x="971640" y="3284640"/>
            <a:ext cx="1200240" cy="1428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Documents and Settings\FaNtoM\Рабочий стол\3.jpeg"/>
          <p:cNvPicPr/>
          <p:nvPr/>
        </p:nvPicPr>
        <p:blipFill>
          <a:blip r:embed="rId4"/>
          <a:stretch/>
        </p:blipFill>
        <p:spPr>
          <a:xfrm>
            <a:off x="1042920" y="4869000"/>
            <a:ext cx="1038240" cy="1323720"/>
          </a:xfrm>
          <a:prstGeom prst="rect">
            <a:avLst/>
          </a:prstGeom>
          <a:ln w="0">
            <a:noFill/>
          </a:ln>
        </p:spPr>
      </p:pic>
      <p:sp>
        <p:nvSpPr>
          <p:cNvPr id="585" name="TextBox 5"/>
          <p:cNvSpPr/>
          <p:nvPr/>
        </p:nvSpPr>
        <p:spPr>
          <a:xfrm>
            <a:off x="2340000" y="2205000"/>
            <a:ext cx="45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Ура! Я, всё поня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2411280" y="3645000"/>
            <a:ext cx="46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- Я понял, но не всё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7"/>
          <p:cNvSpPr/>
          <p:nvPr/>
        </p:nvSpPr>
        <p:spPr>
          <a:xfrm>
            <a:off x="2124000" y="501336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-Мне стыдно, но я,        постараюс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C:\Documents and Settings\FaNtoM\Рабочий стол\Картинки\Зимние картинки\Новые зимние\Снегурочка\снегур24.jpeg"/>
          <p:cNvPicPr/>
          <p:nvPr/>
        </p:nvPicPr>
        <p:blipFill>
          <a:blip r:embed="rId1"/>
          <a:stretch/>
        </p:blipFill>
        <p:spPr>
          <a:xfrm>
            <a:off x="2916360" y="2357280"/>
            <a:ext cx="3959280" cy="4024440"/>
          </a:xfrm>
          <a:prstGeom prst="rect">
            <a:avLst/>
          </a:prstGeom>
          <a:ln w="0">
            <a:noFill/>
          </a:ln>
        </p:spPr>
      </p:pic>
      <p:pic>
        <p:nvPicPr>
          <p:cNvPr id="589" name="TextBox 2" descr=""/>
          <p:cNvPicPr/>
          <p:nvPr/>
        </p:nvPicPr>
        <p:blipFill>
          <a:blip r:embed="rId2"/>
          <a:stretch/>
        </p:blipFill>
        <p:spPr>
          <a:xfrm>
            <a:off x="895320" y="755640"/>
            <a:ext cx="7913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extBox 3" descr=""/>
          <p:cNvPicPr/>
          <p:nvPr/>
        </p:nvPicPr>
        <p:blipFill>
          <a:blip r:embed="rId1"/>
          <a:stretch/>
        </p:blipFill>
        <p:spPr>
          <a:xfrm>
            <a:off x="817560" y="536400"/>
            <a:ext cx="7296120" cy="1030320"/>
          </a:xfrm>
          <a:prstGeom prst="rect">
            <a:avLst/>
          </a:prstGeom>
          <a:ln w="0">
            <a:noFill/>
          </a:ln>
        </p:spPr>
      </p:pic>
      <p:pic>
        <p:nvPicPr>
          <p:cNvPr id="502" name="TextBox 4" descr=""/>
          <p:cNvPicPr/>
          <p:nvPr/>
        </p:nvPicPr>
        <p:blipFill>
          <a:blip r:embed="rId2"/>
          <a:stretch/>
        </p:blipFill>
        <p:spPr>
          <a:xfrm>
            <a:off x="1176480" y="1835280"/>
            <a:ext cx="6503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extBox 1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784920" cy="4692600"/>
          </a:xfrm>
          <a:prstGeom prst="rect">
            <a:avLst/>
          </a:prstGeom>
          <a:ln w="0">
            <a:noFill/>
          </a:ln>
        </p:spPr>
      </p:pic>
      <p:pic>
        <p:nvPicPr>
          <p:cNvPr id="504" name="TextBox 2" descr=""/>
          <p:cNvPicPr/>
          <p:nvPr/>
        </p:nvPicPr>
        <p:blipFill>
          <a:blip r:embed="rId2"/>
          <a:stretch/>
        </p:blipFill>
        <p:spPr>
          <a:xfrm>
            <a:off x="2103480" y="5651640"/>
            <a:ext cx="2706480" cy="133488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4"/>
          <p:cNvSpPr/>
          <p:nvPr/>
        </p:nvSpPr>
        <p:spPr>
          <a:xfrm flipV="1">
            <a:off x="3780000" y="5157360"/>
            <a:ext cx="215640" cy="3589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2124000" y="5805360"/>
            <a:ext cx="46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TextBox 1" descr=""/>
          <p:cNvPicPr/>
          <p:nvPr/>
        </p:nvPicPr>
        <p:blipFill>
          <a:blip r:embed="rId1"/>
          <a:stretch/>
        </p:blipFill>
        <p:spPr>
          <a:xfrm>
            <a:off x="920880" y="450720"/>
            <a:ext cx="7364160" cy="2316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C:\Documents and Settings\FaNtoM\Рабочий стол\Картинки\Шаблоны для презентаций\Буквы\Синие буквы\blue_rus\blue_П.jpg"/>
          <p:cNvPicPr/>
          <p:nvPr/>
        </p:nvPicPr>
        <p:blipFill>
          <a:blip r:embed="rId2"/>
          <a:stretch/>
        </p:blipFill>
        <p:spPr>
          <a:xfrm>
            <a:off x="3427560" y="1216080"/>
            <a:ext cx="1865160" cy="2932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C:\Documents and Settings\FaNtoM\Рабочий стол\Минутки чистописания\Посадка\за партой.jpg"/>
          <p:cNvPicPr/>
          <p:nvPr/>
        </p:nvPicPr>
        <p:blipFill>
          <a:blip r:embed="rId3"/>
          <a:stretch/>
        </p:blipFill>
        <p:spPr>
          <a:xfrm>
            <a:off x="539640" y="3213000"/>
            <a:ext cx="20876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"/>
          <p:cNvGrpSpPr/>
          <p:nvPr/>
        </p:nvGrpSpPr>
        <p:grpSpPr>
          <a:xfrm>
            <a:off x="412920" y="476280"/>
            <a:ext cx="8605800" cy="4392720"/>
            <a:chOff x="412920" y="476280"/>
            <a:chExt cx="8605800" cy="4392720"/>
          </a:xfrm>
        </p:grpSpPr>
        <p:sp>
          <p:nvSpPr>
            <p:cNvPr id="511" name="Line 5"/>
            <p:cNvSpPr/>
            <p:nvPr/>
          </p:nvSpPr>
          <p:spPr>
            <a:xfrm>
              <a:off x="412920" y="47628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>
              <a:off x="449280" y="2637000"/>
              <a:ext cx="8569440" cy="0"/>
            </a:xfrm>
            <a:prstGeom prst="line">
              <a:avLst/>
            </a:prstGeom>
            <a:ln w="57240">
              <a:solidFill>
                <a:srgbClr val="c050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412920" y="486900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24"/>
          <p:cNvGrpSpPr/>
          <p:nvPr/>
        </p:nvGrpSpPr>
        <p:grpSpPr>
          <a:xfrm>
            <a:off x="755640" y="476280"/>
            <a:ext cx="5256360" cy="4375080"/>
            <a:chOff x="755640" y="476280"/>
            <a:chExt cx="5256360" cy="4375080"/>
          </a:xfrm>
        </p:grpSpPr>
        <p:sp>
          <p:nvSpPr>
            <p:cNvPr id="515" name="AutoShape 9"/>
            <p:cNvSpPr/>
            <p:nvPr/>
          </p:nvSpPr>
          <p:spPr>
            <a:xfrm>
              <a:off x="3541680" y="7970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AutoShape 10"/>
            <p:cNvSpPr/>
            <p:nvPr/>
          </p:nvSpPr>
          <p:spPr>
            <a:xfrm>
              <a:off x="4572000" y="72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986200" y="1411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5640" y="942840"/>
              <a:ext cx="2859120" cy="38372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3837240"/>
                <a:gd name="textAreaBottom" fmla="*/ 3837600 h 38372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2846520" y="855720"/>
              <a:ext cx="1768320" cy="399564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3995640"/>
                <a:gd name="textAreaBottom" fmla="*/ 3996000 h 3995640"/>
              </a:gdLst>
              <a:ahLst/>
              <a:rect l="textAreaLeft" t="textAreaTop" r="textAreaRight" b="textAreaBottom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2031840" y="476280"/>
              <a:ext cx="3980160" cy="1189080"/>
            </a:xfrm>
            <a:custGeom>
              <a:avLst/>
              <a:gdLst>
                <a:gd name="textAreaLeft" fmla="*/ 0 w 3980160"/>
                <a:gd name="textAreaRight" fmla="*/ 3980520 w 398016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Group 23"/>
          <p:cNvGrpSpPr/>
          <p:nvPr/>
        </p:nvGrpSpPr>
        <p:grpSpPr>
          <a:xfrm>
            <a:off x="5529240" y="2637000"/>
            <a:ext cx="2220840" cy="2195280"/>
            <a:chOff x="5529240" y="2637000"/>
            <a:chExt cx="2220840" cy="2195280"/>
          </a:xfrm>
        </p:grpSpPr>
        <p:sp>
          <p:nvSpPr>
            <p:cNvPr id="522" name="Freeform 19"/>
            <p:cNvSpPr/>
            <p:nvPr/>
          </p:nvSpPr>
          <p:spPr>
            <a:xfrm>
              <a:off x="5529240" y="2684520"/>
              <a:ext cx="914400" cy="2095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95560"/>
                <a:gd name="textAreaBottom" fmla="*/ 2095560 h 2095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AutoShape 12"/>
            <p:cNvSpPr/>
            <p:nvPr/>
          </p:nvSpPr>
          <p:spPr>
            <a:xfrm>
              <a:off x="637056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6226200" y="2684520"/>
              <a:ext cx="1523880" cy="21477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147760"/>
                <a:gd name="textAreaBottom" fmla="*/ 2148120 h 214776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AutoShape 11"/>
            <p:cNvSpPr/>
            <p:nvPr/>
          </p:nvSpPr>
          <p:spPr>
            <a:xfrm>
              <a:off x="6226200" y="3067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AutoShape 25"/>
          <p:cNvSpPr/>
          <p:nvPr/>
        </p:nvSpPr>
        <p:spPr>
          <a:xfrm rot="12875400">
            <a:off x="3541680" y="94248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468360" y="5084640"/>
            <a:ext cx="624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осеяно с лукошко, так и выросло немножк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33526E-006 C -0.00607 0.01826 -0.00086 0.01872 -0.03698 0.11005 C -0.07309 0.20138 -0.1743 0.47005 -0.21632 0.54774 C -0.25833 0.62543 -0.27326 0.58797 -0.28889 0.57664 C -0.30451 0.56531 -0.30659 0.49595 -0.31007 0.48 E">
                                      <p:cBhvr>
                                        <p:cTn id="53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763 C 0.08542 0.07468 -0.03854 0.38751 -0.06562 0.48647 C -0.09271 0.58543 -0.06788 0.58034 -0.04652 0.58589 C -0.02517 0.59144 0.04028 0.53387 0.06302 0.52023 E">
                                      <p:cBhvr>
                                        <p:cTn id="56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73 0.11653 C -0.09132 0.12393 -0.1059 0.13156 -0.12118 0.11861 C -0.13646 0.10566 -0.16632 0.0608 -0.16875 0.03838 C -0.17118 0.01595 -0.16666 -0.00393 -0.13541 -0.01665 C -0.10416 -0.02937 -0.046 -0.03584 0.01858 -0.03792 C 0.08316 -0.04 0.21302 -0.03076 0.25191 -0.02937 E">
                                      <p:cBhvr>
                                        <p:cTn id="59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47 0.26659 C 0.29132 0.31745 0.23073 0.50774 0.21059 0.57109 E">
                                      <p:cBhvr>
                                        <p:cTn id="62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39 0.33849 C 0.29861 0.32832 0.37795 0.2652 0.38993 0.2793 C 0.40191 0.29341 0.36146 0.37156 0.35191 0.42312 C 0.34236 0.47468 0.31389 0.5778 0.33282 0.58797 C 0.35174 0.59815 0.43837 0.50589 0.46615 0.48439 E">
                                      <p:cBhvr>
                                        <p:cTn id="65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extBox 1" descr=""/>
          <p:cNvPicPr/>
          <p:nvPr/>
        </p:nvPicPr>
        <p:blipFill>
          <a:blip r:embed="rId1"/>
          <a:stretch/>
        </p:blipFill>
        <p:spPr>
          <a:xfrm>
            <a:off x="1158840" y="384120"/>
            <a:ext cx="6607080" cy="136548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"/>
          <p:cNvSpPr/>
          <p:nvPr/>
        </p:nvSpPr>
        <p:spPr>
          <a:xfrm>
            <a:off x="1258920" y="170028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Лист, лиственный, ли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ис, рисунок, рисов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Холм, холст, холмист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ая соединительная линия 4"/>
          <p:cNvSpPr/>
          <p:nvPr/>
        </p:nvSpPr>
        <p:spPr>
          <a:xfrm>
            <a:off x="6443640" y="1700280"/>
            <a:ext cx="865080" cy="865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Прямая соединительная линия 11"/>
          <p:cNvSpPr/>
          <p:nvPr/>
        </p:nvSpPr>
        <p:spPr>
          <a:xfrm>
            <a:off x="2916360" y="2349360"/>
            <a:ext cx="792000" cy="7923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Прямая соединительная линия 15"/>
          <p:cNvSpPr/>
          <p:nvPr/>
        </p:nvSpPr>
        <p:spPr>
          <a:xfrm>
            <a:off x="3203640" y="3141720"/>
            <a:ext cx="792000" cy="792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7"/>
          <p:cNvSpPr/>
          <p:nvPr/>
        </p:nvSpPr>
        <p:spPr>
          <a:xfrm>
            <a:off x="250920" y="4005360"/>
            <a:ext cx="748980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те корень в однокоренных сло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8"/>
          <p:cNvSpPr/>
          <p:nvPr/>
        </p:nvSpPr>
        <p:spPr>
          <a:xfrm>
            <a:off x="1476360" y="4797360"/>
            <a:ext cx="453564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называется корн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9"/>
          <p:cNvSpPr/>
          <p:nvPr/>
        </p:nvSpPr>
        <p:spPr>
          <a:xfrm>
            <a:off x="0" y="5732640"/>
            <a:ext cx="485928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ие слова называются однокор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extBox 1" descr=""/>
          <p:cNvPicPr/>
          <p:nvPr/>
        </p:nvPicPr>
        <p:blipFill>
          <a:blip r:embed="rId1"/>
          <a:stretch/>
        </p:blipFill>
        <p:spPr>
          <a:xfrm>
            <a:off x="554040" y="208080"/>
            <a:ext cx="7815240" cy="901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2"/>
          <p:cNvSpPr/>
          <p:nvPr/>
        </p:nvSpPr>
        <p:spPr>
          <a:xfrm>
            <a:off x="684360" y="126828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 рисовали коллективную раб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нарисовал снеговика. Коля подр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ал ему нос, а Таня вырисовыв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зки. Маша срисовала из книж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нежинки. А Оля дорисовала фо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ая соединительная линия 4"/>
          <p:cNvSpPr/>
          <p:nvPr/>
        </p:nvSpPr>
        <p:spPr>
          <a:xfrm>
            <a:off x="1619280" y="1773360"/>
            <a:ext cx="1873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рямая соединительная линия 8"/>
          <p:cNvSpPr/>
          <p:nvPr/>
        </p:nvSpPr>
        <p:spPr>
          <a:xfrm>
            <a:off x="1547640" y="1844640"/>
            <a:ext cx="2016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Прямая соединительная линия 12"/>
          <p:cNvSpPr/>
          <p:nvPr/>
        </p:nvSpPr>
        <p:spPr>
          <a:xfrm>
            <a:off x="1116000" y="2349360"/>
            <a:ext cx="2160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6"/>
          <p:cNvSpPr/>
          <p:nvPr/>
        </p:nvSpPr>
        <p:spPr>
          <a:xfrm>
            <a:off x="1042920" y="2421000"/>
            <a:ext cx="2233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рямая соединительная линия 19"/>
          <p:cNvSpPr/>
          <p:nvPr/>
        </p:nvSpPr>
        <p:spPr>
          <a:xfrm>
            <a:off x="6659640" y="2349360"/>
            <a:ext cx="1297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ая соединительная линия 22"/>
          <p:cNvSpPr/>
          <p:nvPr/>
        </p:nvSpPr>
        <p:spPr>
          <a:xfrm>
            <a:off x="6588000" y="2421000"/>
            <a:ext cx="1368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Прямая соединительная линия 25"/>
          <p:cNvSpPr/>
          <p:nvPr/>
        </p:nvSpPr>
        <p:spPr>
          <a:xfrm>
            <a:off x="826920" y="2852640"/>
            <a:ext cx="1152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Прямая соединительная линия 30"/>
          <p:cNvSpPr/>
          <p:nvPr/>
        </p:nvSpPr>
        <p:spPr>
          <a:xfrm>
            <a:off x="755640" y="2924280"/>
            <a:ext cx="12240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Прямая соединительная линия 33"/>
          <p:cNvSpPr/>
          <p:nvPr/>
        </p:nvSpPr>
        <p:spPr>
          <a:xfrm>
            <a:off x="5076720" y="2924280"/>
            <a:ext cx="302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Прямая соединительная линия 36"/>
          <p:cNvSpPr/>
          <p:nvPr/>
        </p:nvSpPr>
        <p:spPr>
          <a:xfrm>
            <a:off x="5003640" y="3068640"/>
            <a:ext cx="302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Прямая соединительная линия 39"/>
          <p:cNvSpPr/>
          <p:nvPr/>
        </p:nvSpPr>
        <p:spPr>
          <a:xfrm>
            <a:off x="3564000" y="3429000"/>
            <a:ext cx="2087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Прямая соединительная линия 42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Прямая соединительная линия 45"/>
          <p:cNvSpPr/>
          <p:nvPr/>
        </p:nvSpPr>
        <p:spPr>
          <a:xfrm>
            <a:off x="4140360" y="4149720"/>
            <a:ext cx="2447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Прямая соединительная линия 48"/>
          <p:cNvSpPr/>
          <p:nvPr/>
        </p:nvSpPr>
        <p:spPr>
          <a:xfrm>
            <a:off x="4067280" y="4292640"/>
            <a:ext cx="2520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1"/>
          <p:cNvSpPr/>
          <p:nvPr/>
        </p:nvSpPr>
        <p:spPr>
          <a:xfrm>
            <a:off x="826920" y="1197000"/>
            <a:ext cx="766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исовали, нарисовал, подрисов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исовывала, срисовала, дорисов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00000" y="1052640"/>
            <a:ext cx="647640" cy="471240"/>
          </a:xfrm>
          <a:custGeom>
            <a:avLst/>
            <a:gdLst>
              <a:gd name="textAreaLeft" fmla="*/ 0 w 647640"/>
              <a:gd name="textAreaRight" fmla="*/ 648000 w 647640"/>
              <a:gd name="textAreaTop" fmla="*/ 0 h 471240"/>
              <a:gd name="textAreaBottom" fmla="*/ 210240 h 47124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3132000" y="1125360"/>
            <a:ext cx="648000" cy="470160"/>
          </a:xfrm>
          <a:custGeom>
            <a:avLst/>
            <a:gdLst>
              <a:gd name="textAreaLeft" fmla="*/ 0 w 648000"/>
              <a:gd name="textAreaRight" fmla="*/ 648000 w 648000"/>
              <a:gd name="textAreaTop" fmla="*/ 0 h 470160"/>
              <a:gd name="textAreaBottom" fmla="*/ 209520 h 47016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AutoShape 6"/>
          <p:cNvSpPr/>
          <p:nvPr/>
        </p:nvSpPr>
        <p:spPr>
          <a:xfrm>
            <a:off x="5435640" y="1125360"/>
            <a:ext cx="649080" cy="470160"/>
          </a:xfrm>
          <a:custGeom>
            <a:avLst/>
            <a:gdLst>
              <a:gd name="textAreaLeft" fmla="*/ 0 w 649080"/>
              <a:gd name="textAreaRight" fmla="*/ 649440 w 649080"/>
              <a:gd name="textAreaTop" fmla="*/ 0 h 470160"/>
              <a:gd name="textAreaBottom" fmla="*/ 209520 h 47016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403280" y="1989000"/>
            <a:ext cx="647640" cy="614520"/>
          </a:xfrm>
          <a:custGeom>
            <a:avLst/>
            <a:gdLst>
              <a:gd name="textAreaLeft" fmla="*/ 0 w 647640"/>
              <a:gd name="textAreaRight" fmla="*/ 648000 w 647640"/>
              <a:gd name="textAreaTop" fmla="*/ 0 h 614520"/>
              <a:gd name="textAreaBottom" fmla="*/ 273960 h 61452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AutoShape 6"/>
          <p:cNvSpPr/>
          <p:nvPr/>
        </p:nvSpPr>
        <p:spPr>
          <a:xfrm>
            <a:off x="3851280" y="1989000"/>
            <a:ext cx="649440" cy="614520"/>
          </a:xfrm>
          <a:custGeom>
            <a:avLst/>
            <a:gdLst>
              <a:gd name="textAreaLeft" fmla="*/ 0 w 649440"/>
              <a:gd name="textAreaRight" fmla="*/ 649800 w 649440"/>
              <a:gd name="textAreaTop" fmla="*/ 0 h 614520"/>
              <a:gd name="textAreaBottom" fmla="*/ 273960 h 61452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6156360" y="2060640"/>
            <a:ext cx="647640" cy="615960"/>
          </a:xfrm>
          <a:custGeom>
            <a:avLst/>
            <a:gdLst>
              <a:gd name="textAreaLeft" fmla="*/ 0 w 647640"/>
              <a:gd name="textAreaRight" fmla="*/ 648000 w 647640"/>
              <a:gd name="textAreaTop" fmla="*/ 0 h 615960"/>
              <a:gd name="textAreaBottom" fmla="*/ 274680 h 615960"/>
            </a:gdLst>
            <a:ahLst/>
            <a:rect l="textAreaLeft" t="textAreaTop" r="textAreaRight" b="textAreaBottom"/>
            <a:pathLst>
              <a:path w="21600" h="21600">
                <a:moveTo>
                  <a:pt x="3375" y="12045"/>
                </a:moveTo>
                <a:cubicBezTo>
                  <a:pt x="3306" y="11634"/>
                  <a:pt x="3272" y="11217"/>
                  <a:pt x="3272" y="10800"/>
                </a:cubicBezTo>
                <a:cubicBezTo>
                  <a:pt x="3272" y="6642"/>
                  <a:pt x="6642" y="3272"/>
                  <a:pt x="10800" y="3272"/>
                </a:cubicBezTo>
                <a:cubicBezTo>
                  <a:pt x="14957" y="3272"/>
                  <a:pt x="18328" y="6642"/>
                  <a:pt x="18328" y="10800"/>
                </a:cubicBezTo>
                <a:cubicBezTo>
                  <a:pt x="18328" y="11217"/>
                  <a:pt x="18293" y="11634"/>
                  <a:pt x="18224" y="12045"/>
                </a:cubicBezTo>
                <a:lnTo>
                  <a:pt x="21451" y="12587"/>
                </a:lnTo>
                <a:cubicBezTo>
                  <a:pt x="21550" y="11996"/>
                  <a:pt x="21600" y="1139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398"/>
                  <a:pt x="49" y="11996"/>
                  <a:pt x="148" y="12587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оловина рамки 8"/>
          <p:cNvSpPr/>
          <p:nvPr/>
        </p:nvSpPr>
        <p:spPr>
          <a:xfrm rot="5400000">
            <a:off x="2643480" y="892800"/>
            <a:ext cx="225720" cy="690840"/>
          </a:xfrm>
          <a:custGeom>
            <a:avLst/>
            <a:gdLst/>
            <a:ahLst/>
            <a:rect l="l" t="t" r="r" b="b"/>
            <a:pathLst>
              <a:path w="225724" h="690413">
                <a:moveTo>
                  <a:pt x="0" y="0"/>
                </a:moveTo>
                <a:lnTo>
                  <a:pt x="225724" y="0"/>
                </a:lnTo>
                <a:lnTo>
                  <a:pt x="211239" y="44305"/>
                </a:lnTo>
                <a:lnTo>
                  <a:pt x="43971" y="44305"/>
                </a:lnTo>
                <a:lnTo>
                  <a:pt x="43971" y="555921"/>
                </a:lnTo>
                <a:lnTo>
                  <a:pt x="0" y="690413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оловина рамки 9"/>
          <p:cNvSpPr/>
          <p:nvPr/>
        </p:nvSpPr>
        <p:spPr>
          <a:xfrm rot="5400000">
            <a:off x="4955400" y="957960"/>
            <a:ext cx="233280" cy="711360"/>
          </a:xfrm>
          <a:custGeom>
            <a:avLst/>
            <a:gdLst/>
            <a:ahLst/>
            <a:rect l="l" t="t" r="r" b="b"/>
            <a:pathLst>
              <a:path w="234108" h="711698">
                <a:moveTo>
                  <a:pt x="0" y="0"/>
                </a:moveTo>
                <a:lnTo>
                  <a:pt x="234108" y="0"/>
                </a:lnTo>
                <a:lnTo>
                  <a:pt x="218993" y="45951"/>
                </a:lnTo>
                <a:lnTo>
                  <a:pt x="45604" y="45951"/>
                </a:lnTo>
                <a:lnTo>
                  <a:pt x="45604" y="573059"/>
                </a:lnTo>
                <a:lnTo>
                  <a:pt x="0" y="711698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оловина рамки 10"/>
          <p:cNvSpPr/>
          <p:nvPr/>
        </p:nvSpPr>
        <p:spPr>
          <a:xfrm rot="5400000">
            <a:off x="3600360" y="2025360"/>
            <a:ext cx="215640" cy="432000"/>
          </a:xfrm>
          <a:custGeom>
            <a:avLst/>
            <a:gdLst/>
            <a:ahLst/>
            <a:rect l="l" t="t" r="r" b="b"/>
            <a:pathLst>
              <a:path w="216024" h="432048">
                <a:moveTo>
                  <a:pt x="0" y="0"/>
                </a:moveTo>
                <a:lnTo>
                  <a:pt x="216024" y="0"/>
                </a:lnTo>
                <a:lnTo>
                  <a:pt x="194823" y="42401"/>
                </a:lnTo>
                <a:lnTo>
                  <a:pt x="42081" y="42401"/>
                </a:lnTo>
                <a:lnTo>
                  <a:pt x="42081" y="347885"/>
                </a:lnTo>
                <a:lnTo>
                  <a:pt x="0" y="432048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оловина рамки 11"/>
          <p:cNvSpPr/>
          <p:nvPr/>
        </p:nvSpPr>
        <p:spPr>
          <a:xfrm rot="5400000">
            <a:off x="922680" y="1965960"/>
            <a:ext cx="233280" cy="711000"/>
          </a:xfrm>
          <a:custGeom>
            <a:avLst/>
            <a:gdLst/>
            <a:ahLst/>
            <a:rect l="l" t="t" r="r" b="b"/>
            <a:pathLst>
              <a:path w="234108" h="711698">
                <a:moveTo>
                  <a:pt x="0" y="0"/>
                </a:moveTo>
                <a:lnTo>
                  <a:pt x="234108" y="0"/>
                </a:lnTo>
                <a:lnTo>
                  <a:pt x="218993" y="45951"/>
                </a:lnTo>
                <a:lnTo>
                  <a:pt x="45604" y="45951"/>
                </a:lnTo>
                <a:lnTo>
                  <a:pt x="45604" y="573059"/>
                </a:lnTo>
                <a:lnTo>
                  <a:pt x="0" y="711698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оловина рамки 12"/>
          <p:cNvSpPr/>
          <p:nvPr/>
        </p:nvSpPr>
        <p:spPr>
          <a:xfrm rot="5400000">
            <a:off x="5760360" y="2025000"/>
            <a:ext cx="287280" cy="504720"/>
          </a:xfrm>
          <a:custGeom>
            <a:avLst/>
            <a:gdLst/>
            <a:ahLst/>
            <a:rect l="l" t="t" r="r" b="b"/>
            <a:pathLst>
              <a:path w="288032" h="504056">
                <a:moveTo>
                  <a:pt x="0" y="0"/>
                </a:moveTo>
                <a:lnTo>
                  <a:pt x="288032" y="0"/>
                </a:lnTo>
                <a:lnTo>
                  <a:pt x="255726" y="56535"/>
                </a:lnTo>
                <a:lnTo>
                  <a:pt x="56109" y="56535"/>
                </a:lnTo>
                <a:lnTo>
                  <a:pt x="56109" y="405866"/>
                </a:lnTo>
                <a:lnTo>
                  <a:pt x="0" y="50405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3"/>
          <p:cNvSpPr/>
          <p:nvPr/>
        </p:nvSpPr>
        <p:spPr>
          <a:xfrm>
            <a:off x="2195640" y="3573360"/>
            <a:ext cx="403200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авило стр.1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TextBox 1" descr=""/>
          <p:cNvPicPr/>
          <p:nvPr/>
        </p:nvPicPr>
        <p:blipFill>
          <a:blip r:embed="rId1"/>
          <a:stretch/>
        </p:blipFill>
        <p:spPr>
          <a:xfrm>
            <a:off x="1011240" y="212760"/>
            <a:ext cx="7188120" cy="17082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C:\Documents and Settings\FaNtoM\Рабочий стол\Картинки\Зимние картинки\Новые зимние\Новые снеговики\снег27.jpeg"/>
          <p:cNvPicPr/>
          <p:nvPr/>
        </p:nvPicPr>
        <p:blipFill>
          <a:blip r:embed="rId2"/>
          <a:stretch/>
        </p:blipFill>
        <p:spPr>
          <a:xfrm>
            <a:off x="2411280" y="1557360"/>
            <a:ext cx="3232440" cy="4535640"/>
          </a:xfrm>
          <a:prstGeom prst="rect">
            <a:avLst/>
          </a:prstGeom>
          <a:ln w="0">
            <a:noFill/>
          </a:ln>
        </p:spPr>
      </p:pic>
      <p:pic>
        <p:nvPicPr>
          <p:cNvPr id="567" name="41. Если я бы стала елкой - Даша Кузнецова.mp3" descr=""/>
          <p:cNvPicPr/>
          <p:nvPr/>
        </p:nvPicPr>
        <p:blipFill>
          <a:blip r:embed="rId3"/>
          <a:stretch/>
        </p:blipFill>
        <p:spPr>
          <a:xfrm>
            <a:off x="6588000" y="595008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0:19:42Z</dcterms:created>
  <dc:creator>FaNtoM</dc:creator>
  <dc:description>Презентации по культуре и искусству, шаблоны PowerPoint - http://freeppt.ru</dc:description>
  <dc:language>en-US</dc:language>
  <cp:lastModifiedBy>FaNtoM</cp:lastModifiedBy>
  <dcterms:modified xsi:type="dcterms:W3CDTF">2012-01-11T12:43:51Z</dcterms:modified>
  <cp:revision>15</cp:revision>
  <dc:subject>Шаблон для презентаций</dc:subject>
  <dc:title>Русский язык</dc:title>
</cp:coreProperties>
</file>