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42F-DA18-4B0A-9918-470C0C27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1B2-2B18-447E-86E7-3A54EC0C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8E0-00E1-4509-8F2E-19593A55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5EE-F947-449A-AB15-50A18314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418C-355A-42CC-8DB5-3BBBC563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B435-1DC7-4031-9BBE-BBF0EF10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877E-99A7-4402-A192-8F13DD10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7490-05AB-4AE6-867F-93A368A0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7949-64EF-475D-AA13-E79BFC0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9E1B-F148-420D-8F82-CC0E9090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64AC-D67C-4C90-A747-A571D734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183-C10F-4148-878F-87C562DA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14DF-3D5B-462D-B48B-E53D0E1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F424-BFD2-4D81-B9D2-080613F2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F2C2-1FF0-44C4-A8B7-33F87DAE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54D7-9FAD-4E37-9801-136B6A5A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F5DA-2C4E-4981-BF1B-7C5F9839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79A7-9AA4-4E1E-ABFE-3D4599F6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5B2C-C2AF-4679-AE38-D6C7083C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8828-4ED7-4CAE-8767-B8DE60B7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12EB-74BC-4434-8B44-BB2865BA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D91B-A7E4-46F1-8657-8EAABCB3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618-B906-430B-80AA-36C015F0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C781-4B80-4D78-880A-6CF3DE39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10C3-5DF7-4F27-8BAE-0F80390E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C3B4-DA16-4044-83B7-3DEE55E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1549-BADA-4191-BDE3-D1271183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8B34-A222-4FC6-BF54-7F0E1236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622E-4C56-48EC-9B05-892364CB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6CCD-50C9-498B-81A4-022CD98C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6136-8F15-49F0-A1D5-5EA60529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E78C-65AB-4D0A-84B8-25319CD4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95A1-6912-4C9E-90CD-980428EA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BFE-8C69-4B5F-B852-96ED3407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5F36-05AC-4B6B-9790-DAA6045B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3FD1-1358-49B8-BD99-15A5B514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32347-58BB-499C-AB42-C5DCE296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DB4A-0EEA-462F-9523-6886EC8F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426F-B94D-45A8-BAE0-6717FEC0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0655-C95B-4B48-9284-2A42431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FB20-59E0-4C18-B623-53390441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D609-9AB7-4E85-8981-A23BBDFC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DFB7-CE82-4240-A113-3802E48A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7E48-0B72-4FF6-A9B8-019B14E3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C82-234E-492A-8374-534A1992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94503-BE91-4F07-AF91-85B51B76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234DD-8E07-4A89-BE6F-86108DC3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F2706-0E5C-4D10-888E-C6AC8B88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9F58C-BBB3-4922-994E-BEBEC423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661A0-A988-45B6-87FA-92E87A0A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900B7-C088-42D6-BEE8-3264C6BF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DE52-6A3D-4B2C-AA36-8C82D2BA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1912F-14EA-415D-9C6B-A41F625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0F010-AD9B-467E-B808-2A975E9C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ABC7-274B-4A13-9245-9EED31E0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D43-3550-4D5A-ADEE-AD31A239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6E840-D741-4F54-80C2-CC3C05CB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7E49A-D05F-4F0A-9401-94DC49F8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55699-7D9C-46A9-AE90-E10E5DFE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ADA66-459E-41B0-B386-22F241CA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39DFA-2D48-4343-9B36-C1B4169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7E17-AFF0-42CB-9907-1AAFAF36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22FDC-D547-42BF-B3C8-7747344E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2B56B-71BE-4B26-B600-473AF42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11650-FB17-4C1F-85A5-896CF4F9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17FA-D91F-4D08-B7FD-3FB183DE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533-F25C-4243-A4B3-2419F6E7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BA739-DD61-449E-A1BE-0321047B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8140C-8C0A-43C3-B061-C327750D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48F4-9D64-41EA-941C-CDD853CF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1C281-9D34-4954-81D0-E3C89756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577BD-099A-4F63-9CB0-B4A6F935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B63B4-395E-4097-9773-5BDBF7CE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48166-8C13-4C8C-A79C-8D11220B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D413-C3F1-46F8-B8B0-36AE75BC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DBB8F-2DE4-4739-8D66-FFC94B82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AE8C2-B046-40B3-8EBC-E7B2FF39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0C0-965B-4218-98CD-0ACCF992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6A1CA-E6CE-4A46-84BC-D30FE480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54659-6E8D-494A-B684-AD805908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3C567-AB24-4A82-8063-787AD448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FD039-6C31-4EBB-A2BB-6CF02CC3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92074-6BD2-4A05-A76A-84929DAD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CAF-870C-41F2-8A30-7543C9A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68D9-E27D-4E60-9CE9-5F80439CC244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FE16-D891-476C-9A06-920400C999A2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F957-3776-4087-A89E-E862FE05137F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2B2F-F344-4EF3-88D6-F83BDACB0408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8FD9-6C52-4CA6-9E7E-BFE249764E44}" type="slidenum">
              <a:rPr b="0" lang="ru-RU" sz="1000" spc="-1" strike="noStrike">
                <a:solidFill>
                  <a:srgbClr val="381a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A70F-7C43-467B-8C2F-818F567586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42CB-98BA-474E-99F0-C0A1DA91C4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357120" y="389736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ектирование современного урока в условиях реализации федерального государственного образовательного стандарта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rcRect l="33440" t="-4265" r="0" b="0"/>
          <a:stretch/>
        </p:blipFill>
        <p:spPr>
          <a:xfrm>
            <a:off x="3357720" y="500040"/>
            <a:ext cx="3157560" cy="3019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7"/>
          <p:cNvSpPr/>
          <p:nvPr/>
        </p:nvSpPr>
        <p:spPr>
          <a:xfrm>
            <a:off x="0" y="36468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357120" y="1081080"/>
            <a:ext cx="80726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VIII.Рефлексия деятельности (итог уро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ие учащимися своей УД (учебной деятельности), самооценка результатов деятельности своей и вс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-3 мину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Какую задачу став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Удалось решить поставленную задачу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Каким способ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Какие получили результа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Что нужно сделать ещё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Где можно применить новые зн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"/>
          <p:cNvSpPr/>
          <p:nvPr/>
        </p:nvSpPr>
        <p:spPr>
          <a:xfrm>
            <a:off x="785880" y="935640"/>
            <a:ext cx="75009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Учитель,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его отношение к учебному процессу, его творчество и профессионализм, его желание раскрыть способности каждого ребенка – вот это всё и есть главный ресурс, без которого невозможно воплощение новых стандартов школь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3214800" y="3000240"/>
            <a:ext cx="3495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684360" y="214200"/>
          <a:ext cx="8173800" cy="7683480"/>
        </p:xfrm>
        <a:graphic>
          <a:graphicData uri="http://schemas.openxmlformats.org/drawingml/2006/table">
            <a:tbl>
              <a:tblPr/>
              <a:tblGrid>
                <a:gridCol w="1792080"/>
                <a:gridCol w="3227400"/>
                <a:gridCol w="3154320"/>
              </a:tblGrid>
              <a:tr h="52704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Требования к урок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Традиционный ур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Урок современного ти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ъявление темы уро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итель сообщает учащим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ормулируют сами учащие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ообщение целей и зада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итель формулирует и сообщает учащимся, чему должны научить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ланир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итель сообщает учащимся, какую работу они должны выполнить, чтобы достичь ц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ланирование учащимися способов достижения намеченной ц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д руководством учителя учащиеся выполняют ряд практических задач (чаще применяется фронтальный метод организации деятельност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уществление контрол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итель осуществляет контроль за выполнением учащимися практической рабо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ащиеся осуществляют контроль (применяются формы самоконтроля, взаимоконтрол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уществление коррек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итель в ходе выполнения и по итогам выполненной работы учащимися осуществляет коррекц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ащиеся формулируют затруднения и осуществляют коррекцию самостоятель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ценивание учащих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итель осуществляет оценивание учащихся за работу на уро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ащиеся дают оценку деятельности по её результатам (самооценивание, оценивание результатов деятельности товарищ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тог уро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итель выясняет у учащихся, что они запомни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водится рефлекс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омашнее зад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итель объявляет и комментирует (чаще – задание одно для всех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чащиеся могут выбирать задание из предложенных учителем с учётом индивидуальных возможнос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Прямоугольник 3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500040" y="358560"/>
            <a:ext cx="778680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1.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ение учащихся в деятельность на личностно- значимом уровне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Хочу, потому что мог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2a6d7d"/>
                </a:solidFill>
                <a:latin typeface="Arial"/>
                <a:ea typeface="Times New Roman"/>
              </a:rPr>
              <a:t>1-2 мину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учащихся должна возникнуть положительная эмоциональная направ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ение детей в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ение содержательн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a6d7d"/>
                </a:solidFill>
                <a:latin typeface="Arial"/>
                <a:ea typeface="Times New Roman"/>
              </a:rPr>
              <a:t>Приём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в начале урока высказывает добрые пожелания детям; предлагает пожелать друг другу удачи (хлопки в ладони друг друга с соседом по парт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предлагает детям подумать, что пригодится для успешной работы на уроке; дети высказываю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з, эпиграф («С малой удачи начинается большой успех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верка домашнего задания по образ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Настроить детей на работу, проговаривая с ними план урока («потренируемся в решении примеров», «познакомимся с новым вычислительным приёмом», «напишем самостоятельную работу», «повторим решение составных задач» и т. п.)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428760" y="302760"/>
            <a:ext cx="792936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II. Актуализац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торение изученного материала, необходимого для «открытия нового знания», и выявление затруднений в индивидуальной деятельности каждого уча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4-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Возникновение проблемн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уализация ЗУН и мыслительных операций (внимания, памяти, реч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проблемн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е и фиксирование в громкой речи: где и почему возникло затруднение; темы и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начале актуализируются знания, необходимые для работы над новым материалом. Одновременно идёт работа над развитием внимания, памяти, речи, мыслительных опер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создаётся проблемная ситуация, чётко проговаривается цель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rcRect l="52047" t="49889" r="4549" b="32504"/>
          <a:stretch/>
        </p:blipFill>
        <p:spPr>
          <a:xfrm>
            <a:off x="7358040" y="5143680"/>
            <a:ext cx="1785960" cy="171432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4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571680" y="443160"/>
            <a:ext cx="7929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III. Постановка учебной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уждение затруднений («Почему возникли затруднения?», «Чего мы ещё не знаем?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оваривание цели урока в виде вопроса, на который предстоит ответ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виде темы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-5 м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постановки учебной задачи: побуждающий от проблемной ситуации диалог, подводящий к теме диа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rcRect l="5171" t="84397" r="53167" b="196"/>
          <a:stretch/>
        </p:blipFill>
        <p:spPr>
          <a:xfrm>
            <a:off x="6929280" y="4929120"/>
            <a:ext cx="2041560" cy="17859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4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rcRect l="50350" t="71919" r="-682" b="3865"/>
          <a:stretch/>
        </p:blipFill>
        <p:spPr>
          <a:xfrm>
            <a:off x="700092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"/>
          <p:cNvSpPr/>
          <p:nvPr/>
        </p:nvSpPr>
        <p:spPr>
          <a:xfrm>
            <a:off x="642960" y="285480"/>
            <a:ext cx="82868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IV. «Открытие нового знания»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ение проекта выхода из затруднения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тап изучения новых знаний и способов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УЗ (устных задач) и обсуждение проекта её решени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-8 м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: диалог, групповая или парная раб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: побуждающий к гипотезам диалог, подводящий к открытию знания диалог, подводящий без проблемы диа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самостоятельной исследов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едение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ое знание дети получают в результате самостоятельного исследования, проводимого под руководством учителя. Новые правила они пытаются выразить своими сл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ершении подводится итог обсуждения и даётся общепринятая формулировка новых алгоритмов дей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лучшего их запоминания, там, где это возмож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ется приём перевода правил на язык обр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285840" y="462600"/>
            <a:ext cx="864396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V. Первичное закреплени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тап закрепления  знаний и способов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оваривание нового знания, запись в виде опорного сиг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-5 мин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: фронтальная работа, работа в па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ства: комментирование, обозначение знаковыми символами, выполнение продуктивны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ие заданий с проговариванием в громк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    процессе    первичного    закрепления примеры    решаются    с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комментированием: дети проговаривают новые правила в громкой речи.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rcRect l="52047" t="49889" r="4549" b="32504"/>
          <a:stretch/>
        </p:blipFill>
        <p:spPr>
          <a:xfrm>
            <a:off x="7358040" y="5143680"/>
            <a:ext cx="1785960" cy="1714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3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285840" y="380880"/>
            <a:ext cx="82868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VI. Самостоятельная работа с самопровер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о этал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амоанализ и самоконтрол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Этап  применения  знаний и способов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для себя должен сделать вывод о том, что он уже у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-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большой объем самостоятельной работы (не более 2-3 типовых зада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ется письмен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: самоконтроль, самооц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дении самостоятельной работы в классе каждый ребёнок проговаривает новые правила про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рке работы каждый должен себя проверить - всё ли он понял, запомнил ли новые правила. Здесь необходимо создать для каждого ребёнка ситуацию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rcRect l="0" t="49172" r="51391" b="15607"/>
          <a:stretch/>
        </p:blipFill>
        <p:spPr>
          <a:xfrm>
            <a:off x="7358040" y="4041720"/>
            <a:ext cx="1643040" cy="28162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"/>
          <p:cNvSpPr/>
          <p:nvPr/>
        </p:nvSpPr>
        <p:spPr>
          <a:xfrm>
            <a:off x="214200" y="58932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VII.  Включение нового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в систему знаний и повт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-8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предложить учащимся из набора заданий выбрать только те, которые содержат новый алгоритм или новое поня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ем выполняются упражнения, в которых новое знание используется вместе с изученными ра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овторении ранее изученного материала исполь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овые элементы - сказочные персонажи, соревн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оздаёт положительный эмоциональный ф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ствует развитию у детей интереса к уро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4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7T16:50:29Z</dcterms:modified>
  <cp:revision>17</cp:revision>
  <dc:subject/>
  <dc:title>Слайд 1</dc:title>
</cp:coreProperties>
</file>