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FADFF-B430-4077-AF42-68B2A0EF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C370-382C-407F-9BCE-B33C2A53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7508-2D80-4D66-9BCC-482D6721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E5E7-02CA-4F87-A972-8FBAB7D5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A9BA-C33E-42E6-96F9-2C4DBE74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45E3-FBAA-4A5B-AEE2-62237031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B1C0-936B-498E-9027-A935A796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7F4E-5C89-4852-A512-B2BFA132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3263-1B5A-4189-8405-1CC8048C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0AEB-0CF6-4AA1-BC1A-4F09CA6E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3243-7E31-4B29-9E3F-E379FF90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0C2EA-4070-4731-B6CF-9B0B23F1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561D-FD5C-4140-826B-5DC5B5C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83E8-2DFE-495B-970B-C56B8D8C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760D-50E9-4C37-A01C-3C2D269A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360A-82EB-46C2-B3A1-C5EF0F10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BD5C-8FED-4716-BB4E-371983C7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A659-4A2F-4FCE-A393-945B22CE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88E8-8C23-40A2-92C3-E561812F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3DA7-8C93-490C-AF94-71F8C96C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3BB7-8650-4D9E-AA7F-739899D8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4AB4-38EF-4189-89BC-27DBD25C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AAEC-788B-4248-B0C7-2F2ACB7E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39AF-B7FD-4BB2-BA84-580E75E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AAC5-A774-4241-A28B-BB4EB803F0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AFDC-1858-48DC-8FF7-7CF5A45ED4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2280" y="1143000"/>
            <a:ext cx="8763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 в страну Грамматика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14316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Всезнай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676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200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aramond"/>
              </a:rPr>
              <a:t>Исправь ошибки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343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ла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396252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кор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1447920" cy="1218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09880" y="27432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aramond"/>
              </a:rPr>
              <a:t>би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819520" y="4343400"/>
            <a:ext cx="1981080" cy="1295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895480" y="5638680"/>
            <a:ext cx="19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aramond"/>
              </a:rPr>
              <a:t>миш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095880" y="4724280"/>
            <a:ext cx="1847880" cy="1276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172200" y="6019920"/>
            <a:ext cx="16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ки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80880" y="25146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7462800" y="1676520"/>
            <a:ext cx="1452600" cy="1981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Физминут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90720" y="1828800"/>
            <a:ext cx="2263680" cy="3429000"/>
            <a:chOff x="990720" y="1828800"/>
            <a:chExt cx="2263680" cy="34290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990720" y="1828800"/>
              <a:ext cx="226368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 txBox="1"/>
            <p:nvPr/>
          </p:nvSpPr>
          <p:spPr>
            <a:xfrm>
              <a:off x="990720" y="1828800"/>
              <a:ext cx="226368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213372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019920" y="41148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Сказочна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197820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3178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Garamond"/>
              </a:rPr>
              <a:t>Собери слов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2362320"/>
            <a:ext cx="2057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е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Б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Б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2438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3200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3809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38680" y="4495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5181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я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6019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7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СКОРОГОВОР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Кукушка кукушонку купила капюшон,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Как в капюшоне он смешон!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aramond"/>
              </a:rPr>
              <a:t>Сшила Саша Сашке шляпу.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Шла Саша по шоссе и сосала сушки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Garamond"/>
              </a:rPr>
              <a:t>МОЛОДЦЫ !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2295360" cy="2646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aramond"/>
              </a:rPr>
              <a:t>Карта путешествия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51460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3886200"/>
            <a:ext cx="30492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518148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3200400"/>
            <a:ext cx="30492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3886200"/>
            <a:ext cx="30492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2514600"/>
            <a:ext cx="30492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219320" y="2742840"/>
            <a:ext cx="1600200" cy="1143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2666880"/>
            <a:ext cx="3429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2666880"/>
            <a:ext cx="1219320" cy="1219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4191120"/>
            <a:ext cx="1600200" cy="1066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54100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705720" y="4190760"/>
            <a:ext cx="1371600" cy="1143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3743280"/>
            <a:ext cx="53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трана Граммат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240" y="3200400"/>
            <a:ext cx="15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Угадай-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38240" y="20574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Всезнай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0034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Физмину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4160" y="2819520"/>
            <a:ext cx="15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Сказоч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11440" y="42670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Скороговор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54100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Лес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24852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6095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505320" y="1676520"/>
            <a:ext cx="838080" cy="923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077320" y="4800600"/>
            <a:ext cx="734760" cy="838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477120" y="1371600"/>
            <a:ext cx="89352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8253360" y="1676520"/>
            <a:ext cx="89064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533520" y="1981080"/>
            <a:ext cx="731880" cy="1143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19720" y="525780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2819520"/>
            <a:ext cx="1219320" cy="1218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5181480"/>
            <a:ext cx="30492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55627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Блиц-турни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6019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292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57150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Букварин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3124080" y="5638680"/>
            <a:ext cx="838440" cy="1047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Угадай-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40240" cy="3733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Ребусы деда Буквое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57200" y="1523880"/>
            <a:ext cx="4114800" cy="4648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523880"/>
            <a:ext cx="4114800" cy="4572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4800600"/>
            <a:ext cx="5943600" cy="76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61960" y="309708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Garamond"/>
              </a:rPr>
              <a:t>ГОЛ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Ребусы деда Буквое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1905120"/>
            <a:ext cx="4114800" cy="3733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895480"/>
            <a:ext cx="17528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400" spc="-1" strike="noStrike">
                <a:solidFill>
                  <a:srgbClr val="ffff00"/>
                </a:solidFill>
                <a:latin typeface="Garamond"/>
              </a:rPr>
              <a:t>ЛК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Ребусы деда Буквое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Ребусы деда Буквое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57200" y="1523880"/>
            <a:ext cx="4114800" cy="4572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523880"/>
            <a:ext cx="4114800" cy="4572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724280"/>
            <a:ext cx="5790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42900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Garamond"/>
              </a:rPr>
              <a:t>РУ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Ребусы деда Буквое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22860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Garamond"/>
              </a:rPr>
              <a:t>ЛОДК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3434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219320" y="4038480"/>
            <a:ext cx="2133360" cy="1828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4191120"/>
            <a:ext cx="2209680" cy="1600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41911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Ж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Ребусы деда Буквое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33720" y="2057400"/>
            <a:ext cx="47242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 я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1:53:33Z</dcterms:created>
  <dc:creator>Наталья</dc:creator>
  <dc:description/>
  <dc:language>en-US</dc:language>
  <cp:lastModifiedBy>Львова</cp:lastModifiedBy>
  <dcterms:modified xsi:type="dcterms:W3CDTF">2013-02-27T13:22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