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</p:sldIdLst>
  <p:sldSz cx="9144000" cy="6858000"/>
  <p:notesSz cx="6858000" cy="9144000"/>
  <p:custShowLst>
    <p:custShow name="Произвольный показ 1" id="0">
      <p:sldLst>
        <p:sld r:id="rId12"/>
        <p:sld r:id="rId13"/>
        <p:sld r:id="rId14"/>
        <p:sld r:id="rId15"/>
        <p:sld r:id="rId16"/>
        <p:sld r:id="rId17"/>
        <p:sld r:id="rId18"/>
        <p:sld r:id="rId19"/>
        <p:sld r:id="rId20"/>
        <p:sld r:id="rId22"/>
        <p:sld r:id="rId23"/>
        <p:sld r:id="rId24"/>
        <p:sld r:id="rId27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2C58A-06C6-45D0-BCB2-450AF79E158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AC207-D0DB-4189-9EFE-99968D56618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168F-27D5-47E5-A5E2-F787F560E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83DE-94F5-4D22-AEA7-B3847BE7A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D3A9-FA26-4242-8540-8EDBFD60D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4418-A6D0-48F3-8206-7CB3F2115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C4A07-453E-4DE1-BA41-97CEB29D8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0442A-F675-4960-BCC6-5C6364045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59E79-2479-4FA5-832C-F9E77E1AC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32478-8709-4E77-91A2-1FDFC3995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8D957-5EBD-4297-BEEF-2EB77DAC3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2FE9C-9935-4CDB-8848-950A2ED13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655FC-94EE-4630-AAAB-E7AB3EAD2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7A7B-7637-4EF2-9849-6C5C3B345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1817E-06B3-4827-B201-D8E108620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AF424-E39B-4AD3-9600-C7D8307FF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F85C4-E9DA-4EEA-950F-47436E7F7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1CDDF-9589-4C3E-9A52-2DA44C90C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35E2A-21AD-48E7-B66B-4BBFF49C5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515F88-AE59-46B9-9BB8-584548AB4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BECC50-9F80-4C02-9D5C-87707DFD4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6A9648-2745-4C55-9E09-AE1CC04FF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11D3D7-1219-4C4F-A8A7-3737767BD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D0678F-7F8A-44AA-8C0E-7FA555DA8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7954-F23A-4BAB-B9EC-CAC473B36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4696FB-80CC-46A1-A920-8ACA84180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829743-38B7-4230-95DF-8E7C8F627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C2ABEF-B719-484F-990C-EAA343738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9D906E-0750-4765-92D7-5F7AB9764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AEA540-815A-40BE-BF8F-A02BF22F7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AC505A-8D4F-403F-8280-F7FCF2E9E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4C00CE-39DB-4A9F-8AC7-7DAB0C905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5A31F8-9091-40A0-B3AD-8649B251F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DEF626-CC69-4EFC-827A-46FBCCE9E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0EC80D-AC71-4322-87BB-096A74011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3258-B5BD-46DC-B137-D62754F55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1BDA4C-1140-4062-B21B-DE675E8B2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B7E30A-E7B0-4FE2-9BCD-FDD84B9D7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EBE6CE-5921-4E09-B814-3B0865B9C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3D5E1B-2CB4-49EE-9DDB-693CD433F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979A90-EF26-400B-AD50-55F3A562E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29E469-3D88-4E37-9ABD-E013FF151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D5DC12-843B-4966-AFF5-7FF38CEAA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C972D2-E70E-42C7-904C-1A0F7CA7A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EF40A8-FCE3-42F9-8144-32A6DBBC4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F2707F-A85C-4649-BA72-21AAFE899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1AA3-C596-49C5-A6F4-B24E331AF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3559DC-A3DD-4817-8516-C42502433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779B21-D43F-469C-BB04-753B7BC4D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5C25EA-9FDF-411E-9933-1BB7DAB7D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418C42-E30A-40A4-9142-25D48A987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C82867-C1A6-4AC5-BCDD-ED229377F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6806B7-D4CA-4415-B9B8-8FB562A7F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761253-2497-4E34-9DAD-D09DDDCE4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229985-5BC0-46D1-A1B5-E2E045D64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5722C9-A867-4263-A28C-5AB14D276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A17CB7-4A97-4310-AE37-5D5B96E2E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E2F1-F30B-4B45-A317-7DB382758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BE1E30-B508-4FEC-B49B-C2D9D3876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4615D5-8918-4450-8CC1-026251B7D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15E558-EBF7-44D0-8FD9-57BA1AFF3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602040-A937-49AE-9C62-0BA28D0E7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F64A36-930B-4416-A431-062935D1F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926F77-9FD9-460A-A977-7C839C72B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80FA74-555D-463F-B26B-BAA1E3984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E73833-F2B6-4249-8477-ECE12F340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48555A-38F1-4894-AFA2-E624C9646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3F1255-6625-4BA5-BB68-95C8FE677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FF5C-F990-4D57-B642-804A90F79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C44A2F-95C5-4712-8CD2-BE4989B02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875E3F-985D-4396-925B-3BE692AE9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48F1A9-C81A-453D-B561-188F3DAB9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2CFE1E-4350-45D8-9759-0AE145904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ACBE03-6006-4155-B768-96D5F0916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4D1B8B-C15E-47E6-8BEF-6B02CE864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BBB15C-56E1-4E87-8FDD-906D8294E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BF7AAE-5E5C-4382-9DB3-E7A4CCAA5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DBDC36-504E-4C56-A6FF-1C6504003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C4F32B-2735-4AE1-8933-5BC773C48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4B6C-90C5-4EBF-B622-F1C4205D3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F3035A-2116-41F1-B813-CD326374F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57F15C-DDB5-4C78-8AC5-66360DF31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CDA878-ED82-4557-A539-DBCDAC5FD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EC2D19-6932-4D98-9763-59E8AAA7B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F5C5CD-7FD6-42D6-A363-114A27AD3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C19D93-6D4D-45B1-86A4-8D52318A6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A32605-5CE8-4869-8425-2C871AA69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E1C891-F93D-4E1E-B12F-FA70C891A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08FE70-6BCE-4180-8768-02E45663E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45CE65-C19E-4CB2-8ACE-FBA7BB1F8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FD59-0EE4-4B60-9130-A77CBB1CF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ED7C56-60F1-4A96-8867-4BA9CAE6C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43D4C3-8B49-48E0-913C-F2207AA84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00807B-96C9-41C8-A93E-D4E0158C3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F965C8-7CEB-4EE6-BA4B-DDE8A1D0D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72FACD-CD69-4558-AC39-45196C0D4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D61F34-7546-411F-B80D-FB2A34819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A4C76A-2196-4DE6-8307-102A91D8D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05E19-7AD3-425D-AB74-1A31B1C021B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43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20A6E-5A4E-4D43-80EB-39402410728E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9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7E84E-32F1-4017-93DD-E2F2A6B6DD33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97C09-C83E-4485-9A74-8A6BD3A18647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86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2475B-3856-4705-B53A-FF4B29E3E9C7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34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7E342-E66B-4EBA-8E5E-40B8D1A0A0F6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82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C15F2-493E-49D8-AED5-132D6B2ECB8A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330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22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ftr" idx="23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 type="sldNum" idx="24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C57A6-06CC-479A-8A0F-5EC62455F48D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Рафис Корбан и</a:t>
            </a:r>
            <a:r>
              <a:rPr b="0" lang="tt-RU" sz="4400" spc="-1" strike="noStrike">
                <a:solidFill>
                  <a:srgbClr val="ffffff"/>
                </a:solidFill>
                <a:latin typeface="Candara"/>
              </a:rPr>
              <a:t>җаты.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3564000" y="3789360"/>
            <a:ext cx="5400720" cy="204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 Арча районы Субаш-Аты башлангыч мәктәбе укытучысы Нәгыймова Роза Рәгать кызы 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5" name="Прямоугольник 3"/>
          <p:cNvSpPr/>
          <p:nvPr/>
        </p:nvSpPr>
        <p:spPr>
          <a:xfrm>
            <a:off x="971640" y="5805360"/>
            <a:ext cx="1368360" cy="83340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2-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1" name="Рисунок 4" descr="SAM_0439.JPG"/>
          <p:cNvPicPr/>
          <p:nvPr/>
        </p:nvPicPr>
        <p:blipFill>
          <a:blip r:embed="rId1"/>
          <a:stretch/>
        </p:blipFill>
        <p:spPr>
          <a:xfrm>
            <a:off x="1835280" y="1700280"/>
            <a:ext cx="4581360" cy="3092400"/>
          </a:xfrm>
          <a:prstGeom prst="rect">
            <a:avLst/>
          </a:prstGeom>
          <a:ln w="0">
            <a:noFill/>
          </a:ln>
        </p:spPr>
      </p:pic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фис абыйның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игырьләрен генә түгел, үзен дә бик ярата балалар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0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1000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928440"/>
            <a:ext cx="822960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0" lang="tt-RU" sz="2200" spc="-1" strike="noStrike">
                <a:solidFill>
                  <a:srgbClr val="000000"/>
                </a:solidFill>
                <a:latin typeface="Calibri"/>
              </a:rPr>
              <a:t>Рафис  Корбанның  балалар драматургиясен баету юнәлешендәге  иҗади эшчәнлеге дә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игътибарга лаек. Аның «Ку</a:t>
            </a:r>
            <a:r>
              <a:rPr b="0" lang="tt-RU" sz="2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куын җиңгән  куян», «Керпе малае дуслар эзли» һәм башка пьесалары сәхнәләштерелде.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Прямоугольник 2"/>
          <p:cNvSpPr/>
          <p:nvPr/>
        </p:nvSpPr>
        <p:spPr>
          <a:xfrm>
            <a:off x="500040" y="3071880"/>
            <a:ext cx="82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фис Корбан җыр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екстлары авторы буларак та билгеле. Аның күп кенә  шигырьләренә профессиональ һәм  үзешчән композиторлар  тарафыннан  көйләр  язылга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2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2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2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2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tt-RU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tt-RU" sz="3200" spc="-1" strike="noStrike">
                <a:solidFill>
                  <a:srgbClr val="000000"/>
                </a:solidFill>
                <a:latin typeface="Calibri"/>
              </a:rPr>
              <a:t>Түз инде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6" name="Содержимое 4" descr="SAM_0455.JPG"/>
          <p:cNvPicPr/>
          <p:nvPr/>
        </p:nvPicPr>
        <p:blipFill>
          <a:blip r:embed="rId1"/>
          <a:stretch/>
        </p:blipFill>
        <p:spPr>
          <a:xfrm>
            <a:off x="4788000" y="1484280"/>
            <a:ext cx="2940120" cy="3781440"/>
          </a:xfrm>
          <a:prstGeom prst="rect">
            <a:avLst/>
          </a:prstGeom>
          <a:ln w="0">
            <a:noFill/>
          </a:ln>
        </p:spPr>
      </p:pic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47184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000000"/>
                </a:solidFill>
                <a:latin typeface="Calibri"/>
              </a:rPr>
              <a:t>Куянымның бер колагы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000000"/>
                </a:solidFill>
                <a:latin typeface="Calibri"/>
              </a:rPr>
              <a:t>Белмим ,кайсы өзгәндер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000000"/>
                </a:solidFill>
                <a:latin typeface="Calibri"/>
              </a:rPr>
              <a:t>Бик тә авырткандыр инд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000000"/>
                </a:solidFill>
                <a:latin typeface="Calibri"/>
              </a:rPr>
              <a:t>Белмим, ничек түзгәндер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000000"/>
                </a:solidFill>
                <a:latin typeface="Calibri"/>
              </a:rPr>
              <a:t>Түзүен дә түзгәндер ул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000000"/>
                </a:solidFill>
                <a:latin typeface="Calibri"/>
              </a:rPr>
              <a:t>Инде менә моннан соң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000000"/>
                </a:solidFill>
                <a:latin typeface="Calibri"/>
              </a:rPr>
              <a:t>Мин сөйләгән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шигырьләрн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000000"/>
                </a:solidFill>
                <a:latin typeface="Calibri"/>
              </a:rPr>
              <a:t>Ничек итеп тыңлар соң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000000"/>
                </a:solidFill>
                <a:latin typeface="Calibri"/>
              </a:rPr>
              <a:t>Әни эштән кайтсын инде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000000"/>
                </a:solidFill>
                <a:latin typeface="Calibri"/>
              </a:rPr>
              <a:t>Түз куяным, түз генә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000000"/>
                </a:solidFill>
                <a:latin typeface="Calibri"/>
              </a:rPr>
              <a:t>Әниемнән яңа кола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000000"/>
                </a:solidFill>
                <a:latin typeface="Calibri"/>
              </a:rPr>
              <a:t>Тектерермен үзеңә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2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2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1000" fill="hold"/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1000" fill="hold"/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5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1000" fill="hold"/>
                                        <p:tgtEl>
                                          <p:spTgt spid="4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1000" fill="hold"/>
                                        <p:tgtEl>
                                          <p:spTgt spid="4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5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1000" fill="hold"/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6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1000" fill="hold"/>
                                        <p:tgtEl>
                                          <p:spTgt spid="4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4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6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1000" fill="hold"/>
                                        <p:tgtEl>
                                          <p:spTgt spid="4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4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4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1000" fill="hold"/>
                                        <p:tgtEl>
                                          <p:spTgt spid="4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4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1000" fill="hold"/>
                                        <p:tgtEl>
                                          <p:spTgt spid="4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1000" fill="hold"/>
                                        <p:tgtEl>
                                          <p:spTgt spid="4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1000" fill="hold"/>
                                        <p:tgtEl>
                                          <p:spTgt spid="4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4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1000" fill="hold"/>
                                        <p:tgtEl>
                                          <p:spTgt spid="4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9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4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1000" fill="hold"/>
                                        <p:tgtEl>
                                          <p:spTgt spid="4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9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0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tt-RU" sz="2400" spc="-1" strike="noStrike">
                <a:solidFill>
                  <a:srgbClr val="000000"/>
                </a:solidFill>
                <a:latin typeface="Calibri"/>
              </a:rPr>
              <a:t>“ </a:t>
            </a:r>
            <a:r>
              <a:rPr b="1" lang="tt-RU" sz="2400" spc="-1" strike="noStrike">
                <a:solidFill>
                  <a:srgbClr val="000000"/>
                </a:solidFill>
                <a:latin typeface="Calibri"/>
              </a:rPr>
              <a:t>Тыныч  булыгыз.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9" name="Содержимое 4" descr="SAM_0452.JPG"/>
          <p:cNvPicPr/>
          <p:nvPr/>
        </p:nvPicPr>
        <p:blipFill>
          <a:blip r:embed="rId1"/>
          <a:stretch/>
        </p:blipFill>
        <p:spPr>
          <a:xfrm>
            <a:off x="4788000" y="1341360"/>
            <a:ext cx="2851200" cy="3238560"/>
          </a:xfrm>
          <a:prstGeom prst="rect">
            <a:avLst/>
          </a:prstGeom>
          <a:ln w="0">
            <a:noFill/>
          </a:ln>
        </p:spPr>
      </p:pic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4005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  керүе рәхәт тә соң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Җәйге кызу челләдә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Йөзә белмәсәм дә тормый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лынып беркемгә дә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рәнгә дә кереп китәм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рмыйм әле сакланып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өнки йөзәм крокодилның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 үзенә атланып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окодил дигәч тә, ала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йламагыз  әллә н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ын түгел ул, аны бар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Өреп кабартты ән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0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7" dur="2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1000" fill="hold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1000" fill="hold"/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1000" fill="hold"/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1000" fill="hold"/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3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1000" fill="hold"/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3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1000" fill="hold"/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4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1000" fill="hold"/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1000" fill="hold"/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1000" fill="hold"/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5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1000" fill="hold"/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5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1000" fill="hold"/>
                                        <p:tgtEl>
                                          <p:spTgt spid="4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4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6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1000" fill="hold"/>
                                        <p:tgtEl>
                                          <p:spTgt spid="4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1000" fill="hold"/>
                                        <p:tgtEl>
                                          <p:spTgt spid="4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69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71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3008160" cy="58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t-RU" sz="36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tt-RU" sz="3600" spc="-1" strike="noStrike">
                <a:solidFill>
                  <a:srgbClr val="000000"/>
                </a:solidFill>
                <a:latin typeface="Calibri"/>
              </a:rPr>
              <a:t>Ташбака”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856800"/>
            <a:ext cx="34718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шбаканы кызганам  мин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рдәм итәр идем дә..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Үз өен һаман күтәреп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Йөртә мескен иңендә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р явызы алып китә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үрмәсен тагын диеп,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улай күтәреп йөртәдер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е, мөгаен, өен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ң, ул ташны кемгә кирәк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еп беләдер инде?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Һәркемгә өй кадерле шул,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уңа күрәдер инде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шбаканың  хәлен белдем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шкалар да аңлыйдыр-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Өен күтәреп барганга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ызу йөри алмыйдыр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3" name="Содержимое 6" descr="SAM_0438.JPG"/>
          <p:cNvPicPr/>
          <p:nvPr/>
        </p:nvPicPr>
        <p:blipFill>
          <a:blip r:embed="rId1"/>
          <a:stretch/>
        </p:blipFill>
        <p:spPr>
          <a:xfrm>
            <a:off x="4859280" y="1413000"/>
            <a:ext cx="3238560" cy="33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0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2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2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3000" fill="hold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3000" fill="hold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8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3000" fill="hold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3000" fill="hold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3000" fill="hold"/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3000" fill="hold"/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9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3000" fill="hold"/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3000" fill="hold"/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30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3000" fill="hold"/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3000" fill="hold"/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3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3000" fill="hold"/>
                                        <p:tgtEl>
                                          <p:spTgt spid="4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3000" fill="hold"/>
                                        <p:tgtEl>
                                          <p:spTgt spid="4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31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3000" fill="hold"/>
                                        <p:tgtEl>
                                          <p:spTgt spid="4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3000" fill="hold"/>
                                        <p:tgtEl>
                                          <p:spTgt spid="4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31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3000" fill="hold"/>
                                        <p:tgtEl>
                                          <p:spTgt spid="4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3000" fill="hold"/>
                                        <p:tgtEl>
                                          <p:spTgt spid="4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32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3000" fill="hold"/>
                                        <p:tgtEl>
                                          <p:spTgt spid="4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3000" fill="hold"/>
                                        <p:tgtEl>
                                          <p:spTgt spid="4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29000"/>
                            </p:stCondLst>
                            <p:childTnLst>
                              <p:par>
                                <p:cTn id="32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3000" fill="hold"/>
                                        <p:tgtEl>
                                          <p:spTgt spid="4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3000" fill="hold"/>
                                        <p:tgtEl>
                                          <p:spTgt spid="4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32000"/>
                            </p:stCondLst>
                            <p:childTnLst>
                              <p:par>
                                <p:cTn id="3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3000" fill="hold"/>
                                        <p:tgtEl>
                                          <p:spTgt spid="4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3000" fill="hold"/>
                                        <p:tgtEl>
                                          <p:spTgt spid="4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35000"/>
                            </p:stCondLst>
                            <p:childTnLst>
                              <p:par>
                                <p:cTn id="33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3000" fill="hold"/>
                                        <p:tgtEl>
                                          <p:spTgt spid="4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3000" fill="hold"/>
                                        <p:tgtEl>
                                          <p:spTgt spid="4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38000"/>
                            </p:stCondLst>
                            <p:childTnLst>
                              <p:par>
                                <p:cTn id="34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3000" fill="hold"/>
                                        <p:tgtEl>
                                          <p:spTgt spid="42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3000" fill="hold"/>
                                        <p:tgtEl>
                                          <p:spTgt spid="42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41000"/>
                            </p:stCondLst>
                            <p:childTnLst>
                              <p:par>
                                <p:cTn id="34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3000" fill="hold"/>
                                        <p:tgtEl>
                                          <p:spTgt spid="42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3000" fill="hold"/>
                                        <p:tgtEl>
                                          <p:spTgt spid="42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44000"/>
                            </p:stCondLst>
                            <p:childTnLst>
                              <p:par>
                                <p:cTn id="35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3000" fill="hold"/>
                                        <p:tgtEl>
                                          <p:spTgt spid="42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3000" fill="hold"/>
                                        <p:tgtEl>
                                          <p:spTgt spid="42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47000"/>
                            </p:stCondLst>
                            <p:childTnLst>
                              <p:par>
                                <p:cTn id="35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3000" fill="hold"/>
                                        <p:tgtEl>
                                          <p:spTgt spid="42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3000" fill="hold"/>
                                        <p:tgtEl>
                                          <p:spTgt spid="42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50000"/>
                            </p:stCondLst>
                            <p:childTnLst>
                              <p:par>
                                <p:cTn id="361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63" dur="2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347640" y="259920"/>
            <a:ext cx="231444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ес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250560" y="907920"/>
            <a:ext cx="8435880" cy="583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tt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Рафис Корбан ничәнче елда туган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)1957елда                        б) 1960елда                  с)1961елд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Рафис Корбанның беренче шигыре  кайчан һәм кайда басыла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)1971 елда “Яшь ленинчы”           д)1970елда”Салават күпере”                      в)1957елда “Сабыйга”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Р.Корбанның беренче басылган шигырьләр китабының исем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)”Сөзгәк болыт”               л)”Буран кайда йоклый?”       н)”Җиде төстә кунакта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1993елда кайсы китабы өчен автор Ш.Маннур исемендәге бүләккә лаек була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 ”Буран кайда йоклый?”        т)” Сөзгәк болыт”          о)”Капкорсак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”Түзәм инде”шигырендә куянның колагы нишләгән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)өзелгән                 щ)туңган                   в)өшегә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”Тыныч булыгыз”   шигырендә малай нишли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ашый                е)су керә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укы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Шигырьдә </a:t>
            </a:r>
            <a:r>
              <a:rPr b="1" lang="tt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шбака  нәрсә</a:t>
            </a:r>
            <a:r>
              <a:rPr b="1" lang="tt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үтәреп йөри?     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tt-RU" sz="2000" spc="-1" strike="noStrike">
                <a:solidFill>
                  <a:srgbClr val="000000"/>
                </a:solidFill>
                <a:latin typeface="Calibri"/>
              </a:rPr>
              <a:t>ц) өен          б)китап              п)үлән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ест </a:t>
            </a:r>
            <a:r>
              <a:rPr b="0" lang="tt-RU" sz="4400" spc="-1" strike="noStrike">
                <a:solidFill>
                  <a:srgbClr val="000000"/>
                </a:solidFill>
                <a:latin typeface="Calibri"/>
              </a:rPr>
              <a:t>җаваплар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М - </a:t>
            </a:r>
            <a:r>
              <a:rPr b="0" lang="tt-RU" sz="3200" spc="-1" strike="noStrike">
                <a:solidFill>
                  <a:srgbClr val="000000"/>
                </a:solidFill>
                <a:latin typeface="Calibri"/>
              </a:rPr>
              <a:t>1957 елд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tt-RU" sz="3200" spc="-1" strike="noStrike">
                <a:solidFill>
                  <a:srgbClr val="000000"/>
                </a:solidFill>
                <a:latin typeface="Calibri"/>
              </a:rPr>
              <a:t>О - </a:t>
            </a:r>
            <a:r>
              <a:rPr b="0" lang="tt-RU" sz="3200" spc="-1" strike="noStrike">
                <a:solidFill>
                  <a:srgbClr val="000000"/>
                </a:solidFill>
                <a:latin typeface="Calibri"/>
              </a:rPr>
              <a:t>1971елда “Яшь ленинчы”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tt-RU" sz="3200" spc="-1" strike="noStrike">
                <a:solidFill>
                  <a:srgbClr val="000000"/>
                </a:solidFill>
                <a:latin typeface="Calibri"/>
              </a:rPr>
              <a:t>Л - </a:t>
            </a:r>
            <a:r>
              <a:rPr b="0" lang="tt-RU" sz="3200" spc="-1" strike="noStrike">
                <a:solidFill>
                  <a:srgbClr val="000000"/>
                </a:solidFill>
                <a:latin typeface="Calibri"/>
              </a:rPr>
              <a:t>”Буран кайда йоклый?”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tt-RU" sz="3200" spc="-1" strike="noStrike">
                <a:solidFill>
                  <a:srgbClr val="000000"/>
                </a:solidFill>
                <a:latin typeface="Calibri"/>
              </a:rPr>
              <a:t>О - </a:t>
            </a:r>
            <a:r>
              <a:rPr b="0" lang="tt-RU" sz="3200" spc="-1" strike="noStrike">
                <a:solidFill>
                  <a:srgbClr val="000000"/>
                </a:solidFill>
                <a:latin typeface="Calibri"/>
              </a:rPr>
              <a:t>“Капкорсак”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tt-RU" sz="3200" spc="-1" strike="noStrike">
                <a:solidFill>
                  <a:srgbClr val="000000"/>
                </a:solidFill>
                <a:latin typeface="Calibri"/>
              </a:rPr>
              <a:t>Д - </a:t>
            </a:r>
            <a:r>
              <a:rPr b="0" lang="tt-RU" sz="3200" spc="-1" strike="noStrike">
                <a:solidFill>
                  <a:srgbClr val="000000"/>
                </a:solidFill>
                <a:latin typeface="Calibri"/>
              </a:rPr>
              <a:t>Өзелгән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tt-RU" sz="3200" spc="-1" strike="noStrike">
                <a:solidFill>
                  <a:srgbClr val="000000"/>
                </a:solidFill>
                <a:latin typeface="Calibri"/>
              </a:rPr>
              <a:t>Е - </a:t>
            </a:r>
            <a:r>
              <a:rPr b="0" lang="tt-RU" sz="3200" spc="-1" strike="noStrike">
                <a:solidFill>
                  <a:srgbClr val="000000"/>
                </a:solidFill>
                <a:latin typeface="Calibri"/>
              </a:rPr>
              <a:t>Су керә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tt-RU" sz="3200" spc="-1" strike="noStrike">
                <a:solidFill>
                  <a:srgbClr val="000000"/>
                </a:solidFill>
                <a:latin typeface="Calibri"/>
              </a:rPr>
              <a:t>Ц - </a:t>
            </a:r>
            <a:r>
              <a:rPr b="0" lang="tt-RU" sz="3200" spc="-1" strike="noStrike">
                <a:solidFill>
                  <a:srgbClr val="000000"/>
                </a:solidFill>
                <a:latin typeface="Calibri"/>
              </a:rPr>
              <a:t>Өен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 материаллар «Салават күпере» журналыннан алынды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2003ел №7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nodeType="clickEffect" fill="hold">
                      <p:stCondLst>
                        <p:cond delay="0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7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11750"/>
                            </p:stCondLst>
                            <p:childTnLst>
                              <p:par>
                                <p:cTn id="376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78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910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312" autoRev="1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272" fill="hold">
                                          <p:stCondLst>
                                            <p:cond delay="1728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афис Корбан(1957ел 1гыйнвар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7" name="Рисунок 4" descr="SAM_0437.JPG"/>
          <p:cNvPicPr/>
          <p:nvPr/>
        </p:nvPicPr>
        <p:blipFill>
          <a:blip r:embed="rId2"/>
          <a:stretch/>
        </p:blipFill>
        <p:spPr>
          <a:xfrm>
            <a:off x="2357280" y="1071720"/>
            <a:ext cx="4000680" cy="3643200"/>
          </a:xfrm>
          <a:prstGeom prst="rect">
            <a:avLst/>
          </a:prstGeom>
          <a:ln w="0">
            <a:noFill/>
          </a:ln>
        </p:spPr>
      </p:pic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792440" y="5366880"/>
            <a:ext cx="5486400" cy="12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ектау районы Кече Битаман авылында туа. Башлангыч белемне туган авылында ала. Урта мәктәпне тәмамлагач Казанга укырга китә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10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785960" y="4785840"/>
            <a:ext cx="5486400" cy="567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tt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лачак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гыйрь әти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әнисе белән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0" name="Рисунок 4" descr="SAM_0450.JPG"/>
          <p:cNvPicPr/>
          <p:nvPr/>
        </p:nvPicPr>
        <p:blipFill>
          <a:blip r:embed="rId1"/>
          <a:stretch/>
        </p:blipFill>
        <p:spPr>
          <a:xfrm>
            <a:off x="2124000" y="1109520"/>
            <a:ext cx="4824360" cy="3618000"/>
          </a:xfrm>
          <a:prstGeom prst="rect">
            <a:avLst/>
          </a:prstGeom>
          <a:ln w="0">
            <a:noFill/>
          </a:ln>
        </p:spPr>
      </p:pic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3" name="Рисунок 4" descr="SAM_0448.JPG"/>
          <p:cNvPicPr/>
          <p:nvPr/>
        </p:nvPicPr>
        <p:blipFill>
          <a:blip r:embed="rId2"/>
          <a:stretch/>
        </p:blipFill>
        <p:spPr>
          <a:xfrm>
            <a:off x="1979640" y="1290600"/>
            <a:ext cx="4680000" cy="3433680"/>
          </a:xfrm>
          <a:prstGeom prst="rect">
            <a:avLst/>
          </a:prstGeom>
          <a:ln w="0">
            <a:noFill/>
          </a:ln>
        </p:spPr>
      </p:pic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tt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 хәйләкәр малайлар  арасында да Рафис бар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3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0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6" name="Рисунок 8" descr="SAM_0453.JPG"/>
          <p:cNvPicPr/>
          <p:nvPr/>
        </p:nvPicPr>
        <p:blipFill>
          <a:blip r:embed="rId2"/>
          <a:stretch/>
        </p:blipFill>
        <p:spPr>
          <a:xfrm>
            <a:off x="2124000" y="907920"/>
            <a:ext cx="4017960" cy="3414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428480" y="4642920"/>
            <a:ext cx="607212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3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tt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шлангыч мәктәптә 9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шьләрендә чакта ук каләм тирбәтә башлый. 1971елда беренче шигыре «Таң көтеп» «Яшь ленинчы» (хәзерге «Сабантуй») газетасында басылып чыга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1000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9" name="Рисунок 4" descr="SAM_0447.JPG"/>
          <p:cNvPicPr/>
          <p:nvPr/>
        </p:nvPicPr>
        <p:blipFill>
          <a:blip r:embed="rId2"/>
          <a:stretch/>
        </p:blipFill>
        <p:spPr>
          <a:xfrm>
            <a:off x="1835280" y="1521000"/>
            <a:ext cx="4797360" cy="359712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792440" y="5366880"/>
            <a:ext cx="5486400" cy="12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берт абый Миңнуллин Рафис Корбанның яңа язган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игырьләрен укы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6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1" dur="1000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56800" y="457164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87-”Буран кайда йоклый?”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ренче шигырьләр  китабы.</a:t>
            </a:r>
            <a:br>
              <a:rPr sz="1700"/>
            </a:br>
            <a:r>
              <a:rPr b="0" lang="tt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91-”Сөзгәк болыт.”</a:t>
            </a:r>
            <a:br>
              <a:rPr sz="1700"/>
            </a:br>
            <a:r>
              <a:rPr b="0" lang="tt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92-”Капкорсак”</a:t>
            </a:r>
            <a:br>
              <a:rPr sz="1700"/>
            </a:br>
            <a:r>
              <a:rPr b="0" lang="tt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993-”Капкорсак һәм Бавырсак.” исемле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игъри җыентыклары нәшер</a:t>
            </a:r>
            <a:r>
              <a:rPr b="0" lang="tt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ителә.                                                    </a:t>
            </a:r>
            <a:br>
              <a:rPr sz="1300"/>
            </a:b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2" name="Рисунок 4" descr="SAM_0446.JPG"/>
          <p:cNvPicPr/>
          <p:nvPr/>
        </p:nvPicPr>
        <p:blipFill>
          <a:blip r:embed="rId1"/>
          <a:stretch/>
        </p:blipFill>
        <p:spPr>
          <a:xfrm>
            <a:off x="1476360" y="1268280"/>
            <a:ext cx="4349880" cy="3059280"/>
          </a:xfrm>
          <a:prstGeom prst="rect">
            <a:avLst/>
          </a:prstGeom>
          <a:ln w="0">
            <a:noFill/>
          </a:ln>
        </p:spPr>
      </p:pic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856800" y="5715000"/>
            <a:ext cx="7643880" cy="9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tt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пкорсак” китабы өчен автор 1993елда Ш. Маннур исемендәге әдәби бүләккә лаек бул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1000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5" name="Рисунок 4" descr="SAM_0442.JPG"/>
          <p:cNvPicPr/>
          <p:nvPr/>
        </p:nvPicPr>
        <p:blipFill>
          <a:blip r:embed="rId1"/>
          <a:stretch/>
        </p:blipFill>
        <p:spPr>
          <a:xfrm>
            <a:off x="2268360" y="981000"/>
            <a:ext cx="3888000" cy="3360960"/>
          </a:xfrm>
          <a:prstGeom prst="rect">
            <a:avLst/>
          </a:prstGeom>
          <a:ln w="0">
            <a:noFill/>
          </a:ln>
        </p:spPr>
      </p:pic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фис физкультура белән дә дус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3" dur="2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1000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tt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услар-каләмдәшләр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8" name="Рисунок 4" descr="SAM_0440.JPG"/>
          <p:cNvPicPr/>
          <p:nvPr/>
        </p:nvPicPr>
        <p:blipFill>
          <a:blip r:embed="rId1"/>
          <a:stretch/>
        </p:blipFill>
        <p:spPr>
          <a:xfrm>
            <a:off x="2124000" y="1628640"/>
            <a:ext cx="4272120" cy="3203640"/>
          </a:xfrm>
          <a:prstGeom prst="rect">
            <a:avLst/>
          </a:prstGeom>
          <a:ln w="0">
            <a:noFill/>
          </a:ln>
        </p:spPr>
      </p:pic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tt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.Әюпов, Р.Корбан, Р.Кукушкин, С.Шәмси (сулдан уңга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2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2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10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7T16:29:07Z</dcterms:created>
  <dc:creator>Admin</dc:creator>
  <dc:description/>
  <dc:language>en-US</dc:language>
  <cp:lastModifiedBy>Роза Нагимова</cp:lastModifiedBy>
  <dcterms:modified xsi:type="dcterms:W3CDTF">2013-02-27T12:43:21Z</dcterms:modified>
  <cp:revision>43</cp:revision>
  <dc:subject/>
  <dc:title>Рафис Корбан (1957елда 1гыйнварда)</dc:title>
</cp:coreProperties>
</file>