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438-BF47-4D09-91AC-EB4150D8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E4B-2DE2-4AEC-94FC-A97E09B6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DED-7DA3-4048-9312-C55A856C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FB5-77C4-4C8F-AE5D-B6FFDF6E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3FA-F683-407F-A0A2-B2CF439B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570-8A88-41A0-95C0-5206F4A4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5C2-0A3B-4101-98A9-46B0137D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37D-24E0-40C0-AD08-DE255D1C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29A-D52D-48B5-B081-E2748E34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8DB-FA14-43BA-B533-79319876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CD7-DB5D-4A6A-A44C-8E8C9312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C40-B5F1-44D2-A178-FE7C2B2D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0BF6-59A3-4545-BC19-A997D787F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ешение задач на определение поясного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942920" cy="576360"/>
          </a:xfrm>
          <a:custGeom>
            <a:avLst/>
            <a:gdLst>
              <a:gd name="textAreaLeft" fmla="*/ 37080 w 1942920"/>
              <a:gd name="textAreaRight" fmla="*/ 1905840 w 1942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2782" h="21600">
                <a:moveTo>
                  <a:pt x="0" y="0"/>
                </a:moveTo>
                <a:lnTo>
                  <a:pt x="72782" y="0"/>
                </a:lnTo>
                <a:lnTo>
                  <a:pt x="72782" y="21600"/>
                </a:lnTo>
                <a:lnTo>
                  <a:pt x="0" y="21600"/>
                </a:lnTo>
                <a:close/>
              </a:path>
              <a:path fill="lightenLess" w="72782" h="21600">
                <a:moveTo>
                  <a:pt x="0" y="0"/>
                </a:moveTo>
                <a:lnTo>
                  <a:pt x="72782" y="0"/>
                </a:lnTo>
                <a:lnTo>
                  <a:pt x="71382" y="1400"/>
                </a:lnTo>
                <a:lnTo>
                  <a:pt x="1400" y="1400"/>
                </a:lnTo>
                <a:close/>
              </a:path>
              <a:path fill="darken" w="72782" h="21600">
                <a:moveTo>
                  <a:pt x="72782" y="0"/>
                </a:moveTo>
                <a:lnTo>
                  <a:pt x="72782" y="21600"/>
                </a:lnTo>
                <a:lnTo>
                  <a:pt x="71382" y="20200"/>
                </a:lnTo>
                <a:lnTo>
                  <a:pt x="71382" y="1400"/>
                </a:lnTo>
                <a:close/>
              </a:path>
              <a:path fill="darkenLess" w="72782" h="21600">
                <a:moveTo>
                  <a:pt x="72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382" y="20200"/>
                </a:lnTo>
                <a:close/>
              </a:path>
              <a:path fill="lighten" w="72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3645000"/>
            <a:ext cx="3240360" cy="2859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26880" y="6453360"/>
            <a:ext cx="134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(с) Петров А.А.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йсовый самолёт вылетел из Владивосто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X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асовой поя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7 ут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 местному времени в Москв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I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асовой поя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и 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8 ча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осковскому време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землился в Москве. Сколько времени продолжался пол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942920" cy="576360"/>
          </a:xfrm>
          <a:custGeom>
            <a:avLst/>
            <a:gdLst>
              <a:gd name="textAreaLeft" fmla="*/ 37080 w 1942920"/>
              <a:gd name="textAreaRight" fmla="*/ 1905840 w 1942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2782" h="21600">
                <a:moveTo>
                  <a:pt x="0" y="0"/>
                </a:moveTo>
                <a:lnTo>
                  <a:pt x="72782" y="0"/>
                </a:lnTo>
                <a:lnTo>
                  <a:pt x="72782" y="21600"/>
                </a:lnTo>
                <a:lnTo>
                  <a:pt x="0" y="21600"/>
                </a:lnTo>
                <a:close/>
              </a:path>
              <a:path fill="lightenLess" w="72782" h="21600">
                <a:moveTo>
                  <a:pt x="0" y="0"/>
                </a:moveTo>
                <a:lnTo>
                  <a:pt x="72782" y="0"/>
                </a:lnTo>
                <a:lnTo>
                  <a:pt x="71382" y="1400"/>
                </a:lnTo>
                <a:lnTo>
                  <a:pt x="1400" y="1400"/>
                </a:lnTo>
                <a:close/>
              </a:path>
              <a:path fill="darken" w="72782" h="21600">
                <a:moveTo>
                  <a:pt x="72782" y="0"/>
                </a:moveTo>
                <a:lnTo>
                  <a:pt x="72782" y="21600"/>
                </a:lnTo>
                <a:lnTo>
                  <a:pt x="71382" y="20200"/>
                </a:lnTo>
                <a:lnTo>
                  <a:pt x="71382" y="1400"/>
                </a:lnTo>
                <a:close/>
              </a:path>
              <a:path fill="darkenLess" w="72782" h="21600">
                <a:moveTo>
                  <a:pt x="72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382" y="20200"/>
                </a:lnTo>
                <a:close/>
              </a:path>
              <a:path fill="lighten" w="72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ваем карту часовых поясов в атла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5832360" cy="358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6372360" y="1773360"/>
            <a:ext cx="0" cy="180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3800" y="1360440"/>
            <a:ext cx="2568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мер часового поя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443640" y="2492280"/>
            <a:ext cx="433440" cy="122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8000" y="1792440"/>
            <a:ext cx="2366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ница во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Моск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6948360" y="6281640"/>
            <a:ext cx="1943280" cy="576360"/>
          </a:xfrm>
          <a:custGeom>
            <a:avLst/>
            <a:gdLst>
              <a:gd name="textAreaLeft" fmla="*/ 37080 w 1943280"/>
              <a:gd name="textAreaRight" fmla="*/ 1906200 w 1943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2796" h="21600">
                <a:moveTo>
                  <a:pt x="0" y="0"/>
                </a:moveTo>
                <a:lnTo>
                  <a:pt x="72796" y="0"/>
                </a:lnTo>
                <a:lnTo>
                  <a:pt x="72796" y="21600"/>
                </a:lnTo>
                <a:lnTo>
                  <a:pt x="0" y="21600"/>
                </a:lnTo>
                <a:close/>
              </a:path>
              <a:path fill="lightenLess" w="72796" h="21600">
                <a:moveTo>
                  <a:pt x="0" y="0"/>
                </a:moveTo>
                <a:lnTo>
                  <a:pt x="72796" y="0"/>
                </a:lnTo>
                <a:lnTo>
                  <a:pt x="71396" y="1400"/>
                </a:lnTo>
                <a:lnTo>
                  <a:pt x="1400" y="1400"/>
                </a:lnTo>
                <a:close/>
              </a:path>
              <a:path fill="darken" w="72796" h="21600">
                <a:moveTo>
                  <a:pt x="72796" y="0"/>
                </a:moveTo>
                <a:lnTo>
                  <a:pt x="72796" y="21600"/>
                </a:lnTo>
                <a:lnTo>
                  <a:pt x="71396" y="20200"/>
                </a:lnTo>
                <a:lnTo>
                  <a:pt x="71396" y="1400"/>
                </a:lnTo>
                <a:close/>
              </a:path>
              <a:path fill="darkenLess" w="72796" h="21600">
                <a:moveTo>
                  <a:pt x="72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396" y="20200"/>
                </a:lnTo>
                <a:close/>
              </a:path>
              <a:path fill="lighten" w="72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4800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46360" y="-792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жимайте мышкой для просмотра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740720" y="494172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50000" y="457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58920" y="24206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80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7440" y="3665520"/>
            <a:ext cx="3614400" cy="3682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гда во Владивостоке 7 у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94720" y="618480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у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365720"/>
            <a:ext cx="2952720" cy="6426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Москве: 7ч. – 7ч. = 0ч. (полноч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4653000"/>
            <a:ext cx="6265800" cy="1728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68360" y="2060280"/>
            <a:ext cx="3743640" cy="2376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3068640"/>
            <a:ext cx="3168720" cy="14655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лёт прилетел в 8 ут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Московско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ылетел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но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Московскому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43280" y="3860640"/>
            <a:ext cx="3673440" cy="6480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78640" y="1484280"/>
            <a:ext cx="6304320" cy="3988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ч. – 0ч. = 8 часов. Ответ: полёт длился 8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2627280" y="6093000"/>
            <a:ext cx="1943280" cy="576000"/>
          </a:xfrm>
          <a:custGeom>
            <a:avLst/>
            <a:gdLst>
              <a:gd name="textAreaLeft" fmla="*/ 37080 w 1943280"/>
              <a:gd name="textAreaRight" fmla="*/ 1906200 w 1943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2841" h="21600">
                <a:moveTo>
                  <a:pt x="0" y="0"/>
                </a:moveTo>
                <a:lnTo>
                  <a:pt x="72841" y="0"/>
                </a:lnTo>
                <a:lnTo>
                  <a:pt x="72841" y="21600"/>
                </a:lnTo>
                <a:lnTo>
                  <a:pt x="0" y="21600"/>
                </a:lnTo>
                <a:close/>
              </a:path>
              <a:path fill="lightenLess" w="72841" h="21600">
                <a:moveTo>
                  <a:pt x="0" y="0"/>
                </a:moveTo>
                <a:lnTo>
                  <a:pt x="72841" y="0"/>
                </a:lnTo>
                <a:lnTo>
                  <a:pt x="71441" y="1400"/>
                </a:lnTo>
                <a:lnTo>
                  <a:pt x="1400" y="1400"/>
                </a:lnTo>
                <a:close/>
              </a:path>
              <a:path fill="darken" w="72841" h="21600">
                <a:moveTo>
                  <a:pt x="72841" y="0"/>
                </a:moveTo>
                <a:lnTo>
                  <a:pt x="72841" y="21600"/>
                </a:lnTo>
                <a:lnTo>
                  <a:pt x="71441" y="20200"/>
                </a:lnTo>
                <a:lnTo>
                  <a:pt x="71441" y="1400"/>
                </a:lnTo>
                <a:close/>
              </a:path>
              <a:path fill="darkenLess" w="72841" h="21600">
                <a:moveTo>
                  <a:pt x="7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41" y="20200"/>
                </a:lnTo>
                <a:close/>
              </a:path>
              <a:path fill="lighten" w="7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р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уппа туристов совершает путешеств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ноярс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асовой поя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в Москв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I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асовой поя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 Время вылета из Красноярска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1 ча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Время в полёте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5 ча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Во сколько часо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 местному време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амолёт приземлит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скв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942920" cy="576360"/>
          </a:xfrm>
          <a:custGeom>
            <a:avLst/>
            <a:gdLst>
              <a:gd name="textAreaLeft" fmla="*/ 37080 w 1942920"/>
              <a:gd name="textAreaRight" fmla="*/ 1905840 w 1942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2782" h="21600">
                <a:moveTo>
                  <a:pt x="0" y="0"/>
                </a:moveTo>
                <a:lnTo>
                  <a:pt x="72782" y="0"/>
                </a:lnTo>
                <a:lnTo>
                  <a:pt x="72782" y="21600"/>
                </a:lnTo>
                <a:lnTo>
                  <a:pt x="0" y="21600"/>
                </a:lnTo>
                <a:close/>
              </a:path>
              <a:path fill="lightenLess" w="72782" h="21600">
                <a:moveTo>
                  <a:pt x="0" y="0"/>
                </a:moveTo>
                <a:lnTo>
                  <a:pt x="72782" y="0"/>
                </a:lnTo>
                <a:lnTo>
                  <a:pt x="71382" y="1400"/>
                </a:lnTo>
                <a:lnTo>
                  <a:pt x="1400" y="1400"/>
                </a:lnTo>
                <a:close/>
              </a:path>
              <a:path fill="darken" w="72782" h="21600">
                <a:moveTo>
                  <a:pt x="72782" y="0"/>
                </a:moveTo>
                <a:lnTo>
                  <a:pt x="72782" y="21600"/>
                </a:lnTo>
                <a:lnTo>
                  <a:pt x="71382" y="20200"/>
                </a:lnTo>
                <a:lnTo>
                  <a:pt x="71382" y="1400"/>
                </a:lnTo>
                <a:close/>
              </a:path>
              <a:path fill="darkenLess" w="72782" h="21600">
                <a:moveTo>
                  <a:pt x="72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382" y="20200"/>
                </a:lnTo>
                <a:close/>
              </a:path>
              <a:path fill="lighten" w="72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46360" y="-792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жимайте мышкой для просмотра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500720" y="5157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7440" y="587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258920" y="22046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7440" y="191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508464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92160" y="474516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в Красноярске – 11 у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1332000" y="3068640"/>
            <a:ext cx="3168720" cy="2016000"/>
          </a:xfrm>
          <a:prstGeom prst="line">
            <a:avLst/>
          </a:prstGeom>
          <a:ln cap="rnd" w="5724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43280" y="3573360"/>
            <a:ext cx="14436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720" y="328464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лёт летит в Москву 5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42000" y="5176800"/>
            <a:ext cx="3304800" cy="916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лёт прилетает в Мос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5ч. + 11ч. = 16 часов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ен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асноя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058920" y="3573360"/>
            <a:ext cx="2160360" cy="194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940360" y="5013360"/>
            <a:ext cx="2160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52160" y="2008080"/>
            <a:ext cx="3068640" cy="6732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Красноярске – 16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оскве – 16ч – 4ч =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2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16360" y="2637000"/>
            <a:ext cx="86364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788000" y="2205000"/>
            <a:ext cx="302400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endshow"/>
          </p:cNvPr>
          <p:cNvSpPr/>
          <p:nvPr/>
        </p:nvSpPr>
        <p:spPr>
          <a:xfrm>
            <a:off x="2124000" y="6281640"/>
            <a:ext cx="1943280" cy="576360"/>
          </a:xfrm>
          <a:custGeom>
            <a:avLst/>
            <a:gdLst>
              <a:gd name="textAreaLeft" fmla="*/ 37080 w 1943280"/>
              <a:gd name="textAreaRight" fmla="*/ 1906200 w 1943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2796" h="21600">
                <a:moveTo>
                  <a:pt x="0" y="0"/>
                </a:moveTo>
                <a:lnTo>
                  <a:pt x="72796" y="0"/>
                </a:lnTo>
                <a:lnTo>
                  <a:pt x="72796" y="21600"/>
                </a:lnTo>
                <a:lnTo>
                  <a:pt x="0" y="21600"/>
                </a:lnTo>
                <a:close/>
              </a:path>
              <a:path fill="lightenLess" w="72796" h="21600">
                <a:moveTo>
                  <a:pt x="0" y="0"/>
                </a:moveTo>
                <a:lnTo>
                  <a:pt x="72796" y="0"/>
                </a:lnTo>
                <a:lnTo>
                  <a:pt x="71396" y="1400"/>
                </a:lnTo>
                <a:lnTo>
                  <a:pt x="1400" y="1400"/>
                </a:lnTo>
                <a:close/>
              </a:path>
              <a:path fill="darken" w="72796" h="21600">
                <a:moveTo>
                  <a:pt x="72796" y="0"/>
                </a:moveTo>
                <a:lnTo>
                  <a:pt x="72796" y="21600"/>
                </a:lnTo>
                <a:lnTo>
                  <a:pt x="71396" y="20200"/>
                </a:lnTo>
                <a:lnTo>
                  <a:pt x="71396" y="1400"/>
                </a:lnTo>
                <a:close/>
              </a:path>
              <a:path fill="darkenLess" w="72796" h="21600">
                <a:moveTo>
                  <a:pt x="72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396" y="20200"/>
                </a:lnTo>
                <a:close/>
              </a:path>
              <a:path fill="lighten" w="72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он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: в России с 2012 года отменен переход на «зимнее» время, так что теперь разница с временем Гринвичского меридиана у нас 4 часа, а не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место часовых поясов в России установлены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Часовые зо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рта часовых з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386000"/>
            <a:ext cx="87138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5:10:28Z</dcterms:created>
  <dc:creator>Петров Антон</dc:creator>
  <dc:description>география, 9 класс, поясное время</dc:description>
  <dc:language>en-US</dc:language>
  <cp:lastModifiedBy>Антон</cp:lastModifiedBy>
  <dcterms:modified xsi:type="dcterms:W3CDTF">2013-02-27T14:42:13Z</dcterms:modified>
  <cp:revision>6</cp:revision>
  <dc:subject>Решение задач на поясное время</dc:subject>
  <dc:title>Определение поясного време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Издатель">
    <vt:lpwstr>Петров А.А.</vt:lpwstr>
  </property>
</Properties>
</file>