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844-0F6C-48B3-AFE5-E6E7E8AA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2AB2-8A6E-4CE4-A5D1-7A60937F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622-2E69-42F4-8B58-14D08F66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8F8-9704-4932-BB24-B168C83E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8E3-CEE3-4230-9948-1F7A1E5C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E06-1A8C-45F5-B42A-30380AE8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75D-39F2-49C7-814B-06B3B64E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A3B-C8ED-4873-BBBA-F7496FFE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E89-269E-47E0-B379-23F476C8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FD7-1BE1-424B-88B1-7E7CEEDB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3C4-1086-40BA-AE45-AFD38A79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437-838E-4140-B9ED-7D4F306A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2E56-7E47-4881-9610-5BE74C625A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57200" y="1773360"/>
            <a:ext cx="66708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исование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еточки рябин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93d8772b69f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81440" y="571464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рипченко Л.А.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тюрморт с рябиной и яблокам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medium_rjabin051.jpg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rowan1.jpg"/>
          <p:cNvPicPr/>
          <p:nvPr/>
        </p:nvPicPr>
        <p:blipFill>
          <a:blip r:embed="rId1"/>
          <a:stretch/>
        </p:blipFill>
        <p:spPr>
          <a:xfrm>
            <a:off x="684360" y="333360"/>
            <a:ext cx="7910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rowan2.jpg"/>
          <p:cNvPicPr/>
          <p:nvPr/>
        </p:nvPicPr>
        <p:blipFill>
          <a:blip r:embed="rId1"/>
          <a:stretch/>
        </p:blipFill>
        <p:spPr>
          <a:xfrm>
            <a:off x="755640" y="189000"/>
            <a:ext cx="79106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rowan3.jpg"/>
          <p:cNvPicPr/>
          <p:nvPr/>
        </p:nvPicPr>
        <p:blipFill>
          <a:blip r:embed="rId1"/>
          <a:stretch/>
        </p:blipFill>
        <p:spPr>
          <a:xfrm>
            <a:off x="611280" y="260280"/>
            <a:ext cx="8094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rowan4.jpg"/>
          <p:cNvPicPr/>
          <p:nvPr/>
        </p:nvPicPr>
        <p:blipFill>
          <a:blip r:embed="rId1"/>
          <a:srcRect l="0" t="0" r="-362" b="10256"/>
          <a:stretch/>
        </p:blipFill>
        <p:spPr>
          <a:xfrm>
            <a:off x="193680" y="189000"/>
            <a:ext cx="8950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6" descr="403244343.gif"/>
          <p:cNvPicPr/>
          <p:nvPr/>
        </p:nvPicPr>
        <p:blipFill>
          <a:blip r:embed="rId1"/>
          <a:stretch/>
        </p:blipFill>
        <p:spPr>
          <a:xfrm>
            <a:off x="1258920" y="549360"/>
            <a:ext cx="6434280" cy="4824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тье потерялось,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пуговки остались.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исят на ветке подружки,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жавшись тесно друг к дружке.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есною зеленела,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том загорала,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енью надела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асные кораллы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_wsb_644x389_rowan-tree-2.jpg"/>
          <p:cNvPicPr/>
          <p:nvPr/>
        </p:nvPicPr>
        <p:blipFill>
          <a:blip r:embed="rId1"/>
          <a:stretch/>
        </p:blipFill>
        <p:spPr>
          <a:xfrm>
            <a:off x="49320" y="235080"/>
            <a:ext cx="909468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971640" y="476280"/>
            <a:ext cx="734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ольше двух месяцев благоухает цветами рябина. Когда она цветёт, то белые шапки соцветий накрывают вершины деревьев. Кружевная листва и белые цветы привлекают внимание к этому дереву. Светлые ночи летом в народе так и называли: «рябиновые ночи, душистые ночи». Затем вместо белых цветов появляются ягоды, по мере созревания они краснеют и становятся вот такими красными. Яркими, сочными. На вкус они кисловато – горькие. Из них варят варенье, сироп, делают квас, так как плоды рябины очень полезны, потому что в них содержится много витамин. 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ждое время года дарит нам свою неповторимую красоту: весна – первые нежные цветы, лето – буйную зелень и яркое горячее солнце, а осень – пл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8" descr="e3a6dd56c91at.jpg"/>
          <p:cNvPicPr/>
          <p:nvPr/>
        </p:nvPicPr>
        <p:blipFill>
          <a:blip r:embed="rId1"/>
          <a:srcRect l="0" t="-1294" r="12753" b="0"/>
          <a:stretch/>
        </p:blipFill>
        <p:spPr>
          <a:xfrm>
            <a:off x="4643280" y="476280"/>
            <a:ext cx="4262760" cy="5832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42560" y="549000"/>
            <a:ext cx="36003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гляните на веточку рябины, все ягодки собраны в гроздь, кажется, что в каждой спрятан лучик солнца. Рябина – это символ русской красоты. Пламенеющим красным цветом своих плодов она радует глаз чело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preview.jpg"/>
          <p:cNvPicPr/>
          <p:nvPr/>
        </p:nvPicPr>
        <p:blipFill>
          <a:blip r:embed="rId1"/>
          <a:stretch/>
        </p:blipFill>
        <p:spPr>
          <a:xfrm>
            <a:off x="4716360" y="333360"/>
            <a:ext cx="4187880" cy="5853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26920" y="188640"/>
            <a:ext cx="410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ябин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асненькую яго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не дала ряби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умал я, что сладку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она - как хи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о ли эта ягод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сто недозрел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о ль рябина хитр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шутить хотел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Ирина Токмак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2960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генда о рябине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нажды дочь богатого купца полюбила простого парня, но её отец и слышать не хотел о таком бедном женихе. Чтобы избавить семью от позора он решил прибегнуть к помощи колдуна. Его дочь случайно узнала об этом и девушка решила убежать из родного дома. Темной и дождливой ночью поспешила она на берег реки к месту встречи со своим любимым. В тот же час вышел из дома и колдун. Но парень заметил колдуна. Для того чтобы увести опасность от девушки, храбрый юноша бросился в воду. Колдун дождался пока он переплывет реку и взмахнул волшебным посохом, когда молодой человек уже выбирался на берег. Тут сверкнула молния, ударил гром, и парень превратился в дуб. Все это случилось на глазах у девушки, из-за дождя чуть опоздавшей к месту встречи. И девушка тоже осталась стоять на берегу. Ее тонкий стан стал стволом рябины, а руки – ветви протянулись в сторону любимого. Весной она надевает белый наряд, а осенью роняет в воду красные слезы, печалясь о том, что «широка река, не перешагнуть, глубока река, а не утонуть». Так и стоят на разных берегах два любящих друг друга одиноких дерева. И «нельзя рябине к дубу перебраться, видно, сиротине век одной качаться».</a:t>
            </a: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ryabinaivanovsergey9.jpg"/>
          <p:cNvPicPr/>
          <p:nvPr/>
        </p:nvPicPr>
        <p:blipFill>
          <a:blip r:embed="rId1"/>
          <a:stretch/>
        </p:blipFill>
        <p:spPr>
          <a:xfrm>
            <a:off x="1116000" y="189000"/>
            <a:ext cx="6480360" cy="6480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5589720"/>
            <a:ext cx="7417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ванов С. Ю. «Рябин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:\Documents and Settings\Tatyana\Рабочий стол\0_6bd95_bba478bc_XL.jpg"/>
          <p:cNvPicPr/>
          <p:nvPr/>
        </p:nvPicPr>
        <p:blipFill>
          <a:blip r:embed="rId1"/>
          <a:stretch/>
        </p:blipFill>
        <p:spPr>
          <a:xfrm>
            <a:off x="162000" y="189000"/>
            <a:ext cx="8982000" cy="6669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66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шков Игорь «Яблоки и рябин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47:32Z</dcterms:created>
  <dc:creator>валя</dc:creator>
  <dc:description/>
  <dc:language>en-US</dc:language>
  <cp:lastModifiedBy>Admin</cp:lastModifiedBy>
  <dcterms:modified xsi:type="dcterms:W3CDTF">2013-02-27T17:28:53Z</dcterms:modified>
  <cp:revision>36</cp:revision>
  <dc:subject/>
  <dc:title>Слайд 1</dc:title>
</cp:coreProperties>
</file>