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41.png" ContentType="image/png"/>
  <Override PartName="/ppt/media/image3.jpeg" ContentType="image/jpeg"/>
  <Override PartName="/ppt/media/image34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74.png" ContentType="image/png"/>
  <Override PartName="/ppt/media/image60.jpeg" ContentType="image/jpeg"/>
  <Override PartName="/ppt/media/image20.png" ContentType="image/png"/>
  <Override PartName="/ppt/media/image37.jpeg" ContentType="image/jpeg"/>
  <Override PartName="/ppt/media/image18.jpeg" ContentType="image/jpeg"/>
  <Override PartName="/ppt/media/image62.jpeg" ContentType="image/jpeg"/>
  <Override PartName="/ppt/media/image63.jpeg" ContentType="image/jpeg"/>
  <Override PartName="/ppt/media/image6.jpeg" ContentType="image/jpeg"/>
  <Override PartName="/ppt/media/image23.jpeg" ContentType="image/jpeg"/>
  <Override PartName="/ppt/media/image77.png" ContentType="image/png"/>
  <Override PartName="/ppt/media/image4.jpeg" ContentType="image/jpeg"/>
  <Override PartName="/ppt/media/image64.jpeg" ContentType="image/jpeg"/>
  <Override PartName="/ppt/media/image7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76.png" ContentType="image/png"/>
  <Override PartName="/ppt/media/image30.jpeg" ContentType="image/jpeg"/>
  <Override PartName="/ppt/media/image66.jpeg" ContentType="image/jpeg"/>
  <Override PartName="/ppt/media/image11.png" ContentType="image/pn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7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61.png" ContentType="image/png"/>
  <Override PartName="/ppt/media/image50.jpeg" ContentType="image/jpeg"/>
  <Override PartName="/ppt/media/image28.jpeg" ContentType="image/jpeg"/>
  <Override PartName="/ppt/media/image51.jpeg" ContentType="image/jpeg"/>
  <Override PartName="/ppt/media/image38.jpeg" ContentType="image/jpeg"/>
  <Override PartName="/ppt/media/image72.png" ContentType="image/png"/>
  <Override PartName="/ppt/media/image52.jpeg" ContentType="image/jpeg"/>
  <Override PartName="/ppt/media/image19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64CB-9BAA-4FF3-AE17-C6CC9BE3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648-5A0B-47B0-8517-312A8FA3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D4D-E596-49F2-A2D1-36BA4D8A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B00-F3A1-4424-B27A-A6779A62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DDA4-15DC-41E7-8BE6-42047DEB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20F9-A36C-4979-8321-217F3011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A8D7-6408-4E2F-8664-0C9F28E5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611E-63F5-4A86-A7F5-74EB2614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C602-735E-46E0-8E69-8C1CFC5A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4661-C897-4820-BAA4-7A474D99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FCF2-8351-47D7-9B28-5CDCB7D6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32B-7452-4037-BFF1-82B20D67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8F55-AE12-456B-9D63-E58FAAD8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A737-A56E-46F2-A326-2B805714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C2E1-73AF-47CB-90D2-2870CDA3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2F78-7A52-4E96-BB71-F82927CD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4064-DA9F-4843-A876-8B9E6A41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2102-AF89-4D4B-BE43-FA264A8E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D5B-BFB7-4541-B511-B550A18D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6964-0935-4615-97D0-A91AA333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C3E-698C-4C40-80B7-BAFCC9AB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711-6542-45CD-A4B3-66499C84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D0A6-92BD-4F86-B882-B6AEEC57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7AF6-0A38-4596-8D5D-BCD7D2A6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9FDC-1CD0-4558-A672-607E1DA8E3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3969-E82A-4D6E-A781-336AA31701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3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jpeg"/><Relationship Id="rId3" Type="http://schemas.openxmlformats.org/officeDocument/2006/relationships/image" Target="../media/image74.png"/><Relationship Id="rId4" Type="http://schemas.openxmlformats.org/officeDocument/2006/relationships/image" Target="../media/image75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Monotype Corsiva"/>
              </a:rPr>
              <a:t>Рождество в Англии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184720" cy="3364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8000" y="3933720"/>
            <a:ext cx="2612880" cy="2808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281808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Monotype Corsiva"/>
              </a:rPr>
              <a:t>Главный тост за праздничным столом – 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“Your good health!”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960720" cy="3090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076720" y="1484280"/>
            <a:ext cx="3597480" cy="2206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076720" y="3860640"/>
            <a:ext cx="36734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Всех жителей страны с праздником поздравляет короле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245040" cy="5111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95280" y="6453360"/>
            <a:ext cx="215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313080" cy="2481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33130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Monotype Corsiva"/>
              </a:rPr>
              <a:t>Подарки детям приносит 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Father Christmas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7360" y="5589720"/>
            <a:ext cx="6984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2970360" cy="4537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456000" y="2133720"/>
            <a:ext cx="5688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6423120"/>
            <a:ext cx="2984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3143520" cy="2952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4057560" cy="3038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3961080" cy="2975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5076720" y="3573360"/>
            <a:ext cx="376236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Подарки традиционно кладут в чулок или носок, который вешают на камин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816360" cy="2674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608720" cy="4064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51640" y="4216320"/>
            <a:ext cx="28778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Символы и традиции Рожде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327040" cy="2881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7296" t="2417" r="12482" b="0"/>
          <a:stretch/>
        </p:blipFill>
        <p:spPr>
          <a:xfrm>
            <a:off x="6443640" y="1268280"/>
            <a:ext cx="2376360" cy="2890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771640" y="2637000"/>
            <a:ext cx="34354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ождественский вено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7360" y="5949720"/>
            <a:ext cx="69840" cy="1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2152800" cy="2124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3934080" cy="3933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732720" y="1413000"/>
            <a:ext cx="2160360" cy="2116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2305080" cy="1973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588000" y="4292640"/>
            <a:ext cx="241956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ождественские открыт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154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643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5949720"/>
            <a:ext cx="442800" cy="1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608360" cy="2585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932360" y="115920"/>
            <a:ext cx="4103640" cy="3343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755640" y="3213000"/>
            <a:ext cx="3247920" cy="3124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5580000" y="3716280"/>
            <a:ext cx="29448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659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ождественская ёл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6210000"/>
            <a:ext cx="122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4680" cy="3141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916360" y="907920"/>
            <a:ext cx="4967280" cy="3311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329520" y="3373560"/>
            <a:ext cx="2814480" cy="348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79280" y="3894120"/>
            <a:ext cx="3745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Рождество в Англии отмечается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Monotype Corsiva"/>
              </a:rPr>
              <a:t>25 декабря.</a:t>
            </a: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 Для англичан - это один из самых важных праздников в году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3128760" cy="4176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48360" y="3184560"/>
            <a:ext cx="384012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ождественские распродаж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6165720"/>
            <a:ext cx="3585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62600" cy="1668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0240" cy="2773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771640" y="2781360"/>
            <a:ext cx="3881520" cy="2581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08000" y="4869000"/>
            <a:ext cx="2619360" cy="1742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5508720" y="4581360"/>
            <a:ext cx="34909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35280" y="-360"/>
            <a:ext cx="577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Рождественское меню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1540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859280" y="836640"/>
            <a:ext cx="3959280" cy="2658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95640" cy="2658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859280" y="3716280"/>
            <a:ext cx="4006800" cy="2951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0" y="3370320"/>
            <a:ext cx="39956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6840" y="5733720"/>
            <a:ext cx="2271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176720" cy="3241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4627800" cy="3108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219640" y="115920"/>
            <a:ext cx="3243240" cy="31719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539640" y="3573360"/>
            <a:ext cx="309888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Monotype Corsiva"/>
              </a:rPr>
              <a:t>Спасибо за внимание!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6095880"/>
            <a:ext cx="2984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3735360" cy="3735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rcRect l="10969" t="0" r="7945" b="0"/>
          <a:stretch/>
        </p:blipFill>
        <p:spPr>
          <a:xfrm>
            <a:off x="179280" y="2276640"/>
            <a:ext cx="2124360" cy="17427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rcRect l="0" t="3327" r="0" b="2587"/>
          <a:stretch/>
        </p:blipFill>
        <p:spPr>
          <a:xfrm>
            <a:off x="6732720" y="2276640"/>
            <a:ext cx="2143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Рождество – это христианский праздник, посвященный рождению Иисуса Христ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2933640" cy="4724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6423120"/>
            <a:ext cx="2271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Это самое яркое и веселое событие в году. Подготовка к нему начинается задолго до самого праздник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56360" y="2060640"/>
            <a:ext cx="2778120" cy="2517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3529080" cy="2657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5805000"/>
            <a:ext cx="133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203640" y="42926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Дома, офисы, магазины и улицы украшаются с большой фантазие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4111560" cy="2736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00720" y="4581360"/>
            <a:ext cx="3746520" cy="2102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32720" y="5445000"/>
            <a:ext cx="154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1484280"/>
            <a:ext cx="4140360" cy="2755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116000" y="4581360"/>
            <a:ext cx="223200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16360" y="115920"/>
            <a:ext cx="4230720" cy="3173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357660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788000" y="3573360"/>
            <a:ext cx="4176720" cy="3132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61200" y="6638400"/>
            <a:ext cx="8244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50920" y="152280"/>
            <a:ext cx="41767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Традиционные цвета Рождества – белый, красный и зелены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2160720" cy="3024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77080" y="1484280"/>
            <a:ext cx="1940040" cy="1768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5949720"/>
            <a:ext cx="801720" cy="1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492360" y="1557360"/>
            <a:ext cx="1905120" cy="1590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419640" y="3573360"/>
            <a:ext cx="5400360" cy="3140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79280" y="4797360"/>
            <a:ext cx="22320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Рождество - семейный праздник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887640" cy="2682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148360" y="1197000"/>
            <a:ext cx="3673440" cy="2703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5408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3649680" cy="2433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292720" y="4076640"/>
            <a:ext cx="3411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25 декабря – время традиционного праздничного обе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3224160" cy="4824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156360" y="4222800"/>
            <a:ext cx="2663640" cy="2068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708360" y="42210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356000" y="1484280"/>
            <a:ext cx="39610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5:06:59Z</dcterms:created>
  <dc:creator>Admin</dc:creator>
  <dc:description/>
  <dc:language>en-US</dc:language>
  <cp:lastModifiedBy>Татьяна</cp:lastModifiedBy>
  <dcterms:modified xsi:type="dcterms:W3CDTF">2013-02-27T12:11:14Z</dcterms:modified>
  <cp:revision>11</cp:revision>
  <dc:subject/>
  <dc:title>Рождество в Англии</dc:title>
</cp:coreProperties>
</file>