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2F4-8C21-46B1-A3EB-659F5B48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49C-228A-43A2-96B8-25CC269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922-3A54-484B-A4A0-B5FB9F71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32C-E58F-4FEE-BA9B-C63ED60D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BAC-B472-4934-9D93-D7F75DC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45D-702C-44A8-900A-EC85597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607-CCA7-49B5-9046-906D516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622-3A5C-4466-B8DD-A7585E34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3F1-9729-4293-BF58-E732697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AF8-636E-466B-BECF-95D40D6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1D8-BB32-43C4-BB0F-A4CCB4F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E17-2C97-4676-A70E-69A3E2B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C27-52F3-4BA7-994F-94ED0091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7280" y="981000"/>
            <a:ext cx="71298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ейн-ринг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ирпич весит 2 кг и еще полкирпича. Сколько весит кирпич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азделите 100 на половин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80000" y="4941720"/>
            <a:ext cx="129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йдите корень уравнения х*х = -9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95640" y="4581360"/>
            <a:ext cx="388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т корн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ему равно произведение всех циф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11640" y="501336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ое целое число делится без остатка на любое целое число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67280" y="5445000"/>
            <a:ext cx="64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 каком случае верно равенств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9+15=10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 однозначному числу приписали такую же цифру. Во сколько раз увеличилось числ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1280" y="5084640"/>
            <a:ext cx="108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больше:2/5 или 0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амая большая хорда в круг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4508640"/>
            <a:ext cx="25243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мет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ли в 12 часов ночи идет дождь, можно ли утверждать, что через 48 часов будет солнечная погод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ва числа, произведение которых равно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27280" y="4941720"/>
            <a:ext cx="35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заимно-обрат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йдите полторы трети от 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80000" y="48690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колько двузначных чисел, у которых первая цифра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720" y="4653000"/>
            <a:ext cx="863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рое играли в шахматы. Всего было сыграно три партии. Сколько партий сыграл каждый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40360" y="530064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ая часть окружности заключена между часовой и минутной стрелками, считая от часовой к минутной по их ходу в 14:0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08360" y="4941720"/>
            <a:ext cx="1368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/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ысячная доля килограмм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2360" y="4508640"/>
            <a:ext cx="23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м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исло десятков в тыся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0" y="494172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ую часть числа составляют 25%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35280" y="4941720"/>
            <a:ext cx="1685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твер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ериметр квадрата – 20см. Чему равна его площадь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2:43:22Z</dcterms:created>
  <dc:creator>Аня</dc:creator>
  <dc:description/>
  <dc:language>en-US</dc:language>
  <cp:lastModifiedBy>Admin</cp:lastModifiedBy>
  <dcterms:modified xsi:type="dcterms:W3CDTF">2012-04-04T12:37:22Z</dcterms:modified>
  <cp:revision>10</cp:revision>
  <dc:subject/>
  <dc:title>Слайд 1</dc:title>
</cp:coreProperties>
</file>