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4FC-41EC-4F29-8EE1-75993E58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5E9-8914-4EE4-9868-B931FF48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9AB-17DD-4DA0-BBE0-FBD360C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8AD-D8C2-402A-92BD-1D988335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C09-CD44-496C-90AB-C220582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C50-FA5F-4A03-99D3-2C2E2D7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74C-0477-4FF4-A838-D86B4CBA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6D2-EB29-4648-8671-1585F1E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41E-55DC-4024-9F20-37AB202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955-4BCE-4002-9E03-9CABAC5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9F6-7723-4257-925A-7FD7B6E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2EB-C3DF-4666-A5EE-BA994F7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83D-3E9F-4C71-A052-29F09A99B183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5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6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7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8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9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5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88569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По предмету, теме</a:t>
            </a:r>
            <a:endParaRPr b="0" lang="en-US" sz="32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grpSp>
        <p:nvGrpSpPr>
          <p:cNvPr id="67" name="Group 43"/>
          <p:cNvGrpSpPr/>
          <p:nvPr/>
        </p:nvGrpSpPr>
        <p:grpSpPr>
          <a:xfrm>
            <a:off x="6732720" y="6394320"/>
            <a:ext cx="286920" cy="306000"/>
            <a:chOff x="6732720" y="6394320"/>
            <a:chExt cx="286920" cy="306000"/>
          </a:xfrm>
        </p:grpSpPr>
        <p:sp>
          <p:nvSpPr>
            <p:cNvPr id="6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2480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6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3884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7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4424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sp>
        <p:nvSpPr>
          <p:cNvPr id="71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8569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1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3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2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4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3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5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4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1292400" y="455436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5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77" name="Rectangle 53"/>
          <p:cNvSpPr/>
          <p:nvPr/>
        </p:nvSpPr>
        <p:spPr>
          <a:xfrm>
            <a:off x="1292400" y="519120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6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grpSp>
        <p:nvGrpSpPr>
          <p:cNvPr id="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3" name="Metka" hidden="1"/>
            <p:cNvSpPr/>
            <p:nvPr/>
          </p:nvSpPr>
          <p:spPr>
            <a:xfrm>
              <a:off x="571320" y="215748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89" name="Metka" hidden="1"/>
            <p:cNvSpPr/>
            <p:nvPr/>
          </p:nvSpPr>
          <p:spPr>
            <a:xfrm>
              <a:off x="571320" y="279252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5" name="Metka" hidden="1"/>
            <p:cNvSpPr/>
            <p:nvPr/>
          </p:nvSpPr>
          <p:spPr>
            <a:xfrm>
              <a:off x="571320" y="342756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1" name="Metka" hidden="1"/>
            <p:cNvSpPr/>
            <p:nvPr/>
          </p:nvSpPr>
          <p:spPr>
            <a:xfrm>
              <a:off x="571320" y="406260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02" name="KAN_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03" name="Rectangle 7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463320" y="45896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500040" y="462600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6" name="Oval 10"/>
            <p:cNvSpPr/>
            <p:nvPr/>
          </p:nvSpPr>
          <p:spPr>
            <a:xfrm>
              <a:off x="536400" y="466092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07" name="Metka" hidden="1"/>
            <p:cNvSpPr/>
            <p:nvPr/>
          </p:nvSpPr>
          <p:spPr>
            <a:xfrm>
              <a:off x="571320" y="469764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08" name="KAN_6"/>
          <p:cNvGrpSpPr/>
          <p:nvPr/>
        </p:nvGrpSpPr>
        <p:grpSpPr>
          <a:xfrm>
            <a:off x="444600" y="5207040"/>
            <a:ext cx="647640" cy="395280"/>
            <a:chOff x="444600" y="5207040"/>
            <a:chExt cx="647640" cy="395280"/>
          </a:xfrm>
        </p:grpSpPr>
        <p:sp>
          <p:nvSpPr>
            <p:cNvPr id="109" name="Rectangle 7"/>
            <p:cNvSpPr/>
            <p:nvPr/>
          </p:nvSpPr>
          <p:spPr>
            <a:xfrm>
              <a:off x="444600" y="52070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10" name="Oval 8"/>
            <p:cNvSpPr/>
            <p:nvPr/>
          </p:nvSpPr>
          <p:spPr>
            <a:xfrm>
              <a:off x="463320" y="5224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500040" y="5261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536400" y="52959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13" name="Metka" hidden="1"/>
            <p:cNvSpPr/>
            <p:nvPr/>
          </p:nvSpPr>
          <p:spPr>
            <a:xfrm>
              <a:off x="571320" y="5332680"/>
              <a:ext cx="144360" cy="14436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6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grpSp>
        <p:nvGrpSpPr>
          <p:cNvPr id="11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2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2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sp>
        <p:nvSpPr>
          <p:cNvPr id="122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dfc1"/>
              </a:gs>
              <a:gs pos="50000">
                <a:srgbClr val="c2c0ba"/>
              </a:gs>
              <a:gs pos="100000">
                <a:srgbClr val="e1dfc1"/>
              </a:gs>
            </a:gsLst>
            <a:lin ang="5400000"/>
          </a:gradFill>
          <a:ln w="38160">
            <a:solidFill>
              <a:srgbClr val="9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25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8569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1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2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3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7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4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8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5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Вариант ответа № 6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grpSp>
        <p:nvGrpSpPr>
          <p:cNvPr id="130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31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4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5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36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37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1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42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43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47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48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49" name="Rectangle 13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3" name="Metka" hidden="1"/>
            <p:cNvSpPr/>
            <p:nvPr/>
          </p:nvSpPr>
          <p:spPr>
            <a:xfrm>
              <a:off x="554040" y="404352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54" name="KAN_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55" name="Rectangle 13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59" name="Metka" hidden="1"/>
            <p:cNvSpPr/>
            <p:nvPr/>
          </p:nvSpPr>
          <p:spPr>
            <a:xfrm>
              <a:off x="554040" y="467856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  <p:grpSp>
        <p:nvGrpSpPr>
          <p:cNvPr id="160" name="KAN_6"/>
          <p:cNvGrpSpPr/>
          <p:nvPr/>
        </p:nvGrpSpPr>
        <p:grpSpPr>
          <a:xfrm>
            <a:off x="444600" y="5207040"/>
            <a:ext cx="647640" cy="395280"/>
            <a:chOff x="444600" y="5207040"/>
            <a:chExt cx="647640" cy="395280"/>
          </a:xfrm>
        </p:grpSpPr>
        <p:sp>
          <p:nvSpPr>
            <p:cNvPr id="161" name="Rectangle 13"/>
            <p:cNvSpPr/>
            <p:nvPr/>
          </p:nvSpPr>
          <p:spPr>
            <a:xfrm>
              <a:off x="444600" y="52070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463680" y="52246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500040" y="52610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536760" y="52977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165" name="Metka" hidden="1"/>
            <p:cNvSpPr/>
            <p:nvPr/>
          </p:nvSpPr>
          <p:spPr>
            <a:xfrm>
              <a:off x="554040" y="5313600"/>
              <a:ext cx="179280" cy="180720"/>
            </a:xfrm>
            <a:prstGeom prst="pie">
              <a:avLst/>
            </a:pr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7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8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9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0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1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3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4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5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6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88569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78856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788569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1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8:44Z</dcterms:created>
  <dc:creator>Комаровский Анатолий Николаевич</dc:creator>
  <dc:description>Работает в PowerPoint 2003 и 2007</dc:description>
  <dc:language>en-US</dc:language>
  <cp:lastModifiedBy>Admin</cp:lastModifiedBy>
  <dcterms:modified xsi:type="dcterms:W3CDTF">2009-09-07T14:56:54Z</dcterms:modified>
  <cp:revision>21</cp:revision>
  <dc:subject/>
  <dc:title>Шаблон для создания тестов</dc:title>
</cp:coreProperties>
</file>