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5F3-4659-4896-AEFD-B82176E1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E1D-F4FA-45CA-8BAA-C3FF4FE8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281B7-2EE8-41D9-A8F5-1829893B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F917D-372C-4DAA-852E-BD73C67B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67BC7-6BC0-49CC-BE79-E1CA1974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BC210-9B8F-4BFC-8483-E14C0770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57F03-CEAC-4394-85C4-CE902645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17220-9E1A-4043-9DB5-43868018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F2C42-6542-4543-90DF-8D9DE8E3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AEB1D-B249-422F-A01E-9EF23375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25149-0EFC-43B2-9FE6-5AB29B48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64C-584F-4B3D-811F-96C71082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887-8D5C-43BD-8E73-9CA81A2F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63EE-28C6-4185-AF67-3203786A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BCEF-5DFB-4B7E-9A78-80C0865A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03C3-82EA-456F-881F-2CB1DB98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F48F-4C7D-4DE9-B173-A259FFE0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D110-75C3-4988-BA6E-08B579D6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9D41-0456-41D5-A6DA-53B8AD03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62A8-163E-4341-8C3E-6286FF43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BF2-A8F6-4476-92B3-79F628BC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B766-AD75-44A8-A4BD-6B7891CA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3E70-241A-435A-A548-34C40569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2189-0ACE-444A-B9F8-5F6F8BAC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10CE-88EF-4AAA-A944-38F58A5F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3C14-3AC0-4DFB-9DA1-DEB77F5B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A421-D501-45E9-80DB-1EFC2ED6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CC2D7-7394-4547-89A6-58F6412E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6B1D-1FD8-48D3-BBEA-645B6E86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AB0E-255D-406E-9677-1CBA1A7B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F59C-DBDE-4ECC-904B-0522B4DB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407-5D6B-4348-9342-6645984B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E72E-45BB-4AF8-B00C-0FF1D24F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C109-E097-43FF-9DC2-CBCD9CC2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00BB-BF46-4A1D-BDAB-16BD0752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CDA0-5810-485B-8E52-BCB11FBD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0D79-4B61-4200-BCA6-441D60A6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FC89-AC70-4582-86A7-F02468B8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0F94-E172-479E-9ED8-51274AA4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D104D-22FF-4193-83AD-2C17DDBD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A33B1-0899-4595-892D-E994EB93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D979-7D07-402B-9193-755C8139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3FE-1A5C-4BAF-A115-C52F3CE5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5B09-09CC-4ADC-9847-86256557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44F66-FD1F-4955-B6E5-5763AA86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9BC3-FB3D-4E2E-86B9-78E223D9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F0A6-EBA5-493D-8969-1D9012CB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8AF4E-925B-41DB-82E1-E5E1EAD7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956C-CB12-4DCC-9567-85EE4395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36D14-46E0-4BEF-BBB7-38336207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65D4-CF10-44FF-B502-C435E448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53BC-B11B-4EAA-833E-83B8992F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37C2D-0BC1-4E4C-A564-DC9BBD30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05E-38B0-443C-9377-42C5D3E4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02D82-DB2A-4896-87F7-2DF64398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C3D7A-D4A1-4E4A-A217-ADF9A7B1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575CF-0AD2-454A-A436-46F8456C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B30B8-8B20-4BB2-BA66-B705B092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2CE36-DA73-473C-8D91-C98ED947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2144-94FE-433C-890B-4FCA571C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D5EB-B1FC-435B-85CB-4F0DAF8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C6E2B-3C93-46F5-A159-C7B27486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DD5BE-FF48-4364-BF0C-39B314A1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CA2B0-4B98-4D34-9050-CFE0775C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69A-DC6E-45F1-A301-5014C116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58052-897B-43BF-AF96-797F9D18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6BBCC-55EB-402C-BE99-333908C5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21DED-BDBF-4A63-907E-DA0EF2F7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5AC50-3566-4645-BF23-C65C27FA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39D27-1694-4C36-8B85-FC8C942A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CF4E-70B1-4D73-A999-AFE98B30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70395-56F9-4C2E-9176-35794DB5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73222-C78D-4390-B121-CDB60E47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871C8-2AE9-4BB2-862B-9343C1E4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C1A93-8DF0-41CD-944C-E508246B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4D1-FC51-49F8-9988-1BF6E5C4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D3C57-A298-41D0-BFA8-15BFEA32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335B3-0C1C-4529-856E-E1B856A5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87439-9DBB-4E6F-AE30-9D8F24CA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26D0F-3436-4E3A-B589-BDEA1595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DE43E-F6EE-4B7E-A32A-F648F93D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D1392-4E01-45FE-9B4A-7E0EDBFC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F32AE-33AB-4A99-B262-898E47E9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68949-E596-4086-88F1-5D841E8E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9BAE4-2400-4D2D-ADE0-29BB8BF7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5BC52-47C0-471D-925E-1870DCE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BF4-96CF-4371-8B06-AEB5ABED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573AC-682D-4864-BE4B-399FD865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AF5E7-769C-4B5B-A775-3F335C6A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D7AA5-2436-45CD-A9D6-A1FAECF0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722D-42CB-48D1-BFD4-7116BC6A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10F8A-05B1-489B-AD4E-816C1FA7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C00C8-BE6B-40DD-BFA3-7153B5A0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3D12E-863C-4F37-92EA-F6D79EB3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9A5F6-0FD9-4447-9E82-1BBD7527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95F9E-0EFC-41C5-B684-D3480815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16B55-86E2-45CC-9056-961E5A89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7EA-D603-4D20-B152-D7CAB2E9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7CAD6-9DE8-477E-9CCB-E79F0E71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29C42-22E6-4571-A02F-4FE81736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49993-5B06-4268-93A6-33468FB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702F0-6725-4545-B2C6-1C492CF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2BDE1-8E59-47AC-843E-FFD20C0F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4A11C-CF5B-4944-BA71-FE668A39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DD5EF-ADC5-4CB5-B78B-4786D725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88C1A-26CE-415C-B2C6-892BFEDC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BE18D-A89F-4438-875B-FF249EA0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44C2D-D333-41F3-B7FB-299C0FD0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FE96-9897-47BD-9073-08E88635C61F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9ca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9ca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25E2-1184-423D-8B78-6EFEA1F859C3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9ca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C349-F7EF-42BF-B4F5-6DFA45326117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C1E5-E026-437E-8FCC-42A47FECBA7D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9ca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B6F5-266D-4A21-A5A5-2DAD053A407B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9ca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4AA7-AB89-4EAC-9FCB-BFEC2AE6115D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9ca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39CA-A11C-451E-A750-0EAD1A79FB4C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9ca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F79B-EDCF-40F3-A54C-BD12C9E6B092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9ca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9ca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B4B7-7506-493B-A6A9-8CCFE563A08C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ый треугольник 3"/>
          <p:cNvSpPr/>
          <p:nvPr/>
        </p:nvSpPr>
        <p:spPr>
          <a:xfrm>
            <a:off x="1143000" y="1928880"/>
            <a:ext cx="4929120" cy="2857320"/>
          </a:xfrm>
          <a:prstGeom prst="rtTriangle">
            <a:avLst/>
          </a:prstGeom>
          <a:solidFill>
            <a:srgbClr val="5ef0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642960" y="1500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714240" y="4714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5643720" y="48578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Равнобедренный треугольник 13"/>
          <p:cNvSpPr/>
          <p:nvPr/>
        </p:nvSpPr>
        <p:spPr>
          <a:xfrm>
            <a:off x="4929120" y="4429080"/>
            <a:ext cx="1071720" cy="357120"/>
          </a:xfrm>
          <a:prstGeom prst="triangle">
            <a:avLst>
              <a:gd name="adj" fmla="val 4158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18"/>
          <p:cNvSpPr/>
          <p:nvPr/>
        </p:nvSpPr>
        <p:spPr>
          <a:xfrm flipV="1">
            <a:off x="1143000" y="1928520"/>
            <a:ext cx="0" cy="2857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Прямая со стрелкой 20"/>
          <p:cNvCxnSpPr/>
          <p:nvPr/>
        </p:nvCxnSpPr>
        <p:spPr>
          <a:xfrm flipH="1" flipV="1">
            <a:off x="1356840" y="3357360"/>
            <a:ext cx="350136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6" name="Прямая соединительная линия 22"/>
          <p:cNvSpPr/>
          <p:nvPr/>
        </p:nvSpPr>
        <p:spPr>
          <a:xfrm>
            <a:off x="1143000" y="4786200"/>
            <a:ext cx="4929120" cy="0"/>
          </a:xfrm>
          <a:prstGeom prst="line">
            <a:avLst/>
          </a:prstGeom>
          <a:ln w="5724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3"/>
          <p:cNvSpPr/>
          <p:nvPr/>
        </p:nvSpPr>
        <p:spPr>
          <a:xfrm>
            <a:off x="2714760" y="207180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 – противолежащий ка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4"/>
          <p:cNvSpPr/>
          <p:nvPr/>
        </p:nvSpPr>
        <p:spPr>
          <a:xfrm>
            <a:off x="2786040" y="571500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 – прилежащий ка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Прямая соединительная линия 19" descr=""/>
          <p:cNvPicPr/>
          <p:nvPr/>
        </p:nvPicPr>
        <p:blipFill>
          <a:blip r:embed="rId1"/>
          <a:stretch/>
        </p:blipFill>
        <p:spPr>
          <a:xfrm>
            <a:off x="1042920" y="1871640"/>
            <a:ext cx="5132520" cy="307188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21"/>
          <p:cNvSpPr/>
          <p:nvPr/>
        </p:nvSpPr>
        <p:spPr>
          <a:xfrm>
            <a:off x="5081400" y="3284640"/>
            <a:ext cx="33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 - гипотену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9ca2"/>
              </a:solidFill>
              <a:latin typeface="Franklin Gothic Medium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ый треугольник 3"/>
          <p:cNvSpPr/>
          <p:nvPr/>
        </p:nvSpPr>
        <p:spPr>
          <a:xfrm>
            <a:off x="1143000" y="1928880"/>
            <a:ext cx="4929120" cy="2857320"/>
          </a:xfrm>
          <a:prstGeom prst="rtTriangle">
            <a:avLst/>
          </a:prstGeom>
          <a:solidFill>
            <a:srgbClr val="3dee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642960" y="1500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714240" y="4714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"/>
          <p:cNvSpPr/>
          <p:nvPr/>
        </p:nvSpPr>
        <p:spPr>
          <a:xfrm>
            <a:off x="5643720" y="48578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Равнобедренный треугольник 13"/>
          <p:cNvSpPr/>
          <p:nvPr/>
        </p:nvSpPr>
        <p:spPr>
          <a:xfrm>
            <a:off x="4929120" y="4429080"/>
            <a:ext cx="1071720" cy="357120"/>
          </a:xfrm>
          <a:prstGeom prst="triangle">
            <a:avLst>
              <a:gd name="adj" fmla="val 4158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4"/>
          <p:cNvSpPr/>
          <p:nvPr/>
        </p:nvSpPr>
        <p:spPr>
          <a:xfrm>
            <a:off x="642960" y="31431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5"/>
          <p:cNvSpPr/>
          <p:nvPr/>
        </p:nvSpPr>
        <p:spPr>
          <a:xfrm>
            <a:off x="3500280" y="2714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6"/>
          <p:cNvSpPr/>
          <p:nvPr/>
        </p:nvSpPr>
        <p:spPr>
          <a:xfrm>
            <a:off x="2928960" y="48578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20"/>
          <p:cNvCxnSpPr/>
          <p:nvPr/>
        </p:nvCxnSpPr>
        <p:spPr>
          <a:xfrm flipH="1" flipV="1">
            <a:off x="1356840" y="3357360"/>
            <a:ext cx="350136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2" name="Прямая соединительная линия 22"/>
          <p:cNvSpPr/>
          <p:nvPr/>
        </p:nvSpPr>
        <p:spPr>
          <a:xfrm>
            <a:off x="1143000" y="4786200"/>
            <a:ext cx="4857840" cy="0"/>
          </a:xfrm>
          <a:prstGeom prst="line">
            <a:avLst/>
          </a:prstGeom>
          <a:ln w="5724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4572000" y="2286000"/>
                <a:ext cx="39765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4429080" y="5286240"/>
                <a:ext cx="402588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Прямая соединительная линия 26"/>
          <p:cNvSpPr/>
          <p:nvPr/>
        </p:nvSpPr>
        <p:spPr>
          <a:xfrm>
            <a:off x="1143000" y="1928880"/>
            <a:ext cx="0" cy="2857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28"/>
          <p:cNvSpPr/>
          <p:nvPr/>
        </p:nvSpPr>
        <p:spPr>
          <a:xfrm>
            <a:off x="1143000" y="1928880"/>
            <a:ext cx="4929120" cy="28573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76a3"/>
              </a:solidFill>
              <a:latin typeface="Franklin Gothic Medium"/>
            </a:endParaRPr>
          </a:p>
        </p:txBody>
      </p:sp>
      <p:sp>
        <p:nvSpPr>
          <p:cNvPr id="428" name="Прямоугольный треугольник 3"/>
          <p:cNvSpPr/>
          <p:nvPr/>
        </p:nvSpPr>
        <p:spPr>
          <a:xfrm>
            <a:off x="1143000" y="1928880"/>
            <a:ext cx="4929120" cy="2857320"/>
          </a:xfrm>
          <a:prstGeom prst="rtTriangle">
            <a:avLst/>
          </a:prstGeom>
          <a:solidFill>
            <a:srgbClr val="3dee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642960" y="1500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714240" y="4714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5643720" y="48578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Равнобедренный треугольник 13"/>
          <p:cNvSpPr/>
          <p:nvPr/>
        </p:nvSpPr>
        <p:spPr>
          <a:xfrm>
            <a:off x="4929120" y="4429080"/>
            <a:ext cx="1071720" cy="357120"/>
          </a:xfrm>
          <a:prstGeom prst="triangle">
            <a:avLst>
              <a:gd name="adj" fmla="val 4158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4"/>
          <p:cNvSpPr/>
          <p:nvPr/>
        </p:nvSpPr>
        <p:spPr>
          <a:xfrm>
            <a:off x="642960" y="31431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5"/>
          <p:cNvSpPr/>
          <p:nvPr/>
        </p:nvSpPr>
        <p:spPr>
          <a:xfrm>
            <a:off x="3500280" y="2714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6"/>
          <p:cNvSpPr/>
          <p:nvPr/>
        </p:nvSpPr>
        <p:spPr>
          <a:xfrm>
            <a:off x="2928960" y="48578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22"/>
          <p:cNvSpPr/>
          <p:nvPr/>
        </p:nvSpPr>
        <p:spPr>
          <a:xfrm>
            <a:off x="1143000" y="4786200"/>
            <a:ext cx="4857840" cy="0"/>
          </a:xfrm>
          <a:prstGeom prst="line">
            <a:avLst/>
          </a:prstGeom>
          <a:ln w="5724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2"/>
              <p:cNvSpPr txBox="1"/>
              <p:nvPr/>
            </p:nvSpPr>
            <p:spPr>
              <a:xfrm>
                <a:off x="4719600" y="2286000"/>
                <a:ext cx="36813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Прямая соединительная линия 26"/>
          <p:cNvSpPr/>
          <p:nvPr/>
        </p:nvSpPr>
        <p:spPr>
          <a:xfrm>
            <a:off x="1143000" y="1928880"/>
            <a:ext cx="0" cy="2857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1213920" y="1214280"/>
            <a:ext cx="6543720" cy="4429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9ca2"/>
                </a:solidFill>
                <a:latin typeface="Franklin Gothic Book"/>
              </a:rPr>
              <a:t>С</a:t>
            </a: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и</a:t>
            </a:r>
            <a:r>
              <a:rPr b="1" lang="ru-RU" sz="4000" spc="-1" strike="noStrike">
                <a:solidFill>
                  <a:srgbClr val="089ca2"/>
                </a:solidFill>
                <a:latin typeface="Franklin Gothic Book"/>
              </a:rPr>
              <a:t>нусом острого угла в прямоугольном треугольнике называется отношение пр</a:t>
            </a: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о</a:t>
            </a:r>
            <a:r>
              <a:rPr b="1" lang="ru-RU" sz="4000" spc="-1" strike="noStrike">
                <a:solidFill>
                  <a:srgbClr val="089ca2"/>
                </a:solidFill>
                <a:latin typeface="Franklin Gothic Book"/>
              </a:rPr>
              <a:t>тиволежащего </a:t>
            </a:r>
            <a:r>
              <a:rPr b="1" i="1" lang="ru-RU" sz="4000" spc="-1" strike="noStrike">
                <a:solidFill>
                  <a:srgbClr val="033436"/>
                </a:solidFill>
                <a:latin typeface="Franklin Gothic Book"/>
              </a:rPr>
              <a:t>катета к гипотенузе</a:t>
            </a:r>
            <a:endParaRPr b="0" lang="en-US" sz="4000" spc="-1" strike="noStrike">
              <a:solidFill>
                <a:srgbClr val="089ca2"/>
              </a:solidFill>
              <a:latin typeface="Franklin Gothic Book"/>
            </a:endParaRPr>
          </a:p>
        </p:txBody>
      </p:sp>
      <p:sp>
        <p:nvSpPr>
          <p:cNvPr id="440" name="Содержимое 2"/>
          <p:cNvSpPr/>
          <p:nvPr/>
        </p:nvSpPr>
        <p:spPr>
          <a:xfrm>
            <a:off x="1214280" y="1214280"/>
            <a:ext cx="6543720" cy="4429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синусом острого угла в прямоугольном треугольнике называется отношение пр</a:t>
            </a: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лежащего </a:t>
            </a:r>
            <a:r>
              <a:rPr b="1" i="1" lang="ru-RU" sz="4000" spc="-1" strike="noStrike">
                <a:solidFill>
                  <a:srgbClr val="033436"/>
                </a:solidFill>
                <a:latin typeface="Franklin Gothic Book"/>
              </a:rPr>
              <a:t>катета к гипотену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одержимое 2"/>
          <p:cNvSpPr/>
          <p:nvPr/>
        </p:nvSpPr>
        <p:spPr>
          <a:xfrm>
            <a:off x="1214280" y="1214280"/>
            <a:ext cx="6543720" cy="4429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Тангенсом острого угла в прямоугольном треугольнике называется отношение пр</a:t>
            </a: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тиволежащего </a:t>
            </a:r>
            <a:r>
              <a:rPr b="1" lang="ru-RU" sz="4000" spc="-1" strike="noStrike">
                <a:solidFill>
                  <a:srgbClr val="033436"/>
                </a:solidFill>
                <a:latin typeface="Franklin Gothic Book"/>
              </a:rPr>
              <a:t>катета</a:t>
            </a: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033436"/>
                </a:solidFill>
                <a:latin typeface="Franklin Gothic Book"/>
              </a:rPr>
              <a:t>к</a:t>
            </a: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 пр</a:t>
            </a: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лежащему </a:t>
            </a:r>
            <a:r>
              <a:rPr b="1" lang="ru-RU" sz="4000" spc="-1" strike="noStrike">
                <a:solidFill>
                  <a:srgbClr val="033436"/>
                </a:solidFill>
                <a:latin typeface="Franklin Gothic Book"/>
              </a:rPr>
              <a:t>кат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4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4:16:50Z</dcterms:created>
  <dc:creator>SV-OL</dc:creator>
  <dc:description/>
  <dc:language>en-US</dc:language>
  <cp:lastModifiedBy>Максим</cp:lastModifiedBy>
  <dcterms:modified xsi:type="dcterms:W3CDTF">2013-02-11T10:01:02Z</dcterms:modified>
  <cp:revision>30</cp:revision>
  <dc:subject/>
  <dc:title>Прямоугольный треугольник</dc:title>
</cp:coreProperties>
</file>