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4.gif" ContentType="image/gif"/>
  <Override PartName="/ppt/media/image23.gif" ContentType="image/gif"/>
  <Override PartName="/ppt/media/image22.gif" ContentType="image/gif"/>
  <Override PartName="/ppt/media/image18.jpeg" ContentType="image/jpeg"/>
  <Override PartName="/ppt/media/image17.gif" ContentType="image/gif"/>
  <Override PartName="/ppt/media/image15.gif" ContentType="image/gif"/>
  <Override PartName="/ppt/media/image10.gif" ContentType="image/gif"/>
  <Override PartName="/ppt/media/image33.wmf" ContentType="image/x-wmf"/>
  <Override PartName="/ppt/media/image13.png" ContentType="image/png"/>
  <Override PartName="/ppt/media/image32.wmf" ContentType="image/x-wmf"/>
  <Override PartName="/ppt/media/image6.gif" ContentType="image/gif"/>
  <Override PartName="/ppt/media/image11.gif" ContentType="image/gif"/>
  <Override PartName="/ppt/media/image21.wmf" ContentType="image/x-wmf"/>
  <Override PartName="/ppt/media/image34.wmf" ContentType="image/x-wmf"/>
  <Override PartName="/ppt/media/image8.gif" ContentType="image/gif"/>
  <Override PartName="/ppt/media/image38.gif" ContentType="image/gif"/>
  <Override PartName="/ppt/media/image9.gif" ContentType="image/gif"/>
  <Override PartName="/ppt/media/image35.wmf" ContentType="image/x-wmf"/>
  <Override PartName="/ppt/media/image12.gif" ContentType="image/gif"/>
  <Override PartName="/ppt/media/image36.wmf" ContentType="image/x-wmf"/>
  <Override PartName="/ppt/media/image31.wmf" ContentType="image/x-wmf"/>
  <Override PartName="/ppt/media/image5.gif" ContentType="image/gif"/>
  <Override PartName="/ppt/media/image16.wmf" ContentType="image/x-wmf"/>
  <Override PartName="/ppt/media/image28.gif" ContentType="image/gif"/>
  <Override PartName="/ppt/media/image7.wmf" ContentType="image/x-wmf"/>
  <Override PartName="/ppt/media/image37.wmf" ContentType="image/x-wmf"/>
  <Override PartName="/ppt/media/image14.gif" ContentType="image/gif"/>
  <Override PartName="/ppt/media/image30.wmf" ContentType="image/x-wmf"/>
  <Override PartName="/ppt/media/image4.gif" ContentType="image/gif"/>
  <Override PartName="/ppt/media/image3.gif" ContentType="image/gif"/>
  <Override PartName="/ppt/media/image20.jpeg" ContentType="image/jpeg"/>
  <Override PartName="/ppt/media/image26.gif" ContentType="image/gif"/>
  <Override PartName="/ppt/media/image2.jpeg" ContentType="image/jpeg"/>
  <Override PartName="/ppt/media/image25.wmf" ContentType="image/x-wmf"/>
  <Override PartName="/ppt/media/image1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810-485C-48D7-9BC7-F66878B0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E6B6-4D43-4749-976E-9F582A89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A7C-9178-455B-87F1-A9EF5CA3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2EF-F271-4E5B-8958-BD2BF032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5C54-3D1C-4F7A-A6CC-1446A615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98A8-928B-4DFA-8D27-873D20A0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77F8-E6A2-41F0-AA15-2571EFBF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0DE5-ED34-4E05-A95C-426F4775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9422-5C6A-4CFE-8F96-5CB0FD1F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4E9A-3EC3-4FA6-ABCC-2D7F4AA4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1E3D-D6D0-4758-95BE-22C79C37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7F00-54E1-44F6-830A-F62C3FD4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5E1A-D6BF-49FC-9A3A-937D7FF9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2332-E36D-41B6-A174-B80CE365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7216-688C-4E69-9FC8-187F6D3D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06EA-9C6A-4006-9C64-59CCEEF9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DD64-FE1A-481B-BA32-991187B6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F58A-E95B-4A1A-854B-4B8666D2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4A04-9C5C-4BDD-B78C-6073FF1E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75C-768D-4EEE-B6B5-D9E93EB0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F04A-6576-4623-B73A-1A8F4AF4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1C4-3435-4C93-9883-A1A874AE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85B-5156-4185-AD1E-DA85BD04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B701-7990-4CAD-A4A1-8336E204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ABBB-DD7A-4DB6-8450-5DBE9B6599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E649-5874-43B4-9C2D-0BE0A62023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59;&#1088;&#1086;&#1082;%20&#1050;&#1054;&#1046;&#1040;%20&#1048;%20&#1045;&#1025;%20&#1060;&#1059;&#1053;&#1050;&#1062;&#1048;&#1048;.doc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&#1059;&#1088;&#1086;&#1082;%20&#1088;&#1072;&#1079;&#1074;&#1080;&#1074;&#1072;&#1102;&#1097;&#1077;&#1075;&#1086;%20&#1095;&#1090;&#1077;&#1085;&#1080;&#1103;.doc" TargetMode="External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29.wmf"/><Relationship Id="rId4" Type="http://schemas.openxmlformats.org/officeDocument/2006/relationships/image" Target="../media/image31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&#1056;&#1072;&#1073;&#1086;&#1090;&#1072;%20&#1089;%20&#1088;&#1086;&#1076;&#1080;&#1090;&#1077;&#1083;&#1103;&#1084;&#1080;.doc" TargetMode="External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5640" y="21333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07f7"/>
                </a:solidFill>
                <a:latin typeface="Times New Roman"/>
              </a:rPr>
              <a:t>Система работы</a:t>
            </a:r>
            <a:br>
              <a:rPr sz="3200"/>
            </a:br>
            <a:r>
              <a:rPr b="0" i="1" lang="ru-RU" sz="3200" spc="-1" strike="noStrike">
                <a:solidFill>
                  <a:srgbClr val="3507f7"/>
                </a:solidFill>
                <a:latin typeface="Times New Roman"/>
              </a:rPr>
              <a:t>учителя 1 квалификационной категории</a:t>
            </a:r>
            <a:br>
              <a:rPr sz="3200"/>
            </a:br>
            <a:r>
              <a:rPr b="0" i="1" lang="ru-RU" sz="3200" spc="-1" strike="noStrike">
                <a:solidFill>
                  <a:srgbClr val="3507f7"/>
                </a:solidFill>
                <a:latin typeface="Times New Roman"/>
              </a:rPr>
              <a:t>МБОУ «Верхнеуслонская гимназия»</a:t>
            </a:r>
            <a:br>
              <a:rPr sz="3200"/>
            </a:br>
            <a:r>
              <a:rPr b="0" i="1" lang="ru-RU" sz="3200" spc="-1" strike="noStrike">
                <a:solidFill>
                  <a:srgbClr val="3507f7"/>
                </a:solidFill>
                <a:latin typeface="Times New Roman"/>
              </a:rPr>
              <a:t>Анохиной Анны Александровн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148000" y="475920"/>
            <a:ext cx="367164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ебёнок без творчества - засушенный цветок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.А. Сухомлинск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61444841"/>
          <p:cNvPicPr/>
          <p:nvPr/>
        </p:nvPicPr>
        <p:blipFill>
          <a:blip r:embed="rId1"/>
          <a:stretch/>
        </p:blipFill>
        <p:spPr>
          <a:xfrm>
            <a:off x="1258920" y="3645000"/>
            <a:ext cx="39607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07f7"/>
                </a:solidFill>
                <a:latin typeface="Times New Roman"/>
              </a:rPr>
              <a:t>Дидактические принципы </a:t>
            </a:r>
            <a:br>
              <a:rPr sz="3600"/>
            </a:br>
            <a:r>
              <a:rPr b="1" lang="ru-RU" sz="3600" spc="-1" strike="noStrike">
                <a:solidFill>
                  <a:srgbClr val="3507f7"/>
                </a:solidFill>
                <a:latin typeface="Times New Roman"/>
              </a:rPr>
              <a:t>системы Л.В. Занков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3649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уши зайц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сут к барабан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яц ворчит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Барабанить не стан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 настроени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 обстановк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 подготов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вижу морковк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40360" y="1700280"/>
            <a:ext cx="464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оверительные отнош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«Ребёнок – это тот же человек, только маленький», - Л.В. Занк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65662"/>
          <p:cNvPicPr/>
          <p:nvPr/>
        </p:nvPicPr>
        <p:blipFill>
          <a:blip r:embed="rId1"/>
          <a:stretch/>
        </p:blipFill>
        <p:spPr>
          <a:xfrm>
            <a:off x="3851280" y="4376880"/>
            <a:ext cx="288144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07f7"/>
                </a:solidFill>
                <a:latin typeface="Times New Roman"/>
              </a:rPr>
              <a:t>Дидактические принципы </a:t>
            </a:r>
            <a:br>
              <a:rPr sz="3600"/>
            </a:br>
            <a:r>
              <a:rPr b="1" lang="ru-RU" sz="3600" spc="-1" strike="noStrike">
                <a:solidFill>
                  <a:srgbClr val="3507f7"/>
                </a:solidFill>
                <a:latin typeface="Times New Roman"/>
              </a:rPr>
              <a:t>системы Л.В. Занков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ое слово пропущено? Почем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  дом  диван  дорога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ы  дома  диваны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роги  вор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76360" y="1773000"/>
            <a:ext cx="3816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ик добывает знания самостояте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–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к строится в форме диску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тивность на уроке поощря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6" descr="J0178313"/>
          <p:cNvPicPr/>
          <p:nvPr/>
        </p:nvPicPr>
        <p:blipFill>
          <a:blip r:embed="rId1"/>
          <a:stretch/>
        </p:blipFill>
        <p:spPr>
          <a:xfrm>
            <a:off x="2556000" y="472428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971640" y="54450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 русском языке есть слова, которые не имеют формы ед. числа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07f7"/>
                </a:solidFill>
                <a:latin typeface="Times New Roman"/>
              </a:rPr>
              <a:t>Дидактические принципы </a:t>
            </a:r>
            <a:br>
              <a:rPr sz="3600"/>
            </a:br>
            <a:r>
              <a:rPr b="1" lang="ru-RU" sz="3600" spc="-1" strike="noStrike">
                <a:solidFill>
                  <a:srgbClr val="3507f7"/>
                </a:solidFill>
                <a:latin typeface="Times New Roman"/>
              </a:rPr>
              <a:t>системы Л.В. Занков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289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чем собаке хвос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ему снег белы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00720" y="1700280"/>
            <a:ext cx="418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чего не давать детям в готовом вид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просы поискового характ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изация исследовательской деят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един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ний с эмоц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изац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тор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J0189254"/>
          <p:cNvPicPr/>
          <p:nvPr/>
        </p:nvPicPr>
        <p:blipFill>
          <a:blip r:embed="rId1"/>
          <a:stretch/>
        </p:blipFill>
        <p:spPr>
          <a:xfrm>
            <a:off x="2268360" y="4437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J0205361"/>
          <p:cNvPicPr/>
          <p:nvPr/>
        </p:nvPicPr>
        <p:blipFill>
          <a:blip r:embed="rId2"/>
          <a:stretch/>
        </p:blipFill>
        <p:spPr>
          <a:xfrm>
            <a:off x="1187280" y="2276640"/>
            <a:ext cx="172908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07f7"/>
                </a:solidFill>
                <a:latin typeface="Times New Roman"/>
              </a:rPr>
              <a:t>Дидактические принципы </a:t>
            </a:r>
            <a:br>
              <a:rPr sz="3600"/>
            </a:br>
            <a:r>
              <a:rPr b="1" lang="ru-RU" sz="3600" spc="-1" strike="noStrike">
                <a:solidFill>
                  <a:srgbClr val="3507f7"/>
                </a:solidFill>
                <a:latin typeface="Times New Roman"/>
              </a:rPr>
              <a:t>системы Л.В. Занков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560" y="175248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.В. Зан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Ребенок не должен панически бояться ошибиться. Невозможно научиться чему-то, не ошибаясь. Старайтесь не выработать у ребенка страха перед ошибкой. Чувство страха – плохой советчик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Дружеские отношения между учителем и учениками, создание внутреннего побуждения к учению, вся атмосфера живого познания действуют как необходимые компоненты целостной системы»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476360" y="5753160"/>
            <a:ext cx="69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042920" y="57340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шибка – находка для учител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9" descr="J0213506"/>
          <p:cNvPicPr/>
          <p:nvPr/>
        </p:nvPicPr>
        <p:blipFill>
          <a:blip r:embed="rId1"/>
          <a:stretch/>
        </p:blipFill>
        <p:spPr>
          <a:xfrm>
            <a:off x="900000" y="549360"/>
            <a:ext cx="122400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07f7"/>
                </a:solidFill>
                <a:latin typeface="Times New Roman"/>
              </a:rPr>
              <a:t>Дидактические принципы </a:t>
            </a:r>
            <a:br>
              <a:rPr sz="3600"/>
            </a:br>
            <a:r>
              <a:rPr b="1" lang="ru-RU" sz="3600" spc="-1" strike="noStrike">
                <a:solidFill>
                  <a:srgbClr val="3507f7"/>
                </a:solidFill>
                <a:latin typeface="Times New Roman"/>
              </a:rPr>
              <a:t>системы Л.В. Занков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34" name="Organization Chart 9"/>
          <p:cNvGrpSpPr/>
          <p:nvPr/>
        </p:nvGrpSpPr>
        <p:grpSpPr>
          <a:xfrm>
            <a:off x="1042920" y="1628640"/>
            <a:ext cx="7561080" cy="3744000"/>
            <a:chOff x="1042920" y="1628640"/>
            <a:chExt cx="7561080" cy="3744000"/>
          </a:xfrm>
        </p:grpSpPr>
        <p:cxnSp>
          <p:nvCxnSpPr>
            <p:cNvPr id="135" name="_s1028"/>
            <p:cNvCxnSpPr>
              <a:stCxn id="136" idx="0"/>
              <a:endCxn id="137" idx="2"/>
            </p:cNvCxnSpPr>
            <p:nvPr/>
          </p:nvCxnSpPr>
          <p:spPr>
            <a:xfrm flipV="1" rot="16200000">
              <a:off x="5919480" y="2028240"/>
              <a:ext cx="749520" cy="2944080"/>
            </a:xfrm>
            <a:prstGeom prst="bentConnector3">
              <a:avLst>
                <a:gd name="adj1" fmla="val 138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1029"/>
            <p:cNvCxnSpPr>
              <a:stCxn id="139" idx="0"/>
              <a:endCxn id="137" idx="2"/>
            </p:cNvCxnSpPr>
            <p:nvPr/>
          </p:nvCxnSpPr>
          <p:spPr>
            <a:xfrm flipV="1" rot="16200000">
              <a:off x="4938840" y="3008880"/>
              <a:ext cx="749520" cy="983160"/>
            </a:xfrm>
            <a:prstGeom prst="bentConnector3">
              <a:avLst>
                <a:gd name="adj1" fmla="val 138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30"/>
            <p:cNvCxnSpPr>
              <a:stCxn id="141" idx="0"/>
              <a:endCxn id="137" idx="2"/>
            </p:cNvCxnSpPr>
            <p:nvPr/>
          </p:nvCxnSpPr>
          <p:spPr>
            <a:xfrm flipH="1" flipV="1" rot="5400000">
              <a:off x="3958200" y="3011040"/>
              <a:ext cx="749520" cy="978840"/>
            </a:xfrm>
            <a:prstGeom prst="bentConnector3">
              <a:avLst>
                <a:gd name="adj1" fmla="val 138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031"/>
            <p:cNvCxnSpPr>
              <a:stCxn id="143" idx="0"/>
              <a:endCxn id="137" idx="2"/>
            </p:cNvCxnSpPr>
            <p:nvPr/>
          </p:nvCxnSpPr>
          <p:spPr>
            <a:xfrm flipH="1" flipV="1" rot="5400000">
              <a:off x="2979000" y="2031480"/>
              <a:ext cx="749520" cy="2938320"/>
            </a:xfrm>
            <a:prstGeom prst="bentConnector3">
              <a:avLst>
                <a:gd name="adj1" fmla="val 138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7" name="_s1032"/>
            <p:cNvSpPr/>
            <p:nvPr/>
          </p:nvSpPr>
          <p:spPr>
            <a:xfrm>
              <a:off x="3982320" y="1628640"/>
              <a:ext cx="1680480" cy="1497600"/>
            </a:xfrm>
            <a:prstGeom prst="roundRect">
              <a:avLst>
                <a:gd name="adj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Разнообраз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фор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обуч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_s1033"/>
            <p:cNvSpPr/>
            <p:nvPr/>
          </p:nvSpPr>
          <p:spPr>
            <a:xfrm>
              <a:off x="1042920" y="3875040"/>
              <a:ext cx="1680480" cy="1497600"/>
            </a:xfrm>
            <a:prstGeom prst="roundRect">
              <a:avLst>
                <a:gd name="adj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Занят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в класс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_s1034"/>
            <p:cNvSpPr/>
            <p:nvPr/>
          </p:nvSpPr>
          <p:spPr>
            <a:xfrm>
              <a:off x="3003840" y="3875040"/>
              <a:ext cx="1680480" cy="1497600"/>
            </a:xfrm>
            <a:prstGeom prst="roundRect">
              <a:avLst>
                <a:gd name="adj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В библиотек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1035"/>
            <p:cNvSpPr/>
            <p:nvPr/>
          </p:nvSpPr>
          <p:spPr>
            <a:xfrm>
              <a:off x="4964760" y="3875040"/>
              <a:ext cx="1680480" cy="1497600"/>
            </a:xfrm>
            <a:prstGeom prst="roundRect">
              <a:avLst>
                <a:gd name="adj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На природ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1036"/>
            <p:cNvSpPr/>
            <p:nvPr/>
          </p:nvSpPr>
          <p:spPr>
            <a:xfrm>
              <a:off x="6925680" y="3875040"/>
              <a:ext cx="1678320" cy="1497600"/>
            </a:xfrm>
            <a:prstGeom prst="roundRect">
              <a:avLst>
                <a:gd name="adj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Концерт 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" name="Picture 19" descr="untitled"/>
          <p:cNvPicPr/>
          <p:nvPr/>
        </p:nvPicPr>
        <p:blipFill>
          <a:blip r:embed="rId1"/>
          <a:stretch/>
        </p:blipFill>
        <p:spPr>
          <a:xfrm>
            <a:off x="1835280" y="5589720"/>
            <a:ext cx="611964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07f7"/>
                </a:solidFill>
                <a:latin typeface="Times New Roman"/>
              </a:rPr>
              <a:t>Какие вопросы меня волнуют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8976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могу ли я помочь ребёнку расти целостным человеком, который чувствует, рождает неожиданные идеи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ю ли я входить во внутренний мир человека, который учится и взрослеет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могу ли помочь моим ученикам сохранить любопытство, живой интерес к самим себе, к миру, который их окружает- сохранить и поддержать самое дорогое, что есть у ребёнк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ю ли я строить отношения, в которых есть место эмоциям, интенсивности, открытости и доверию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силам ли мне обнаружить в каждом моём ученике ниточку индивидуальности, смогу ли плести косичку из индивидуальных интересов и следовать им, куда бы они не вели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сам я творческий человек или нет? Смогу ли я принять и развить творческих детей, которые всегда приносят массу беспокойств и отличаются чрезмерной активностью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07f7"/>
                </a:solidFill>
                <a:latin typeface="Times New Roman"/>
              </a:rPr>
              <a:t>Компоненты </a:t>
            </a:r>
            <a:br>
              <a:rPr sz="4000"/>
            </a:br>
            <a:r>
              <a:rPr b="1" lang="ru-RU" sz="4000" spc="-1" strike="noStrike">
                <a:solidFill>
                  <a:srgbClr val="3507f7"/>
                </a:solidFill>
                <a:latin typeface="Times New Roman"/>
              </a:rPr>
              <a:t>творческой деятельност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ибкость мышлени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амостоятельность мышлени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истематичность и последовательност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иалектичность мышлени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пособность не бояться придумывать новое и брать ответственность за своё решени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507f7"/>
                </a:solidFill>
                <a:latin typeface="Times New Roman"/>
              </a:rPr>
              <a:t>Формирование творческой личности</a:t>
            </a:r>
            <a:endParaRPr b="0" lang="en-US" sz="3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0" name="Organization Chart 6"/>
          <p:cNvGrpSpPr/>
          <p:nvPr/>
        </p:nvGrpSpPr>
        <p:grpSpPr>
          <a:xfrm>
            <a:off x="1042920" y="1628640"/>
            <a:ext cx="7703280" cy="4462920"/>
            <a:chOff x="1042920" y="1628640"/>
            <a:chExt cx="7703280" cy="4462920"/>
          </a:xfrm>
        </p:grpSpPr>
        <p:cxnSp>
          <p:nvCxnSpPr>
            <p:cNvPr id="151" name="_s2052"/>
            <p:cNvCxnSpPr>
              <a:stCxn id="152" idx="0"/>
              <a:endCxn id="153" idx="2"/>
            </p:cNvCxnSpPr>
            <p:nvPr/>
          </p:nvCxnSpPr>
          <p:spPr>
            <a:xfrm flipV="1" rot="16200000">
              <a:off x="5484600" y="2822040"/>
              <a:ext cx="893160" cy="2075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2053"/>
            <p:cNvCxnSpPr>
              <a:stCxn id="155" idx="0"/>
              <a:endCxn id="153" idx="2"/>
            </p:cNvCxnSpPr>
            <p:nvPr/>
          </p:nvCxnSpPr>
          <p:spPr>
            <a:xfrm flipH="1" flipV="1" rot="5400000">
              <a:off x="3411000" y="2822760"/>
              <a:ext cx="893160" cy="20743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3" name="_s2054"/>
            <p:cNvSpPr/>
            <p:nvPr/>
          </p:nvSpPr>
          <p:spPr>
            <a:xfrm>
              <a:off x="3116520" y="1628640"/>
              <a:ext cx="3555360" cy="1785240"/>
            </a:xfrm>
            <a:prstGeom prst="roundRect">
              <a:avLst>
                <a:gd name="adj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Формы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взаимодействия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с учащимися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_s2055"/>
            <p:cNvSpPr/>
            <p:nvPr/>
          </p:nvSpPr>
          <p:spPr>
            <a:xfrm>
              <a:off x="1042920" y="4306320"/>
              <a:ext cx="3555360" cy="1785240"/>
            </a:xfrm>
            <a:prstGeom prst="roundRect">
              <a:avLst>
                <a:gd name="adj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Урочная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_s2056"/>
            <p:cNvSpPr/>
            <p:nvPr/>
          </p:nvSpPr>
          <p:spPr>
            <a:xfrm>
              <a:off x="5190840" y="4306320"/>
              <a:ext cx="3555360" cy="1785240"/>
            </a:xfrm>
            <a:prstGeom prst="roundRect">
              <a:avLst>
                <a:gd name="adj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Внеурочная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07f7"/>
                </a:solidFill>
                <a:latin typeface="Times New Roman"/>
              </a:rPr>
              <a:t>Творческий подход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952880" y="1752480"/>
            <a:ext cx="37339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2880" y="3885840"/>
            <a:ext cx="3733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439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во сильно корнями, а человек – делами, мыслями. Удовольствие мыслить подарено нам природой, а корни – мысли учим детей «выращивать» на уроке. Значит урок - дар, удовольствие не только получать знания, но и учиться самостоятельно их добыва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J0219108"/>
          <p:cNvPicPr/>
          <p:nvPr/>
        </p:nvPicPr>
        <p:blipFill>
          <a:blip r:embed="rId1"/>
          <a:stretch/>
        </p:blipFill>
        <p:spPr>
          <a:xfrm>
            <a:off x="4788000" y="2060640"/>
            <a:ext cx="4032000" cy="3946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971640" y="692280"/>
            <a:ext cx="7632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Если будем следовать за природой, как за вождём, мы никогда не заблудим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Цицер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07f7"/>
                </a:solidFill>
                <a:latin typeface="Times New Roman"/>
              </a:rPr>
              <a:t>Творческий подход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Цель: развитие активного словаря, логического мышления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3280" y="1752480"/>
            <a:ext cx="4105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зверька маленьк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пк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 зато больш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п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юбит в школу он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оди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ятёрки приноси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042560" y="177336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авьте словесный ручеёк , пользуясь разными рифмами, например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пка-шапка, пап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чини стихотворен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J0189227"/>
          <p:cNvPicPr/>
          <p:nvPr/>
        </p:nvPicPr>
        <p:blipFill>
          <a:blip r:embed="rId1"/>
          <a:stretch/>
        </p:blipFill>
        <p:spPr>
          <a:xfrm>
            <a:off x="5003640" y="4941720"/>
            <a:ext cx="3024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07f7"/>
                </a:solidFill>
                <a:latin typeface="Times New Roman"/>
              </a:rPr>
              <a:t>Всё в наших руках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л мудрец, который знал всё. Один человек захотел доказать, что мудрец знает не всё. Зажав в ладонях бабочку, он спросил: «Скажи, мудрец, какая бабочка у меня в руках: мёртвая или живая? А сам думает: «Скажет жива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я её умертвлю, скажет мёртва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ыпущу». Мудрец подумал и ответил: «Всё в твоих руках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07f7"/>
                </a:solidFill>
                <a:latin typeface="Times New Roman"/>
              </a:rPr>
              <a:t>Творческий подход</a:t>
            </a:r>
            <a:br>
              <a:rPr sz="4400"/>
            </a:b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Цель: наращивание предложений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я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утбольный мя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упили футбольный мя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тром купили футбольный мяч в магазин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асе утром купили футбольный мяч в магазин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Сундучок, сундучок, приоткрой-ка свой бочок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J0238217"/>
          <p:cNvPicPr/>
          <p:nvPr/>
        </p:nvPicPr>
        <p:blipFill>
          <a:blip r:embed="rId1"/>
          <a:stretch/>
        </p:blipFill>
        <p:spPr>
          <a:xfrm>
            <a:off x="5003640" y="3141720"/>
            <a:ext cx="367200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07f7"/>
                </a:solidFill>
                <a:latin typeface="Times New Roman"/>
              </a:rPr>
              <a:t>Творческий подход</a:t>
            </a:r>
            <a:br>
              <a:rPr sz="4400"/>
            </a:b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Цель: знакомство с тайнами словаря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ревнование по поиску нового слова ( найди и удиви товарищ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людение за правописанием словарных с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ление речевых опор для запоминания правописания сло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Стака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мы его став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Субб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двойной праздник, два выход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Солд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храняет сон люд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вы составите опоры для запоминан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07f7"/>
                </a:solidFill>
                <a:latin typeface="Times New Roman"/>
              </a:rPr>
              <a:t>Творческий подход</a:t>
            </a:r>
            <a:br>
              <a:rPr sz="4000"/>
            </a:b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Цель: учить детей кодировать слова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лагаю шифров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2 3 4 5 6 7 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а м н о р к в 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с г д я л ч ц 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также и ключ к отгад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-1 1-4 2-5 1-4 1-2 1-1(солома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и сами составляют ключи с удовольств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07f7"/>
                </a:solidFill>
                <a:latin typeface="Times New Roman"/>
              </a:rPr>
              <a:t>Мне всегда помогают шесть «Т»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рп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м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рче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а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одоление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днос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66462"/>
          <p:cNvPicPr/>
          <p:nvPr/>
        </p:nvPicPr>
        <p:blipFill>
          <a:blip r:embed="rId1"/>
          <a:stretch/>
        </p:blipFill>
        <p:spPr>
          <a:xfrm rot="867000">
            <a:off x="6084360" y="1700280"/>
            <a:ext cx="22258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Коллективно-творческое дело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тодика сотрудничества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8" name="Picture 8" descr="C:\Users\ADMIN\Desktop\i (1).jpg"/>
          <p:cNvPicPr/>
          <p:nvPr/>
        </p:nvPicPr>
        <p:blipFill>
          <a:blip r:embed="rId2"/>
          <a:stretch/>
        </p:blipFill>
        <p:spPr>
          <a:xfrm>
            <a:off x="2268360" y="1674720"/>
            <a:ext cx="570888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507f7"/>
                </a:solidFill>
                <a:latin typeface="Times New Roman"/>
              </a:rPr>
              <a:t>«Только то обучение в детском возрасте хорошо, которое забегает вперёд развития и ведёт развитие за собой»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br>
              <a:rPr sz="22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Л.С. Выготский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93696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ставим примеры с ответом 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3+3  2+4  5+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ем отличается первое слагаемое от второго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к по-другому составить и записать эти примеры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йдём закономерность в записи и решении пример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19280" y="1752480"/>
            <a:ext cx="3467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900000" y="602136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Учимся сами добывать знания с помощью наблю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7" descr="09231"/>
          <p:cNvPicPr/>
          <p:nvPr/>
        </p:nvPicPr>
        <p:blipFill>
          <a:blip r:embed="rId1"/>
          <a:stretch/>
        </p:blipFill>
        <p:spPr>
          <a:xfrm>
            <a:off x="5076720" y="2852640"/>
            <a:ext cx="37432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07f7"/>
                </a:solidFill>
                <a:latin typeface="Times New Roman"/>
              </a:rPr>
              <a:t>Восприятие – основной процесс, вокруг которого строится развитие учащихс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.К. Айвазовский «Девятый вал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6" descr="i"/>
          <p:cNvPicPr/>
          <p:nvPr/>
        </p:nvPicPr>
        <p:blipFill>
          <a:blip r:embed="rId1"/>
          <a:stretch/>
        </p:blipFill>
        <p:spPr>
          <a:xfrm>
            <a:off x="2195640" y="2349360"/>
            <a:ext cx="554508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07f7"/>
                </a:solidFill>
                <a:latin typeface="Times New Roman"/>
              </a:rPr>
              <a:t>Развитие психических процесс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** посмотри, что изменилос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** убери лишний предмет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** что нужно изменит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** найди закономерност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** догадай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** предложи своё решение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5734080"/>
            <a:ext cx="79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нимание, память, логическое мышление, восприя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7956720" y="1341360"/>
            <a:ext cx="287280" cy="4321080"/>
          </a:xfrm>
          <a:prstGeom prst="downArrow">
            <a:avLst>
              <a:gd name="adj1" fmla="val 50000"/>
              <a:gd name="adj2" fmla="val 37603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07f7"/>
                </a:solidFill>
                <a:latin typeface="Times New Roman"/>
              </a:rPr>
              <a:t>В период обучения грамоте идёт развитие учащихся по следующим направлениям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мысли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речевой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комство со строением родного языка, основными грамматическими поняти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07f7"/>
                </a:solidFill>
                <a:latin typeface="Times New Roman"/>
              </a:rPr>
              <a:t>В мастерской слов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59533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ем со словом «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шали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значит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шали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пробуем подобрать синони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исовать  словесную картину  «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Шалуниш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всего ряда слов выбираем те, которые означают 1) просто шалость 2) невинную шалость 3) недобрую шалость – от которой может быть вред людям или их друзьям: кошке, собак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дёт воспитание на примере, что такое хорошо и что такое плохо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" descr="J0232734"/>
          <p:cNvPicPr/>
          <p:nvPr/>
        </p:nvPicPr>
        <p:blipFill>
          <a:blip r:embed="rId1"/>
          <a:stretch/>
        </p:blipFill>
        <p:spPr>
          <a:xfrm flipH="1">
            <a:off x="6372000" y="3876840"/>
            <a:ext cx="24397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07f7"/>
                </a:solidFill>
                <a:latin typeface="Times New Roman"/>
              </a:rPr>
              <a:t>Цель педагогической деятельност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ение оптимальног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щего развит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аждого школьника при сохранении его здоровь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7" descr="08764"/>
          <p:cNvPicPr/>
          <p:nvPr/>
        </p:nvPicPr>
        <p:blipFill>
          <a:blip r:embed="rId1"/>
          <a:stretch/>
        </p:blipFill>
        <p:spPr>
          <a:xfrm>
            <a:off x="3419640" y="3860640"/>
            <a:ext cx="25938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07f7"/>
                </a:solidFill>
                <a:latin typeface="Times New Roman"/>
              </a:rPr>
              <a:t>Исследование на уроках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401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ищем в толковом словаре значимые слова, которые не понял Слонёнок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Напаст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) броситься на кого- либ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) встретить, обнаружить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76720" y="1700280"/>
            <a:ext cx="3733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Сначала мы с тобой 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нападё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на след, - сказал попуга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Не надо, испугался Слонёнок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Почему?- удивился попуга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Ну, - смутился Слонёнок, мы на него 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нападё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он даст сдачи. Получится драка. Не надо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Осте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Испорченная погод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8" descr="54907950"/>
          <p:cNvPicPr/>
          <p:nvPr/>
        </p:nvPicPr>
        <p:blipFill>
          <a:blip r:embed="rId1"/>
          <a:stretch/>
        </p:blipFill>
        <p:spPr>
          <a:xfrm flipH="1">
            <a:off x="3850920" y="4869000"/>
            <a:ext cx="18730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07f7"/>
                </a:solidFill>
                <a:latin typeface="Times New Roman"/>
              </a:rPr>
              <a:t>«Учись говорить красиво»</a:t>
            </a:r>
            <a:br>
              <a:rPr sz="4000"/>
            </a:b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Памятка для детей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** Я полагаю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** Я думаю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** Убеждена в том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** Хочется пояснить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** Думаю, что Коля ошибается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** Мне хотелось бы высказать своё мнение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** Будь добра, повтори ещё раз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** Я согласна, но хочу дополнить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** Как хорошо сказала Оля, я с ней согласна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042920" y="56102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«Ребёнок развивается, обучаясь и воспитываясь»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.С. Выготский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07f7"/>
                </a:solidFill>
                <a:latin typeface="Times New Roman"/>
              </a:rPr>
              <a:t>Приём работы со словарными словам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м набор для развития оперативной памяти учащихся на произведениях С.Я. Маршака (практическая работа). Итог рабо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сна- Это я! (9 сл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ходи мороз. (10 сл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лнце спит. (10 сл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нега уснули. (11 слов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ята пишут на уроке эти предложения по памяти  по мере высыхания букв на доске, ведь учитель пишет не мелом, а тряпочкой. С наращиванием количества букв в словах происходит постепенное развитие оперативной памяти учащих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" descr="0314357e8e39cc15426f83e893893824[1]"/>
          <p:cNvPicPr/>
          <p:nvPr/>
        </p:nvPicPr>
        <p:blipFill>
          <a:blip r:embed="rId1"/>
          <a:stretch/>
        </p:blipFill>
        <p:spPr>
          <a:xfrm>
            <a:off x="6300720" y="3573360"/>
            <a:ext cx="20862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07f7"/>
                </a:solidFill>
                <a:latin typeface="Times New Roman"/>
              </a:rPr>
              <a:t>Коммуникативный подход </a:t>
            </a:r>
            <a:br>
              <a:rPr sz="3600"/>
            </a:br>
            <a:r>
              <a:rPr b="1" lang="ru-RU" sz="3600" spc="-1" strike="noStrike">
                <a:solidFill>
                  <a:srgbClr val="3507f7"/>
                </a:solidFill>
                <a:latin typeface="Times New Roman"/>
              </a:rPr>
              <a:t>в обучении родному языку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42560" y="5733720"/>
            <a:ext cx="42260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«Поэтическая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тетрадь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 класса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00360" y="1752480"/>
            <a:ext cx="439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бр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Я начну, а ты продолж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Рифмовщик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Фантастические проекты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абавные истории в стихах и в проз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6" descr="79743"/>
          <p:cNvPicPr/>
          <p:nvPr/>
        </p:nvPicPr>
        <p:blipFill>
          <a:blip r:embed="rId1"/>
          <a:stretch/>
        </p:blipFill>
        <p:spPr>
          <a:xfrm>
            <a:off x="1547640" y="2133720"/>
            <a:ext cx="25146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07f7"/>
                </a:solidFill>
                <a:latin typeface="Times New Roman"/>
              </a:rPr>
              <a:t>Творить – значит мысли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чинить небылицу со словам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кворец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гурец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с на грядк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гуре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л на дерев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воре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воре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ыл мудрец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хотел съес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гуре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ANTN051"/>
          <p:cNvPicPr/>
          <p:nvPr/>
        </p:nvPicPr>
        <p:blipFill>
          <a:blip r:embed="rId1"/>
          <a:stretch/>
        </p:blipFill>
        <p:spPr>
          <a:xfrm flipH="1">
            <a:off x="5866920" y="3933720"/>
            <a:ext cx="290988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07f7"/>
                </a:solidFill>
                <a:latin typeface="Times New Roman"/>
              </a:rPr>
              <a:t>Творить – значит мысли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501804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ишит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вариу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 точки з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вариан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дола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вариан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ыб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вариан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лодного ко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вните высказыва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6" descr="26285"/>
          <p:cNvPicPr/>
          <p:nvPr/>
        </p:nvPicPr>
        <p:blipFill>
          <a:blip r:embed="rId1"/>
          <a:stretch/>
        </p:blipFill>
        <p:spPr>
          <a:xfrm>
            <a:off x="4932360" y="3141720"/>
            <a:ext cx="363528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07f7"/>
                </a:solidFill>
                <a:latin typeface="Times New Roman"/>
              </a:rPr>
              <a:t>Творить – значит мысли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920" y="1752480"/>
            <a:ext cx="468144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Шифров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ЗАБВТЕРАДК 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йдите два слова с которыми мы сегодня познакомились (завтрак, обед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крой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СЕ ДО НУ ЛО 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 Соедините слоги, чтобы получились слова (село, надо…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азвед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Нужно прочитать первые и последние слова во всех предложениях. Это упражнение развивает зрительное восприятие и мыслительную деятель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8" descr="CRCTR142"/>
          <p:cNvPicPr/>
          <p:nvPr/>
        </p:nvPicPr>
        <p:blipFill>
          <a:blip r:embed="rId1"/>
          <a:stretch/>
        </p:blipFill>
        <p:spPr>
          <a:xfrm>
            <a:off x="5580000" y="2637000"/>
            <a:ext cx="32292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Методы развивающего чтения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6" descr="27fd0d30bfef8748b0e7979eaae366b1[1]"/>
          <p:cNvPicPr/>
          <p:nvPr/>
        </p:nvPicPr>
        <p:blipFill>
          <a:blip r:embed="rId2"/>
          <a:stretch/>
        </p:blipFill>
        <p:spPr>
          <a:xfrm>
            <a:off x="6877080" y="4292640"/>
            <a:ext cx="1798560" cy="179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755640" y="1413000"/>
          <a:ext cx="8137440" cy="5211720"/>
        </p:xfrm>
        <a:graphic>
          <a:graphicData uri="http://schemas.openxmlformats.org/drawingml/2006/table">
            <a:tbl>
              <a:tblPr/>
              <a:tblGrid>
                <a:gridCol w="728640"/>
                <a:gridCol w="4692600"/>
                <a:gridCol w="2716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ие приемы обучения чт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слов слева-направо по памяти (кот-ток, казак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зрительной памя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мотри на слово, закрой глаза, попытайся его увидеть. Тренируясь можно добиться запоминания целых строк тек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центрального з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тянуть одну руку вперед, фиксировать взгляд на указательном пальце, одновременно другую руку приложить к виску и периодически отводить в сторону. При угле в 9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пробовать увидеть обе руки, поменять положение ру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бокового и центрального зрения как условия быстрого чт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ить перед собой лист бумаги, написать буквы посередине, зафиксировать на ней взгляд. Одновременно положить на этот же лист вырезанную другую букву и передвигать ее от центра в стороны, удерживая обе буквы в поле зр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ровка глазодвигательного механизма, развитие его коорди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текста в разном темпе – медленном, среднем, скороговороч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с помехами, ученик читает под счет или звук метроном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через решетку (на текст накладывают решетку, сделанную из бумаг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ровка чт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Rectangle 132"/>
          <p:cNvSpPr/>
          <p:nvPr/>
        </p:nvSpPr>
        <p:spPr>
          <a:xfrm>
            <a:off x="0" y="687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07f7"/>
                </a:solidFill>
                <a:latin typeface="Times New Roman"/>
              </a:rPr>
              <a:t>Математические головоломк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1 класс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.Расставь знаки 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+6…6+3     7+2…7-2     6+3…4+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тавь пропущенные числ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+2=7     7-…=4     …+1=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ля выше Веры, а Вера выше Наташи. Кто из девочек выше всех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ставь все возможные примеры с ответом 7 на сложени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 трёх кружков составь дв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07f7"/>
                </a:solidFill>
                <a:latin typeface="Times New Roman"/>
              </a:rPr>
              <a:t>Математические головоломк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993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 клас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лько двузначных чисел можно составить, пользуясь цифрами 1 2 3, при условии, что цифры не будут повторяться. Запиши эти чис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ца одного гражданина зовут Николай Петрович, а сына Алексей Владимирович. Как зовут гражданин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традь дешевле ручки, но дороже карандаша. Что дешевле: карандаш или ручк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три числа при сложении и  умножении дают один и тот же результ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07f7"/>
                </a:solidFill>
                <a:latin typeface="Times New Roman"/>
              </a:rPr>
              <a:t>Что такое «общее развитие»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80000" y="1752480"/>
            <a:ext cx="504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ув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равственные предст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07f7"/>
                </a:solidFill>
                <a:latin typeface="Times New Roman"/>
              </a:rPr>
              <a:t>на ба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ЗН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УМ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НАВЫ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21795"/>
          <p:cNvPicPr/>
          <p:nvPr/>
        </p:nvPicPr>
        <p:blipFill>
          <a:blip r:embed="rId1"/>
          <a:stretch/>
        </p:blipFill>
        <p:spPr>
          <a:xfrm>
            <a:off x="1116000" y="2133720"/>
            <a:ext cx="244008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07f7"/>
                </a:solidFill>
                <a:latin typeface="Times New Roman"/>
              </a:rPr>
              <a:t>Математические головоломк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6201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3 класс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квартирах № 1,2,3 жили три котёнка: белый, чёрный, рыжий. В квартирах № 1 и № 2 не жил чёрный котёнок. Белый котёнок не жил в квартире № 1. В  какой квартире жил каждый котёнок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жду цифрами 1,2,3,4,5 поставь знаки и скобки так, чтобы значение равнялось 4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к разделить торт на 7 частей так, чтобы на каждом куске было по розочке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кие два числа, если их умножить или сложить дадут одинаковый ответ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07f7"/>
                </a:solidFill>
                <a:latin typeface="Times New Roman"/>
              </a:rPr>
              <a:t>Математические головоломк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7708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4 класс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Малыш и Карлсон сидели на крыше и наблюдали за голубями. На крыше сидели несколько голубей, когда на крышу село ещё 15 голубей, а улетело 18 голубей, то осталось 16. Сколько голубей было на крыше сначала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оля, Боря, Вова и Юра заняли первые четыре места в соревновании, причём никакие два мальчика не делили между собой одно и то же место. На вопрос, какие места заняли ребята, трое ответили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1) Коля – не 1 и не 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2) Боря – 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3) Вова не был последним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акое место занял каждый из мальчиков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акие примеры зашифрованы: АУ + УА = СО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динаковые буквы обозначают одинаковые цифры, а разные буквы – разные цифры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07f7"/>
                </a:solidFill>
                <a:latin typeface="Times New Roman"/>
              </a:rPr>
              <a:t>Формы контрол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этапный контрол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ьменный тематический контроль – текущий и итогов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ный опрос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рный и групповой взаимоконтрол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ашний контрол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контроль и самооцен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07f7"/>
                </a:solidFill>
                <a:latin typeface="Times New Roman"/>
              </a:rPr>
              <a:t>Формы индивидуальной и дифференцированной работы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ивидуальные задания для самостоятельной работы, работа с рабочими тетрадями на печатной основе, индивидуальные домашние задания и т.п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линейная конструкция на уроке: обучение всех и два параллельных процесса: самостоятельная работа учащихся и индивидуальная с отдельными ученика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овторении материала применяю методику свободного выбора разноуровневых заданий (выделяется 3 варианта – уровня для самостоятельных, контрольных и практических работ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07f7"/>
                </a:solidFill>
                <a:latin typeface="Times New Roman"/>
              </a:rPr>
              <a:t>Личностно-ориентированный подход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6201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ора на положительные качества, подход к школьникам с оптимизмом и доверие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ьбы, стимулирующие добрые де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я успеха в учеб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з положительных пример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явление доброты, внимания, забот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ушение уверенно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потребностей в игр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довлетворение потребности в самореализа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хвала, присуждение награ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07f7"/>
                </a:solidFill>
                <a:latin typeface="Times New Roman"/>
              </a:rPr>
              <a:t>Эффективность образовательной системы </a:t>
            </a:r>
            <a:br>
              <a:rPr sz="2800"/>
            </a:br>
            <a:r>
              <a:rPr b="1" lang="ru-RU" sz="2800" spc="-1" strike="noStrike">
                <a:solidFill>
                  <a:srgbClr val="3507f7"/>
                </a:solidFill>
                <a:latin typeface="Times New Roman"/>
              </a:rPr>
              <a:t>по Л.В. Занкову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042920" y="5373720"/>
            <a:ext cx="11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6" descr="CRCTR112"/>
          <p:cNvPicPr/>
          <p:nvPr/>
        </p:nvPicPr>
        <p:blipFill>
          <a:blip r:embed="rId1"/>
          <a:stretch/>
        </p:blipFill>
        <p:spPr>
          <a:xfrm>
            <a:off x="971640" y="2924280"/>
            <a:ext cx="1506600" cy="223200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7"/>
          <p:cNvSpPr/>
          <p:nvPr/>
        </p:nvSpPr>
        <p:spPr>
          <a:xfrm>
            <a:off x="1116000" y="1125360"/>
            <a:ext cx="2376360" cy="1582920"/>
          </a:xfrm>
          <a:custGeom>
            <a:avLst/>
            <a:gdLst>
              <a:gd name="textAreaLeft" fmla="*/ 318240 w 2376360"/>
              <a:gd name="textAreaRight" fmla="*/ 2058120 w 2376360"/>
              <a:gd name="textAreaTop" fmla="*/ 276840 h 1582920"/>
              <a:gd name="textAreaBottom" fmla="*/ 11476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2987640" y="537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3995640" y="21337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10" descr="CRCTR227"/>
          <p:cNvPicPr/>
          <p:nvPr/>
        </p:nvPicPr>
        <p:blipFill>
          <a:blip r:embed="rId2"/>
          <a:stretch/>
        </p:blipFill>
        <p:spPr>
          <a:xfrm flipH="1">
            <a:off x="2916000" y="3213000"/>
            <a:ext cx="1298520" cy="1944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CRCTR112"/>
          <p:cNvPicPr/>
          <p:nvPr/>
        </p:nvPicPr>
        <p:blipFill>
          <a:blip r:embed="rId3"/>
          <a:stretch/>
        </p:blipFill>
        <p:spPr>
          <a:xfrm>
            <a:off x="3995640" y="2997360"/>
            <a:ext cx="1506600" cy="2232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2"/>
          <p:cNvSpPr/>
          <p:nvPr/>
        </p:nvSpPr>
        <p:spPr>
          <a:xfrm>
            <a:off x="7308720" y="5373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5292720" y="53737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2484360" y="537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6732720" y="5373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4500720" y="5373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17"/>
          <p:cNvSpPr/>
          <p:nvPr/>
        </p:nvSpPr>
        <p:spPr>
          <a:xfrm>
            <a:off x="5651640" y="21337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2627280" y="6093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СОТРУДНИЧЕ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20" descr="CRCTR046"/>
          <p:cNvPicPr/>
          <p:nvPr/>
        </p:nvPicPr>
        <p:blipFill>
          <a:blip r:embed="rId4"/>
          <a:stretch/>
        </p:blipFill>
        <p:spPr>
          <a:xfrm>
            <a:off x="7812000" y="3068640"/>
            <a:ext cx="997200" cy="201600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23"/>
          <p:cNvSpPr/>
          <p:nvPr/>
        </p:nvSpPr>
        <p:spPr>
          <a:xfrm flipH="1" rot="10800000">
            <a:off x="7379280" y="2276280"/>
            <a:ext cx="1368360" cy="647640"/>
          </a:xfrm>
          <a:custGeom>
            <a:avLst/>
            <a:gdLst>
              <a:gd name="textAreaLeft" fmla="*/ -360 w 1368360"/>
              <a:gd name="textAreaRight" fmla="*/ 1172520 w 1368360"/>
              <a:gd name="textAreaTop" fmla="*/ 43200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25"/>
          <p:cNvSpPr/>
          <p:nvPr/>
        </p:nvSpPr>
        <p:spPr>
          <a:xfrm flipH="1" rot="16200000">
            <a:off x="7594200" y="5733000"/>
            <a:ext cx="792000" cy="1079640"/>
          </a:xfrm>
          <a:custGeom>
            <a:avLst/>
            <a:gdLst>
              <a:gd name="textAreaLeft" fmla="*/ 0 w 792000"/>
              <a:gd name="textAreaRight" fmla="*/ 678960 w 792000"/>
              <a:gd name="textAreaTop" fmla="*/ 72000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27" descr="WELCOME"/>
          <p:cNvPicPr/>
          <p:nvPr/>
        </p:nvPicPr>
        <p:blipFill>
          <a:blip r:embed="rId5"/>
          <a:stretch/>
        </p:blipFill>
        <p:spPr>
          <a:xfrm>
            <a:off x="5580000" y="2708280"/>
            <a:ext cx="140832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Работа с родителям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нцип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труднич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опоним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6" descr="J0240559"/>
          <p:cNvPicPr/>
          <p:nvPr/>
        </p:nvPicPr>
        <p:blipFill>
          <a:blip r:embed="rId2"/>
          <a:stretch/>
        </p:blipFill>
        <p:spPr>
          <a:xfrm>
            <a:off x="4500720" y="1628640"/>
            <a:ext cx="42480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07f7"/>
                </a:solidFill>
                <a:latin typeface="Times New Roman"/>
              </a:rPr>
              <a:t>О чём должны знать родители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41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азвивающее обучение, систематическое участие в олимпиадах, конкурсах, проектах и т.д. изменяет мышление детей в творческую сторону.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А это позитивно влияет не только на успехи в учебе, но и на жизненные достижения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5" descr="J0343311"/>
          <p:cNvPicPr/>
          <p:nvPr/>
        </p:nvPicPr>
        <p:blipFill>
          <a:blip r:embed="rId1"/>
          <a:stretch/>
        </p:blipFill>
        <p:spPr>
          <a:xfrm>
            <a:off x="5148360" y="2421000"/>
            <a:ext cx="360036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07f7"/>
                </a:solidFill>
                <a:latin typeface="Times New Roman"/>
              </a:rPr>
              <a:t>Результаты педагогической деятельност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ультаты техники чтения за три год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Object 7"/>
          <p:cNvGraphicFramePr/>
          <p:nvPr/>
        </p:nvGraphicFramePr>
        <p:xfrm>
          <a:off x="1042920" y="2708280"/>
          <a:ext cx="7632720" cy="33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708280"/>
                    <a:ext cx="763272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07f7"/>
                </a:solidFill>
                <a:latin typeface="Times New Roman"/>
              </a:rPr>
              <a:t>Результаты педагогической деятельност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усский язы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Object 6"/>
          <p:cNvGraphicFramePr/>
          <p:nvPr/>
        </p:nvGraphicFramePr>
        <p:xfrm>
          <a:off x="1116000" y="3422520"/>
          <a:ext cx="3672000" cy="23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422520"/>
                    <a:ext cx="367200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9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Object 8"/>
          <p:cNvGraphicFramePr/>
          <p:nvPr/>
        </p:nvGraphicFramePr>
        <p:xfrm>
          <a:off x="4932360" y="3392640"/>
          <a:ext cx="3743280" cy="24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3392640"/>
                    <a:ext cx="3743280" cy="24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07f7"/>
                </a:solidFill>
                <a:latin typeface="Times New Roman"/>
              </a:rPr>
              <a:t>Обучаем и развиваем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ивность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обуч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змеряется количеством и качеством приобретённых зн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ив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развит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ряется уровнем, которого достигают способности учащихся, т.е. тем, как развиты у них основные формы их психической деятельности, позволяющей быстро, глубоко и правильно ориентироваться в явлениях окружающей действи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32609"/>
          <p:cNvPicPr/>
          <p:nvPr/>
        </p:nvPicPr>
        <p:blipFill>
          <a:blip r:embed="rId1"/>
          <a:stretch/>
        </p:blipFill>
        <p:spPr>
          <a:xfrm>
            <a:off x="7524720" y="404640"/>
            <a:ext cx="139068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07f7"/>
                </a:solidFill>
                <a:latin typeface="Times New Roman"/>
              </a:rPr>
              <a:t>Результаты педагогической деятельности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 последние пять лет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680" y="1341000"/>
            <a:ext cx="73929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сероссийский уровень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усский медвежонок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Кенгуру»  -  участники конкурсов каждый г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еспубликанский уровен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спубликанский этап Всероссийского марафона учеников – занковцев – дипломы участ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йонный уровен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йонные олимпиады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 русскому язык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место 2008г.-Осянин Дмитри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место 2012г.-Тиханчук Кс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 математик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место 2008г.-Лисин Леонид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место 2012г.-Мухаметзянов Дани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31"/>
          <p:cNvGrpSpPr/>
          <p:nvPr/>
        </p:nvGrpSpPr>
        <p:grpSpPr>
          <a:xfrm>
            <a:off x="743760" y="353880"/>
            <a:ext cx="7831440" cy="6312600"/>
            <a:chOff x="743760" y="353880"/>
            <a:chExt cx="7831440" cy="6312600"/>
          </a:xfrm>
        </p:grpSpPr>
        <p:sp>
          <p:nvSpPr>
            <p:cNvPr id="285" name="Oval 17"/>
            <p:cNvSpPr/>
            <p:nvPr/>
          </p:nvSpPr>
          <p:spPr>
            <a:xfrm rot="290400">
              <a:off x="3492000" y="3716280"/>
              <a:ext cx="757440" cy="6858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Oval 18"/>
            <p:cNvSpPr/>
            <p:nvPr/>
          </p:nvSpPr>
          <p:spPr>
            <a:xfrm>
              <a:off x="4211640" y="4076640"/>
              <a:ext cx="75708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  <a:ea typeface="바탕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19"/>
            <p:cNvSpPr/>
            <p:nvPr/>
          </p:nvSpPr>
          <p:spPr>
            <a:xfrm rot="290400">
              <a:off x="3492000" y="4508640"/>
              <a:ext cx="75744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Oval 20"/>
            <p:cNvSpPr/>
            <p:nvPr/>
          </p:nvSpPr>
          <p:spPr>
            <a:xfrm rot="290400">
              <a:off x="4932000" y="3716280"/>
              <a:ext cx="757080" cy="68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21"/>
            <p:cNvSpPr/>
            <p:nvPr/>
          </p:nvSpPr>
          <p:spPr>
            <a:xfrm rot="290400">
              <a:off x="4787640" y="4581360"/>
              <a:ext cx="757080" cy="6858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Oval 22"/>
            <p:cNvSpPr/>
            <p:nvPr/>
          </p:nvSpPr>
          <p:spPr>
            <a:xfrm rot="1968000">
              <a:off x="4716000" y="5300280"/>
              <a:ext cx="457200" cy="800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23"/>
            <p:cNvSpPr/>
            <p:nvPr/>
          </p:nvSpPr>
          <p:spPr>
            <a:xfrm rot="19811400">
              <a:off x="3924360" y="5805360"/>
              <a:ext cx="457200" cy="800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Oval 24"/>
            <p:cNvSpPr/>
            <p:nvPr/>
          </p:nvSpPr>
          <p:spPr>
            <a:xfrm rot="290400">
              <a:off x="4211280" y="3284640"/>
              <a:ext cx="75708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AutoShape 25"/>
            <p:cNvSpPr/>
            <p:nvPr/>
          </p:nvSpPr>
          <p:spPr>
            <a:xfrm>
              <a:off x="4500720" y="4797360"/>
              <a:ext cx="114120" cy="1828800"/>
            </a:xfrm>
            <a:custGeom>
              <a:avLst/>
              <a:gdLst>
                <a:gd name="textAreaLeft" fmla="*/ 16560 w 114120"/>
                <a:gd name="textAreaRight" fmla="*/ 97560 w 114120"/>
                <a:gd name="textAreaTop" fmla="*/ 16560 h 1828800"/>
                <a:gd name="textAreaBottom" fmla="*/ 1812240 h 1828800"/>
              </a:gdLst>
              <a:ahLst/>
              <a:rect l="textAreaLeft" t="textAreaTop" r="textAreaRight" b="textAreaBottom"/>
              <a:pathLst>
                <a:path w="21600" h="345125">
                  <a:moveTo>
                    <a:pt x="10800" y="0"/>
                  </a:moveTo>
                  <a:arcTo wR="10800" hR="10800" stAng="16200000" swAng="-5400000"/>
                  <a:lnTo>
                    <a:pt x="0" y="334325"/>
                  </a:lnTo>
                  <a:arcTo wR="10800" hR="10800" stAng="10800000" swAng="-5400000"/>
                  <a:lnTo>
                    <a:pt x="10800" y="34512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Oval 26"/>
            <p:cNvSpPr/>
            <p:nvPr/>
          </p:nvSpPr>
          <p:spPr>
            <a:xfrm rot="20050800">
              <a:off x="4932360" y="2924280"/>
              <a:ext cx="3564000" cy="865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"/>
                </a:rPr>
                <a:t>Мой организ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27"/>
            <p:cNvSpPr/>
            <p:nvPr/>
          </p:nvSpPr>
          <p:spPr>
            <a:xfrm rot="20142000">
              <a:off x="971640" y="5013000"/>
              <a:ext cx="3132000" cy="865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00"/>
                  </a:solidFill>
                  <a:latin typeface="Times New Roman"/>
                </a:rPr>
                <a:t>Моё настроение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8"/>
            <p:cNvSpPr/>
            <p:nvPr/>
          </p:nvSpPr>
          <p:spPr>
            <a:xfrm rot="1152000">
              <a:off x="5003280" y="5013360"/>
              <a:ext cx="3527640" cy="865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00"/>
                  </a:solidFill>
                  <a:latin typeface="Times New Roman"/>
                </a:rPr>
                <a:t>Моё отношение</a:t>
              </a:r>
              <a:r>
                <a:rPr b="0" lang="ru-RU" sz="2400" spc="-1" strike="noStrike">
                  <a:solidFill>
                    <a:srgbClr val="0099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29"/>
            <p:cNvSpPr/>
            <p:nvPr/>
          </p:nvSpPr>
          <p:spPr>
            <a:xfrm rot="16868400">
              <a:off x="3312000" y="1735200"/>
              <a:ext cx="3527640" cy="865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Times New Roman"/>
                </a:rPr>
                <a:t>Моё творчество</a:t>
              </a:r>
              <a:r>
                <a:rPr b="0" lang="ru-RU" sz="2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0"/>
            <p:cNvSpPr/>
            <p:nvPr/>
          </p:nvSpPr>
          <p:spPr>
            <a:xfrm rot="1554600">
              <a:off x="755280" y="3141360"/>
              <a:ext cx="3527280" cy="865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Times New Roman"/>
                </a:rPr>
                <a:t>Мои знания</a:t>
              </a:r>
              <a:r>
                <a:rPr b="1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WordArt 32"/>
          <p:cNvSpPr txBox="1"/>
          <p:nvPr/>
        </p:nvSpPr>
        <p:spPr>
          <a:xfrm>
            <a:off x="1116000" y="692280"/>
            <a:ext cx="387684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"Наша тропинка </a:t>
            </a:r>
            <a:endParaRPr b="1" lang="en-US" sz="4000" spc="1" strike="noStrike">
              <a:ln w="9360">
                <a:solidFill>
                  <a:srgbClr val="808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здоровья"</a:t>
            </a:r>
            <a:endParaRPr b="1" lang="en-US" sz="4000" spc="1" strike="noStrike">
              <a:ln w="9360">
                <a:solidFill>
                  <a:srgbClr val="808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300" name="WordArt 33"/>
          <p:cNvSpPr txBox="1"/>
          <p:nvPr/>
        </p:nvSpPr>
        <p:spPr>
          <a:xfrm>
            <a:off x="3132000" y="5950080"/>
            <a:ext cx="348624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Цветок здоровья</a:t>
            </a:r>
            <a:endParaRPr b="1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60896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3507f7"/>
                </a:solidFill>
                <a:latin typeface="Times New Roman"/>
              </a:rPr>
              <a:t>«Быть учителем, </a:t>
            </a:r>
            <a:br>
              <a:rPr sz="2800"/>
            </a:br>
            <a:r>
              <a:rPr b="1" lang="ru-RU" sz="2800" spc="-1" strike="noStrike">
                <a:solidFill>
                  <a:srgbClr val="3507f7"/>
                </a:solidFill>
                <a:latin typeface="Times New Roman"/>
              </a:rPr>
              <a:t>перестав быть учеником, невозможно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-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Д.И.Менделеев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68204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вёзды зажигают звёзды. И воспитать в ученике яркую незаурядную личность может только такая же личнос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4" descr="J0232732"/>
          <p:cNvPicPr/>
          <p:nvPr/>
        </p:nvPicPr>
        <p:blipFill>
          <a:blip r:embed="rId1"/>
          <a:stretch/>
        </p:blipFill>
        <p:spPr>
          <a:xfrm>
            <a:off x="1403280" y="3716280"/>
            <a:ext cx="2224080" cy="2948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c64eb7970eb562c7768005891142bfae[1]"/>
          <p:cNvPicPr/>
          <p:nvPr/>
        </p:nvPicPr>
        <p:blipFill>
          <a:blip r:embed="rId2"/>
          <a:stretch/>
        </p:blipFill>
        <p:spPr>
          <a:xfrm>
            <a:off x="1979640" y="1268280"/>
            <a:ext cx="1079640" cy="1046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c64eb7970eb562c7768005891142bfae[1]"/>
          <p:cNvPicPr/>
          <p:nvPr/>
        </p:nvPicPr>
        <p:blipFill>
          <a:blip r:embed="rId3"/>
          <a:stretch/>
        </p:blipFill>
        <p:spPr>
          <a:xfrm flipH="1">
            <a:off x="4356000" y="4653000"/>
            <a:ext cx="1092240" cy="1058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c64eb7970eb562c7768005891142bfae[1]"/>
          <p:cNvPicPr/>
          <p:nvPr/>
        </p:nvPicPr>
        <p:blipFill>
          <a:blip r:embed="rId4"/>
          <a:stretch/>
        </p:blipFill>
        <p:spPr>
          <a:xfrm flipH="1">
            <a:off x="7451280" y="4149720"/>
            <a:ext cx="10191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332000" y="476280"/>
            <a:ext cx="720072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Мои  педагогические аксио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мы хотим, чтобы ребенок стал умным и образованным, необходимо прежде всего  заботиться о его духовном и телесном здоров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мы хотим, чтобы ребенок любил учиться, надо сделать учение веселым и  радостн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мы  хотим, чтобы ребенок вырос сильной личностью, надо сохранять и развивать его уникальность и неповторим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07f7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ализация технологии развивающего обу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иторинг результативности обу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основных компонентов учебной деятельности с учётом индивидуальных особенностей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влечение родителей в совместную деятель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07f7"/>
                </a:solidFill>
                <a:latin typeface="Times New Roman"/>
              </a:rPr>
              <a:t>Роль педагог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62320" y="1752480"/>
            <a:ext cx="45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-предмет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ассный руководит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щ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сихоло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тав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ит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спериментатор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WELCOME"/>
          <p:cNvPicPr/>
          <p:nvPr/>
        </p:nvPicPr>
        <p:blipFill>
          <a:blip r:embed="rId1"/>
          <a:stretch/>
        </p:blipFill>
        <p:spPr>
          <a:xfrm>
            <a:off x="1690560" y="1752480"/>
            <a:ext cx="248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07f7"/>
                </a:solidFill>
                <a:latin typeface="Times New Roman"/>
              </a:rPr>
              <a:t>Основные направления </a:t>
            </a:r>
            <a:br>
              <a:rPr sz="3200"/>
            </a:br>
            <a:r>
              <a:rPr b="1" lang="ru-RU" sz="3200" spc="-1" strike="noStrike">
                <a:solidFill>
                  <a:srgbClr val="3507f7"/>
                </a:solidFill>
                <a:latin typeface="Times New Roman"/>
              </a:rPr>
              <a:t>работы с учащимися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9214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ю оптимальные условия для реализации потенциальных возможностей каждого ребе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олняю пробелы дошкольного развития детей путем организации предметно-практической деятельности (проект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«Формирование навыков каллиграфического письма младших школьников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бираю задания, подготавливающие учащихся к восприятию новых и трудных те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07f7"/>
                </a:solidFill>
                <a:latin typeface="Times New Roman"/>
              </a:rPr>
              <a:t>Основные направления </a:t>
            </a:r>
            <a:br>
              <a:rPr sz="3200"/>
            </a:br>
            <a:r>
              <a:rPr b="1" lang="ru-RU" sz="3200" spc="-1" strike="noStrike">
                <a:solidFill>
                  <a:srgbClr val="3507f7"/>
                </a:solidFill>
                <a:latin typeface="Times New Roman"/>
              </a:rPr>
              <a:t>работы с учащимися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7533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ифференцирую подход к детям с учетом сформированности ЗУНов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виваю общеинтеллектуальные умения и навыки – активизация познавательной деятельности: развитие зрительного и слухового восприятия, формирование мыслительных операци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ктивизирую речь в единстве с мышлением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рабатываю положительные мотивации, формирую интерес к учебным предметам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ормирую навыки учебной деятельности, развиваю навыки самоконтрол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1:08:11Z</dcterms:created>
  <dc:creator>www.PHILka.RU</dc:creator>
  <dc:description/>
  <dc:language>en-US</dc:language>
  <cp:lastModifiedBy>ADMIN</cp:lastModifiedBy>
  <dcterms:modified xsi:type="dcterms:W3CDTF">2013-02-07T09:44:59Z</dcterms:modified>
  <cp:revision>65</cp:revision>
  <dc:subject/>
  <dc:title>Система работы учителя начальных классов</dc:title>
</cp:coreProperties>
</file>