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05D-94C9-4D0E-BD85-82C62EF3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694-E120-4277-B091-B142AF6E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CCC-194E-4E22-AF09-32EF139D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688-EB0F-40BF-AFBD-50D0E5F6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7946-8C03-45A4-AD5B-2C0F5E17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2599-59FB-495E-956C-9B3E7633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4AC3-E968-41CB-B86F-99720BDF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C399-4CED-43FF-BED2-FEAD218C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679A-EAB7-4DE5-B479-563806F8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F123-9136-4AF1-94CA-AB1113A1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4A62-51C1-4DDA-816D-B71B154B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A8D-97BA-40A6-9E27-3198007E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04A7-813F-4CBD-8CC4-CAA38743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345F-34B5-4FD4-B031-BAE96BCC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5B2A-68E2-4212-8655-EDA44D09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100A-EB25-467E-A4E5-BDD61B95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875B-E4FB-477E-9CF9-AD8F895E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1F7-393C-463F-BFF8-65ACFBE9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D78-C9A3-417F-8DFA-78D85CE2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938-9A90-4D11-A36D-C2EB92F2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106-330A-4427-9B95-24B65FFB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E27-A166-4F03-85CE-4F71B7AD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F67-D9C5-42A5-AACF-8DD741D5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97E-4FE4-4BFD-95C1-288B3F4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D0E4-7BFE-4D07-B9E0-9D484A8439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0687-EB1C-4E3C-AFE9-954BA38E0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речная средняя школ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истема работы школы по повышению качества подготов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 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блем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блема дефицита часов, отведенных на изучение предме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анный момент (первое полугодие) еще не полностью выполнены программы по предмет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оответствие содержания некоторых тестов существующим учебным програм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истема деятельности учител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. Определение  степени мотивации учащихся  по предметам  (низкая, средняя, высокая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2. Диагностика, нацеленная  на точное выявление  индивидуальных пробелов в знания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3.Мониторинг результатов  тестирования , выявление западающего звена и эффективная коррекционная работа по каждому предмет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4. Проведение анализа требований  к ЕНТ  (изучение сборников, тестов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5. Составление  плана  по подготовке к ЕНТ в соответствии с этими требования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. Обеспечение  учащихся печатными  и электронными: учебниками, справочниками, сборниками тест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7. Четкое соблюдение графика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дополнительных занятий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, включающих в себя  следующие этапы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а)  Анализ ошибок пробного тестиров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б) Коррекц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в) Работа над теоретическим  блоком в соответствии с плано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г) Подбор тестов для самостоятельной работы и самокоррекц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8. Четкое соблюдение графика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 консультаций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, как одной из форм учебной работы, предназначенной для оказания педагогически целесообразной помощи при подготовке к ЕНТ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а) Организационные указания о порядке работы при подготовке к ЕНТ по предмет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б) Рекомендации по лучшему усвоению и приведению в стройную систему изученного материала, а также ответить на непонятные, плохо усвоенные учащимися вопросы. Наиболее распространена вопросно - ответная фор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сихологическое обеспеч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ботка стратегии и тактики поведения в период подготовки к единому национальному тестированию всех участников образовательного процесса (выпускников, родителей, педагог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навыкам саморегуляции, самоконтроля учащихся, повышение уверенности в себе, своих сил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жение уровня тревожности у всех участников 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 уровня тревожности у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 возможных направлений психологической работы с выпускниками по снятию напряжения и страха перед тестирова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 консультаций  для выпускников, родителей, педагогов в период подготовки к 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оведено пробных тестирований 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ных 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йонных –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ьных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Итоги пробного тестирования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1 полугодие)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Итоги пробного тестирования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2 полугодие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ЗАХСКОМУ ЯЗЫ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рогноз – 17 баллов, 70% качество) 1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2205000"/>
          <a:ext cx="914400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5000"/>
                    <a:ext cx="9144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ЗАХСКОМУ ЯЗЫ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рогноз – 17 баллов, 70% качество) 2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Rectangle 7"/>
          <p:cNvGraphicFramePr/>
          <p:nvPr/>
        </p:nvGraphicFramePr>
        <p:xfrm>
          <a:off x="0" y="1916280"/>
          <a:ext cx="914400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УССКОМУ ЯЗЫ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рогноз – 17 баллов, 75% качество) 1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205000"/>
          <a:ext cx="914400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5000"/>
                    <a:ext cx="9144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УССКОМУ ЯЗЫ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рогноз – 17 баллов, 75% качество) 2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Rectangle 7"/>
          <p:cNvGraphicFramePr/>
          <p:nvPr/>
        </p:nvGraphicFramePr>
        <p:xfrm>
          <a:off x="0" y="1905120"/>
          <a:ext cx="914400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здать систему подготовки к ЕНТ, обеспечивающей совершенствование работы педагогического коллектива и повышение качества знаний умений и навыков выпускников при обучении основам нау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ТОРИИ КАЗАХСТА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рогноз - 17 баллов, 80% качество) 1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133720"/>
          <a:ext cx="9144000" cy="313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31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ТОРИИ КАЗАХСТА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рогноз - 17 баллов, 80% качество) 2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Rectangle 7"/>
          <p:cNvGraphicFramePr/>
          <p:nvPr/>
        </p:nvGraphicFramePr>
        <p:xfrm>
          <a:off x="0" y="1916280"/>
          <a:ext cx="914400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ЛОГИ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прогноз -17 баллов, 100% качество) 1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2166840"/>
          <a:ext cx="914400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66840"/>
                    <a:ext cx="9144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ЛОГИ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прогноз -17 баллов, 100% качество) 2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Rectangle 7"/>
          <p:cNvGraphicFramePr/>
          <p:nvPr/>
        </p:nvGraphicFramePr>
        <p:xfrm>
          <a:off x="0" y="1844640"/>
          <a:ext cx="914400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914400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ТЕМАТИК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рогноз – 12 баллов, 40% качество) 1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2205000"/>
          <a:ext cx="914400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5000"/>
                    <a:ext cx="9144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ТЕМАТИК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рогноз – 12 баллов, 40% качество) 2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Rectangle 7"/>
          <p:cNvGraphicFramePr/>
          <p:nvPr/>
        </p:nvGraphicFramePr>
        <p:xfrm>
          <a:off x="0" y="1844640"/>
          <a:ext cx="914400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914400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К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рогноз – 14 баллов, 75% качество) 1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Rectangle 7"/>
          <p:cNvGraphicFramePr/>
          <p:nvPr/>
        </p:nvGraphicFramePr>
        <p:xfrm>
          <a:off x="0" y="2168640"/>
          <a:ext cx="9144000" cy="31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68640"/>
                    <a:ext cx="914400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К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прогноз – 14 баллов, 75% качество) 2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Rectangle 7"/>
          <p:cNvGraphicFramePr/>
          <p:nvPr/>
        </p:nvGraphicFramePr>
        <p:xfrm>
          <a:off x="0" y="1905120"/>
          <a:ext cx="914400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ОГРАФИ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прогноз -16 баллов, 40% качество) 1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2205000"/>
          <a:ext cx="914400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5000"/>
                    <a:ext cx="9144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ний балл п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ОГРАФИ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прогноз -16 баллов, 40% качество) 2 полуго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Rectangle 7"/>
          <p:cNvGraphicFramePr/>
          <p:nvPr/>
        </p:nvGraphicFramePr>
        <p:xfrm>
          <a:off x="0" y="1916280"/>
          <a:ext cx="914400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намика численности выпускников на получение аттестата особого образца и знака «Алтын белгi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1628280"/>
            <a:ext cx="79930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 – 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хся ста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дателями нагрудного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а «Алтын белгi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ученицы получи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тестат с отлич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редний балл по школе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на 1 полугоди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2101680"/>
          <a:ext cx="9144000" cy="31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01680"/>
                    <a:ext cx="9144000" cy="31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редний балл по школе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на 2 полугоди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Rectangle 7"/>
          <p:cNvGraphicFramePr/>
          <p:nvPr/>
        </p:nvGraphicFramePr>
        <p:xfrm>
          <a:off x="0" y="1905120"/>
          <a:ext cx="914400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Rectangl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тоги пробного тестиров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39640" y="1413000"/>
          <a:ext cx="7925040" cy="4514760"/>
        </p:xfrm>
        <a:graphic>
          <a:graphicData uri="http://schemas.openxmlformats.org/drawingml/2006/table">
            <a:tbl>
              <a:tblPr/>
              <a:tblGrid>
                <a:gridCol w="1040040"/>
                <a:gridCol w="407880"/>
                <a:gridCol w="431640"/>
                <a:gridCol w="432000"/>
                <a:gridCol w="431640"/>
                <a:gridCol w="432000"/>
                <a:gridCol w="439560"/>
                <a:gridCol w="424080"/>
                <a:gridCol w="431640"/>
                <a:gridCol w="432000"/>
                <a:gridCol w="431640"/>
                <a:gridCol w="431640"/>
                <a:gridCol w="432000"/>
                <a:gridCol w="431640"/>
                <a:gridCol w="432000"/>
                <a:gridCol w="431640"/>
                <a:gridCol w="432000"/>
              </a:tblGrid>
              <a:tr h="1676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ксеньтье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ртюх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Бейсен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Бектыбае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Буркивчен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Зин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сингаз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смаи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иселе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б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лес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икульш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р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аид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идор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Шам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 декабр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 декабр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6 декабр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 январ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6 январ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февра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 феврал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6 февра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 февра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ма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 ма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 ма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 ма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гнозируемый результа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уемый результат 80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ие не менее 8 государственных грантов на обучение в ВУЗ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 претендент  на   получение   Аттестата   особого   образца   и нагрудного знака «Алтын бел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знаний  40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1619280" y="1825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гноз по предме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7705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688176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до, чтобы учиться было радостно, трепетно, побед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1187280" y="295416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ний балл по год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г. – 75,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г. – 71.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певаемос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г. – 100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г. – 10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едагогический  коллектив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о – 68 педаг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тличники образования РК» - 5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ысшим образованием – 68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шая категория –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категория – 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торая категория – 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урсы повышения квалификации по темам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за 2 года - 51 человек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етод проектов как эффективная технология формирования ключевых компетенций школьников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Использование информационных технологий на уроках математики как средство повышения качества образовани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овременные методы и приемы обучения английскому языку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едагогическая технология уровневой дифференциации как фактор реализации инновационного типа обучени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етодика решения олимпиадных задач по предметам»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Областные и районные семинары – 2007-2008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07 г. Костанайский  ИПК  и ПРО на базе школы провели семинар для учителей истории Казахстана по 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одготовка к ЕНТ по истории Казахста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риентация обучения на достижение обязательных результатов как условие качественной подготовки к ПГК и ЕНТ» для учителей химии, биологии, ге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аспространение передового  педагогического опыта – фактор обновления и развития профессиональных компетенций учителя при подготовке к ЕНТ» районный семинар для заместителей директоров  школ Костанай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НТ : проблемы и реальность» для учителей физики и математ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г. «Эффективность деятельности учителя по подготовке к ПГК и ЕНТ» для учителей иностранн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г. Районный семинар для заместителей директоров  школ по теме: « Управленческая деятельность администрации школы по подготовке к ЕНТ» для зам.директоров  школ с государственным язы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ЕНТ-  поиск, опыт, наход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06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Базарбаева Балганат Еркимбаевна – учитель истории Казахста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дготовка к ЕНТ  по истории Казахстана» - опыт обобщен  на МО учителей истории и обществ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уйеубаева Айкуміс Айтжановна – учитель казахского языка и литератур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Формы и методы подготовки выпускников к ЕНТ по казахскому языку» - опыт обобщен  на МО учителей казахского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07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убогрей Светлана Ивановна – учитель математики - обобщен опыт работы Костанайским ИПК  и ПРО по теме «ЕНТ: в копилку молодому учителю математи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В 2007 г. обобщен опыт работы учителя биологии Сидорик Людмилы Викторовны методическим кабинетом   ГУ «Отдел образования» акимата  Костанайского района. Мастер – класс «Подготовка к ЕНТ по биолог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 2007 г. обобщен опыт работы учителя русского языка Эрмантраут Нины Иосифовны в шко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 В 2008 г. утвержден Советом по экспертизе и лицензированию при Костанайском ИПКиПРО УМК учителя химии Нуркиной Алмы Ансагановны  по теме «Подготовка к ЕНТ по неорганической хим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008 – 2009 учебный год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о выпускников –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ЕНТ -     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меты по выбо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графия  -  5  (32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логия    -  7  (43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зика       -   4 (25 %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9:24:32Z</dcterms:created>
  <dc:creator>КСИ</dc:creator>
  <dc:description/>
  <dc:language>en-US</dc:language>
  <cp:lastModifiedBy>Administrator</cp:lastModifiedBy>
  <dcterms:modified xsi:type="dcterms:W3CDTF">2009-03-25T08:35:00Z</dcterms:modified>
  <cp:revision>57</cp:revision>
  <dc:subject/>
  <dc:title>Система работы школы по повышению качества подготовки к ЕНТ</dc:title>
</cp:coreProperties>
</file>