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36CA-C00F-4118-8FE0-91F471D2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337C-3746-4FB2-A33F-754A93F2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8E41-B307-4D3B-88B5-3EF20BB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36CD-C98B-46AF-A54C-1552A997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2874-5EAB-4616-B2DF-0B2854D4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EF3-6643-4321-864A-46D5222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DC8-B436-4916-82C3-A24E242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527-3CE2-4240-B86B-A633106E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5BBE-C5C8-4DB5-BD0F-248EB0B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FC0C-DE39-492D-AAF9-99AF134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2A94-C08C-46B0-94BE-F8F337D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5288-0B90-45CB-959F-A7187A0B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7DFC-6108-422B-84E6-BD5232F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538C-071B-4CBC-AD05-6D10811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0C3F-397F-4BCD-8D2B-A951BA5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4F08-A81E-4652-BD28-158BEA3F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B31-B703-422C-A9BD-053EFD02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0B27-0685-41CD-A652-9899D322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596D-3576-4AF2-96F4-38131F1B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1605-223E-4CB9-9CB7-3F0B983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501B-2DD7-4E21-9862-2D84375F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0BFF-8E9C-46C5-BB85-AABCA5B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97BE-0E3D-4405-A218-919AC35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217D-F652-4412-BC0B-CBBF82C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2F95-1C8D-43BF-8B88-D5599C9884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25B-6325-4AB4-8720-CAD3F3A711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060720" y="234468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Перед нами стоит основная задача – войти в число пятидесяти наиболее конкурентоспо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собных стран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Реформа образования – это один из важнейших инструментов, позволяющих обеспечить реальную конкурентоспособность Казахстана.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                    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Н.А.Назарб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457200" y="561960"/>
            <a:ext cx="8229600" cy="135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latin typeface="Arial"/>
              </a:rPr>
              <a:t>"Казахстан - 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latin typeface="Arial"/>
              </a:rPr>
              <a:t>только вперед"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graphicFrame>
        <p:nvGraphicFramePr>
          <p:cNvPr id="108" name="Object 8"/>
          <p:cNvGraphicFramePr/>
          <p:nvPr/>
        </p:nvGraphicFramePr>
        <p:xfrm>
          <a:off x="87480" y="2205000"/>
          <a:ext cx="284940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2205000"/>
                    <a:ext cx="28494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по подготовке  учащихся к 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варительное тест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ентября по ноябрь проведено 13 пробных  тестиро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стирования проводятся по утвержденному отделом образования граф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ные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ные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ые –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стематическое повт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улучшения качества подготовки к ЕНТ каждый учитель использует Интернет, накоплена большая видеобиблиотека по предметам. Учителя-предметники приобрели и успешно используют электронные учебники и репетиторы для подготовки к 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а школа является опорной  школой района по химии, биологии и гео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тодическ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а школа является опорной  школой района по химии, биологии и гео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 учителей школы в работе Школы Передового Опы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омасова, Леонова  авторские курсы для учителей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циально-педагогическое сопрово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 перечень необходимых знаний по каждому разделу,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лен план-график предметных те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 уровень подготовки в классах, группах на основе полученны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ями-предметниками применяются корректирующие метод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Определение степени тревожности выпускника и занятия по снятию психологической напряженност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ая шкала проявления тревоги (Т.А. Немчин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479700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ентябре учащихся с высокой степенью тревожности -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8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тренингов по снятию психологической напряженности –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о со средней степенью тревожности –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стало –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тревожности проявляет 1 учащий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Ожидаемый результат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еспечить снятие психологической напряженности учащихся для повышения самооценки и улучшения результатов тес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124000" y="1539720"/>
          <a:ext cx="5112000" cy="31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39720"/>
                    <a:ext cx="511200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3"/>
          <p:cNvGraphicFramePr/>
          <p:nvPr/>
        </p:nvGraphicFramePr>
        <p:xfrm>
          <a:off x="179280" y="2006640"/>
          <a:ext cx="850752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06640"/>
                    <a:ext cx="85075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WordArt 6"/>
          <p:cNvSpPr txBox="1"/>
          <p:nvPr/>
        </p:nvSpPr>
        <p:spPr>
          <a:xfrm>
            <a:off x="2050920" y="476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редний бал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тоги пробных тестирован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7"/>
          <p:cNvSpPr txBox="1"/>
          <p:nvPr/>
        </p:nvSpPr>
        <p:spPr>
          <a:xfrm>
            <a:off x="611280" y="836640"/>
            <a:ext cx="30574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стных тестирований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тябрь-ноябрь 2008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0" name="Object 8"/>
          <p:cNvGraphicFramePr/>
          <p:nvPr/>
        </p:nvGraphicFramePr>
        <p:xfrm>
          <a:off x="4915080" y="2114640"/>
          <a:ext cx="385272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5080" y="2114640"/>
                    <a:ext cx="38527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WordArt 11"/>
          <p:cNvSpPr txBox="1"/>
          <p:nvPr/>
        </p:nvSpPr>
        <p:spPr>
          <a:xfrm>
            <a:off x="5305320" y="836640"/>
            <a:ext cx="2867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йонных тестирован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тябрь-ноябрь 2008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593640" y="2063880"/>
          <a:ext cx="3764160" cy="4029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2063880"/>
                    <a:ext cx="376416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5075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м продуктивным днем для наших сегодняшних выпускников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нед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смотря на то, что самым продуктивным считается вторник и четверг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в понедель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.12   ср. балл 71, 6   и 24.11 ср. балл72,3 ) наши выпускники показали наивысший средний балл за текущи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направления работы с родител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открытых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и принимают участие в организации выездных тестир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ие собр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результаты пробных тестирований доводятся до сведения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новка педагогических кадров (математика)(преемственность в прошлом году сработала не на результа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 отработан механизм вовлечения всего коллектива в процесс подготовки учащихся к 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стойчивый выбор предметов по выб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мение рационально использовать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веренность в своих знаниях и высокий 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ческие цели в системе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социального заказа, повышение качества подготовки учащихся образовательных учреждений к итоговой аттестации посредством совершенствования уровня профессиональной компетентности учителей предмет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для результативной деятельности учителей, способствующих повышению качества подготовки выпускников по предметам в формате ЕН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сить профессиональный уровень учителей-предме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систему работы учителя посредствам оказания информационной, методической, психологической поддержки педаг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ия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больской средней школы №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овышению качества подготовки к  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метод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о-диагност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-метод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деятельности по повышению профессиональной компетентности педаг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сопровождения У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843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за три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127080" y="981000"/>
          <a:ext cx="48816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981000"/>
                    <a:ext cx="48816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WordArt 11"/>
          <p:cNvSpPr txBox="1"/>
          <p:nvPr/>
        </p:nvSpPr>
        <p:spPr>
          <a:xfrm>
            <a:off x="1116000" y="5661000"/>
            <a:ext cx="108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чество знаний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2"/>
          <p:cNvSpPr txBox="1"/>
          <p:nvPr/>
        </p:nvSpPr>
        <p:spPr>
          <a:xfrm>
            <a:off x="3276720" y="5661000"/>
            <a:ext cx="100800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редний балл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5076720" y="2492280"/>
            <a:ext cx="3848040" cy="41403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4"/>
          <p:cNvSpPr txBox="1"/>
          <p:nvPr/>
        </p:nvSpPr>
        <p:spPr>
          <a:xfrm>
            <a:off x="5651640" y="6021360"/>
            <a:ext cx="29718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астие выпускников в 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IMG_0428"/>
          <p:cNvPicPr/>
          <p:nvPr/>
        </p:nvPicPr>
        <p:blipFill>
          <a:blip r:embed="rId1"/>
          <a:stretch/>
        </p:blipFill>
        <p:spPr>
          <a:xfrm>
            <a:off x="3851280" y="40464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ед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8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кад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учащими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MG_0684"/>
          <p:cNvPicPr/>
          <p:nvPr/>
        </p:nvPicPr>
        <p:blipFill>
          <a:blip r:embed="rId2"/>
          <a:stretch/>
        </p:blipFill>
        <p:spPr>
          <a:xfrm>
            <a:off x="108000" y="3173400"/>
            <a:ext cx="4680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8000" y="-27000"/>
            <a:ext cx="8578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ический потенциал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коллект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61учитель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 них 15 работают в 11х классах, образование – высше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сшая –  4 учител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вая – 6 учителе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торая – 5 учителей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ж – от 13 до 35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IMG_0441"/>
          <p:cNvPicPr/>
          <p:nvPr/>
        </p:nvPicPr>
        <p:blipFill>
          <a:blip r:embed="rId1"/>
          <a:stretch/>
        </p:blipFill>
        <p:spPr>
          <a:xfrm>
            <a:off x="3851280" y="2852640"/>
            <a:ext cx="5113440" cy="3834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0920" y="3069720"/>
            <a:ext cx="3424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результатам школьных, районных и областных тестирований учителя-предметники показывают высок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 30 возможных 30 баллов набирают учителя русского языка, истории Казахстана, биологии, химии, физики, географии (11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9 – 27 баллов набирают  учителя казахского языка, математики (4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16360" y="21398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иод с 2006 -2008 год аттестацию  прошли все учителя, работающие в 11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по подготовке учителя к ЕН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чебно-методического сопровождения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ление и изучение инновационного педагогическ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целевых открытых учебны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ение уроков администрацией школы (6 уроков в неделю) обязательно с анализом образовательного процесса и результата, проводимые срезы, проверка документации, пл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посещение – обязательно с целью обмена оп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районных, областных семинарах, конкур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250920" y="476280"/>
            <a:ext cx="8432280" cy="6408360"/>
            <a:chOff x="250920" y="476280"/>
            <a:chExt cx="8432280" cy="6408360"/>
          </a:xfrm>
        </p:grpSpPr>
        <p:sp>
          <p:nvSpPr>
            <p:cNvPr id="134" name="WordArt 5"/>
            <p:cNvSpPr txBox="1"/>
            <p:nvPr/>
          </p:nvSpPr>
          <p:spPr>
            <a:xfrm>
              <a:off x="891720" y="476280"/>
              <a:ext cx="7791480" cy="61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99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сновные подходы к обучению в нашей школе 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 flipV="1">
              <a:off x="961200" y="1106280"/>
              <a:ext cx="7651080" cy="1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"/>
            <p:cNvGrpSpPr/>
            <p:nvPr/>
          </p:nvGrpSpPr>
          <p:grpSpPr>
            <a:xfrm>
              <a:off x="1385280" y="3261960"/>
              <a:ext cx="2186640" cy="1401120"/>
              <a:chOff x="1385280" y="3261960"/>
              <a:chExt cx="2186640" cy="1401120"/>
            </a:xfrm>
          </p:grpSpPr>
          <p:sp>
            <p:nvSpPr>
              <p:cNvPr id="137" name="AutoShape 8"/>
              <p:cNvSpPr/>
              <p:nvPr/>
            </p:nvSpPr>
            <p:spPr>
              <a:xfrm>
                <a:off x="1385280" y="3261960"/>
                <a:ext cx="2186640" cy="1401120"/>
              </a:xfrm>
              <a:prstGeom prst="bevel">
                <a:avLst>
                  <a:gd name="adj" fmla="val 12500"/>
                </a:avLst>
              </a:prstGeom>
              <a:solidFill>
                <a:srgbClr val="993366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9"/>
              <p:cNvSpPr txBox="1"/>
              <p:nvPr/>
            </p:nvSpPr>
            <p:spPr>
              <a:xfrm>
                <a:off x="1627920" y="3611160"/>
                <a:ext cx="1740960" cy="65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личностно-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ориентированный 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подход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39" name="Group 10"/>
            <p:cNvGrpSpPr/>
            <p:nvPr/>
          </p:nvGrpSpPr>
          <p:grpSpPr>
            <a:xfrm>
              <a:off x="250920" y="1684440"/>
              <a:ext cx="1943640" cy="1314720"/>
              <a:chOff x="250920" y="1684440"/>
              <a:chExt cx="1943640" cy="131472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250920" y="1684440"/>
                <a:ext cx="1943640" cy="1314720"/>
              </a:xfrm>
              <a:prstGeom prst="bevel">
                <a:avLst>
                  <a:gd name="adj" fmla="val 12500"/>
                </a:avLst>
              </a:prstGeom>
              <a:solidFill>
                <a:srgbClr val="993366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WordArt 12"/>
              <p:cNvSpPr txBox="1"/>
              <p:nvPr/>
            </p:nvSpPr>
            <p:spPr>
              <a:xfrm>
                <a:off x="609840" y="2028600"/>
                <a:ext cx="1332360" cy="53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деятельностный 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подход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42" name="Group 13"/>
            <p:cNvGrpSpPr/>
            <p:nvPr/>
          </p:nvGrpSpPr>
          <p:grpSpPr>
            <a:xfrm>
              <a:off x="6366960" y="1737000"/>
              <a:ext cx="2105640" cy="1269720"/>
              <a:chOff x="6366960" y="1737000"/>
              <a:chExt cx="2105640" cy="1269720"/>
            </a:xfrm>
          </p:grpSpPr>
          <p:sp>
            <p:nvSpPr>
              <p:cNvPr id="143" name="AutoShape 14"/>
              <p:cNvSpPr/>
              <p:nvPr/>
            </p:nvSpPr>
            <p:spPr>
              <a:xfrm>
                <a:off x="6366960" y="1737000"/>
                <a:ext cx="2105640" cy="1269720"/>
              </a:xfrm>
              <a:prstGeom prst="bevel">
                <a:avLst>
                  <a:gd name="adj" fmla="val 12500"/>
                </a:avLst>
              </a:prstGeom>
              <a:solidFill>
                <a:srgbClr val="993366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WordArt 15"/>
              <p:cNvSpPr txBox="1"/>
              <p:nvPr/>
            </p:nvSpPr>
            <p:spPr>
              <a:xfrm>
                <a:off x="6600240" y="2093400"/>
                <a:ext cx="1663200" cy="51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здоровьесберегающий 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подход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45" name="Group 16"/>
            <p:cNvGrpSpPr/>
            <p:nvPr/>
          </p:nvGrpSpPr>
          <p:grpSpPr>
            <a:xfrm>
              <a:off x="4948920" y="3261960"/>
              <a:ext cx="2186640" cy="1401120"/>
              <a:chOff x="4948920" y="3261960"/>
              <a:chExt cx="2186640" cy="1401120"/>
            </a:xfrm>
          </p:grpSpPr>
          <p:sp>
            <p:nvSpPr>
              <p:cNvPr id="146" name="AutoShape 17"/>
              <p:cNvSpPr/>
              <p:nvPr/>
            </p:nvSpPr>
            <p:spPr>
              <a:xfrm>
                <a:off x="4948920" y="3261960"/>
                <a:ext cx="2186640" cy="1401120"/>
              </a:xfrm>
              <a:prstGeom prst="bevel">
                <a:avLst>
                  <a:gd name="adj" fmla="val 12500"/>
                </a:avLst>
              </a:prstGeom>
              <a:solidFill>
                <a:srgbClr val="993366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WordArt 18"/>
              <p:cNvSpPr txBox="1"/>
              <p:nvPr/>
            </p:nvSpPr>
            <p:spPr>
              <a:xfrm>
                <a:off x="5231880" y="3612240"/>
                <a:ext cx="1658880" cy="65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компетентностный 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1" strike="noStrike">
                    <a:ln w="9360">
                      <a:solidFill>
                        <a:srgbClr val="9999ff"/>
                      </a:solidFill>
                      <a:miter/>
                    </a:ln>
                    <a:solidFill>
                      <a:srgbClr val="9999ff"/>
                    </a:solidFill>
                    <a:latin typeface="Arial"/>
                  </a:rPr>
                  <a:t>подход</a:t>
                </a:r>
                <a:endParaRPr b="1" lang="en-US" sz="1200" spc="1" strike="noStrike">
                  <a:ln w="9360">
                    <a:solidFill>
                      <a:srgbClr val="9999ff"/>
                    </a:solidFill>
                    <a:miter/>
                  </a:ln>
                  <a:solidFill>
                    <a:srgbClr val="9999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48" name="AutoShape 19"/>
            <p:cNvSpPr/>
            <p:nvPr/>
          </p:nvSpPr>
          <p:spPr>
            <a:xfrm rot="7604400">
              <a:off x="2432160" y="2165040"/>
              <a:ext cx="2365200" cy="324720"/>
            </a:xfrm>
            <a:custGeom>
              <a:avLst/>
              <a:gdLst>
                <a:gd name="textAreaLeft" fmla="*/ 295560 w 2365200"/>
                <a:gd name="textAreaRight" fmla="*/ 2069640 w 2365200"/>
                <a:gd name="textAreaTop" fmla="*/ 81000 h 324720"/>
                <a:gd name="textAreaBottom" fmla="*/ 243720 h 3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0"/>
            <p:cNvSpPr/>
            <p:nvPr/>
          </p:nvSpPr>
          <p:spPr>
            <a:xfrm rot="3621600">
              <a:off x="3817080" y="2179080"/>
              <a:ext cx="2102760" cy="324720"/>
            </a:xfrm>
            <a:custGeom>
              <a:avLst/>
              <a:gdLst>
                <a:gd name="textAreaLeft" fmla="*/ 262800 w 2102760"/>
                <a:gd name="textAreaRight" fmla="*/ 1839960 w 2102760"/>
                <a:gd name="textAreaTop" fmla="*/ 81000 h 324720"/>
                <a:gd name="textAreaBottom" fmla="*/ 243720 h 3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 rot="9804600">
              <a:off x="2113920" y="1509120"/>
              <a:ext cx="1821240" cy="305640"/>
            </a:xfrm>
            <a:custGeom>
              <a:avLst/>
              <a:gdLst>
                <a:gd name="textAreaLeft" fmla="*/ 227520 w 1821240"/>
                <a:gd name="textAreaRight" fmla="*/ 1593720 w 1821240"/>
                <a:gd name="textAreaTop" fmla="*/ 76320 h 305640"/>
                <a:gd name="textAreaBottom" fmla="*/ 229320 h 30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2"/>
            <p:cNvSpPr/>
            <p:nvPr/>
          </p:nvSpPr>
          <p:spPr>
            <a:xfrm rot="1112400">
              <a:off x="4623840" y="1509840"/>
              <a:ext cx="1823040" cy="305640"/>
            </a:xfrm>
            <a:custGeom>
              <a:avLst/>
              <a:gdLst>
                <a:gd name="textAreaLeft" fmla="*/ 227880 w 1823040"/>
                <a:gd name="textAreaRight" fmla="*/ 1595160 w 1823040"/>
                <a:gd name="textAreaTop" fmla="*/ 76320 h 305640"/>
                <a:gd name="textAreaBottom" fmla="*/ 229320 h 30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23"/>
            <p:cNvSpPr txBox="1"/>
            <p:nvPr/>
          </p:nvSpPr>
          <p:spPr>
            <a:xfrm>
              <a:off x="3595320" y="4961520"/>
              <a:ext cx="15782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3240">
                    <a:solidFill>
                      <a:srgbClr val="993366"/>
                    </a:solidFill>
                    <a:miter/>
                  </a:ln>
                  <a:solidFill>
                    <a:srgbClr val="9999ff"/>
                  </a:solidFill>
                  <a:latin typeface="Arial"/>
                </a:rPr>
                <a:t>с учетом</a:t>
              </a:r>
              <a:endParaRPr b="1" lang="en-US" sz="1200" spc="1" strike="noStrike">
                <a:ln w="3240">
                  <a:solidFill>
                    <a:srgbClr val="993366"/>
                  </a:solidFill>
                  <a:miter/>
                </a:ln>
                <a:solidFill>
                  <a:srgbClr val="9999ff"/>
                </a:solidFill>
                <a:latin typeface="Arial"/>
                <a:ea typeface="Arial"/>
              </a:endParaRPr>
            </a:p>
          </p:txBody>
        </p:sp>
        <p:grpSp>
          <p:nvGrpSpPr>
            <p:cNvPr id="153" name="Group 24"/>
            <p:cNvGrpSpPr/>
            <p:nvPr/>
          </p:nvGrpSpPr>
          <p:grpSpPr>
            <a:xfrm>
              <a:off x="2715840" y="5381280"/>
              <a:ext cx="3791160" cy="491400"/>
              <a:chOff x="2715840" y="5381280"/>
              <a:chExt cx="3791160" cy="491400"/>
            </a:xfrm>
          </p:grpSpPr>
          <p:sp>
            <p:nvSpPr>
              <p:cNvPr id="154" name="Line 25"/>
              <p:cNvSpPr/>
              <p:nvPr/>
            </p:nvSpPr>
            <p:spPr>
              <a:xfrm flipH="1">
                <a:off x="2715840" y="5381280"/>
                <a:ext cx="1878120" cy="380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6"/>
              <p:cNvSpPr/>
              <p:nvPr/>
            </p:nvSpPr>
            <p:spPr>
              <a:xfrm>
                <a:off x="4578840" y="5381280"/>
                <a:ext cx="0" cy="491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7"/>
              <p:cNvSpPr/>
              <p:nvPr/>
            </p:nvSpPr>
            <p:spPr>
              <a:xfrm>
                <a:off x="4578840" y="5381280"/>
                <a:ext cx="1928160" cy="425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WordArt 28"/>
            <p:cNvSpPr txBox="1"/>
            <p:nvPr/>
          </p:nvSpPr>
          <p:spPr>
            <a:xfrm>
              <a:off x="1064880" y="5873040"/>
              <a:ext cx="1782720" cy="78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- потенциальных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возможностей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учащегося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29"/>
            <p:cNvSpPr txBox="1"/>
            <p:nvPr/>
          </p:nvSpPr>
          <p:spPr>
            <a:xfrm>
              <a:off x="3655440" y="5916240"/>
              <a:ext cx="1863000" cy="96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- индивидуальных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особенностей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учащегося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59" name="WordArt 30"/>
            <p:cNvSpPr txBox="1"/>
            <p:nvPr/>
          </p:nvSpPr>
          <p:spPr>
            <a:xfrm>
              <a:off x="6571080" y="5873040"/>
              <a:ext cx="1620000" cy="91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- внутренних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потребностей 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учащегося</a:t>
              </a: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5:14:02Z</dcterms:created>
  <dc:creator>SH1</dc:creator>
  <dc:description/>
  <dc:language>en-US</dc:language>
  <cp:lastModifiedBy>user</cp:lastModifiedBy>
  <dcterms:modified xsi:type="dcterms:W3CDTF">2013-02-27T16:33:51Z</dcterms:modified>
  <cp:revision>11</cp:revision>
  <dc:subject/>
  <dc:title>Система работы Затобольской средней школы №1 по подготовке к ЕНТ</dc:title>
</cp:coreProperties>
</file>