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6A48F-DA4B-4EA3-B88B-03A6973F163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F575B-0D2E-4B37-8935-F3C7D2971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М. КАРТА И СТР. 70 СЛОВАР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11BA09-8C67-4FE5-BE88-E74EAD1C5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42BF-B884-48E1-8A6F-5012939FF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8D65-1C46-4538-9548-6EEFF45DA4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C99E-2DB3-4A1A-9DC6-7E5D675B5EB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BA46-2D0D-4044-A32C-A3F13EF9F2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1A9D-CDC0-4CA4-BD4D-25CDE5755D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50F0-6F35-4515-8E7C-51DC63D67D6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FDB8-6A36-4E73-A02A-048CD648E99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6545-3023-43A7-862F-84FB853A9E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122B-BA92-442C-B814-31F1CA4DEFE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862B-C56B-49E2-BA1E-2CCE6D7849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AB94-7CA5-4561-A722-87C2CCDA84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B1FA7C-EE48-4793-8045-6DF1626FC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64DD-E153-4FB9-A9FD-B61A08D2C5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C0CEF-7E90-40EA-B94E-B914A08B101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30720-AFF6-492D-B0C8-D715D5FEDFC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14440-67DB-4E7F-899B-F04A1964E6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924C5-A4B5-47A4-8BAB-3893A7803C0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A1F56-F0B6-4009-814F-40B4FD2EF41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A38B4-1C1C-42E9-953B-506213734D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4DA28-EC51-46A4-B363-F739CC24130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A289D-7D70-4778-9ACB-2CFE2BABFE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5203F-4868-4B6E-BB31-095312BFAAF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F5F16-52AD-4323-8895-804E1FB9E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89F9-7494-452F-867F-810673860A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6D90D-7F96-40C5-9857-D7BFB74C826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77F69-58A4-476B-963D-8BE984F294D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05919-366A-4E3D-AB12-2FD6EDFADC0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78410-875C-49B3-A804-CB7ECF4684C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A24B0-782D-4415-825B-9B356DFD54D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1449C-1EFA-4D04-B896-80B932161CB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3EC0A-420D-4485-9A0D-562BA552E7E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85970-0813-47DB-B142-341ADCEA40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86DB6-96CB-40F1-BAB0-8DDADB5CF5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4E7C3-7EFF-46C1-9394-1D1AB1261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9C4E-BBAE-47A2-9A8C-F3D17BDCB6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05F1A-8103-4496-A826-25C80E01404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9777C-DEBB-404E-9147-7B7462FF06F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C3875-EDC1-40E7-A9DA-0C9CAC0E03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3C94-5D2B-4E73-B6E6-578E8BE8442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E860-3FB2-482C-B5C8-14294E9F06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0A6D-3923-43D3-AC0E-E0A1FD85FCE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4797-6256-4EFD-BCC9-4A0B252E98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0036-7340-46DE-8F55-8DFF9DF17BB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C4162-C96C-4CCC-9E8E-91DC096573F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BEFB-C327-4F95-97F1-0D2B67B615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25E7-97B9-4386-A3B6-DEF2C06F064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777E6-1582-4409-B32D-F952B979F7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24D9-35AD-4EAC-9C8B-942E5AF14BE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8A2B-C75B-4283-A4BE-675165AA419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BDDEF-63BC-4B1E-B876-AFDD99600CC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7731-B725-44CD-BAC4-370E59496B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249561-644D-4FC0-A1E6-4016B95215A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34F402-B760-4353-9E32-9A7BA09D50E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BC854D-3EA5-456D-9022-2F65B401D7C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360DB3-D001-4B3F-A127-230C094F452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9C2B01-9298-41C9-9CCA-F317B5E68B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A09B-A929-485D-9A09-9F7907869FF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5CF2C-2439-4D94-A48E-9250F3621FC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7A445B-6686-4199-A589-B65F579D231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AFD379-46AA-4C68-802E-5A557C3707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2C8826-D768-4C83-B646-D7533A0B07E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3AF95F-00F4-48C2-A68A-F98EA9C1559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4E5306-C6DB-47CC-B696-4DA897A7BC8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B70706-0E58-41E6-812A-1359013E708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A9877-7AA6-4D92-8CD0-7259C2A1DA1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03AC2-0129-4BB6-A66C-6448DF49CC7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3D9B6-1711-4468-A09F-08DA56C21C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E16F-DF0F-488B-ACD5-DF922C5B1BB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1DA94-74AA-4765-8930-126C88B4C15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B6DC2-9B87-4291-AC8F-14BD9092161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F583A-94A3-4FB0-A45E-36653146D97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5A956-FCCB-4A92-927D-5E9A7BFA4F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29ECE-60C4-4ECF-A63F-D7DF293A000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DF765-6C80-4C4D-AA04-C30633E0D15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78BAD-C783-40B7-B70D-9ABCEFF16EA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65439-3038-4A83-8D25-5D3C6C612F1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8EC67-344C-4312-B561-5CE5C99207A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395CA-F11C-431F-9EBF-791E74AB02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0FAB-698B-4050-9A2E-AF6A608BE28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E80A-DFDB-4612-A0F0-36C0A890159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861A0-C521-4EC3-AA0A-DED89D8526A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EDE33-1F78-4BD3-BA81-109F91D3DAA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B01B5-ADC8-45BD-9E6A-ED0F7F9154E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C141D-DC8F-4F02-95D0-B0DBEE58AC2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77DD9-7E1E-4174-B721-180A2A9B194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22D74-424D-44B0-8C29-341B2738AE0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F193-EA80-4C3F-818E-CB69325105B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739E-6CFB-4131-A311-D02D9E9CD59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E0DED-1484-46E3-BAC5-FDD76D82A4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FCEE-3733-4A18-965D-B8AFC7CB75B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AA374-18E9-4205-939A-98F4C80162F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00BDA0-8703-43E7-A5DA-751BF7AE6E0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EDD94-33A0-4EA9-9B20-B7526BFEE93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E4121D-9B93-4C7F-ACF8-27944CF35F7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0D5F1-43D3-4909-BD8F-8EFCD2772D0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1F4BF-7A13-4BDA-80DA-39269AEF690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26C366-CD5B-4287-B147-929C515294D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2E63BF-EA68-419A-A6A3-EC7190BD4AB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32BD6C-EAFD-4FB6-A376-4D541A29E4D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E64B3-C173-461B-A930-4499153688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9CE1-174D-44C3-89B7-D924FEFD452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E1DB7-B384-4DD6-B9A6-9A1A121A876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665A60-2066-4AB3-98DF-B4CA68E6204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ED7775-C275-4051-B95E-3FE332C738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6537-A74F-4192-B39E-7BB5604BD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E608-7803-48D1-B344-4D4D377DAB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33C4-03E4-42E8-BBAC-B6789AC86E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46C1-995C-4679-AA9F-BC168A83CD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8D27-6014-4AAB-A932-C6CB3D2911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59A2-8CBD-440C-8094-9B566EC6E0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90B-95F1-497B-A167-50A0DA6DDF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718-64F3-4B2D-94F9-327A4C823F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2AC-A3AB-4E5F-9EFE-AAE17774D6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3AD-309D-41A8-8636-6748F83A57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613-1ECB-4E24-A98C-5534D546C0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18F2-273C-4188-B862-91C8AD0FAC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9BC-6B49-46B5-B4FE-862DC45F03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AE2-4BA0-4EF9-8720-C37A72AAEF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96F-2705-4316-A4D6-F8975ACE5E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28B-C403-49E4-A540-5D4593FFB0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780-35D8-4129-99CD-4E47F26F5F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B4D-FFEB-429A-A148-93A6BD1FC6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5C8-2696-4886-847B-8B8B4A405B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6C7F5-C98C-421B-A744-D8CF83D433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5CF3A-806F-4A8B-BF18-6A586DFD13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BF733-CBBA-44C4-B43C-24A1D405C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2C7E-B8F1-42EA-AB93-78DC620843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187C8-DF4E-46C1-A8D2-8D50381564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CCB13-7A4C-4139-A628-3DBF414A55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0D33D-041A-4CE8-8454-1D8079A8C9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B250F-4382-4F16-A548-84EE4EE4DC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69391-EF7D-4CF1-82B5-E34C2198F8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7B9F8-FEE2-4E61-AFD1-D6A45834D8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527F4-DE9E-4E38-809F-55EC29A18D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78F06-85F6-4A8F-8D3B-DC31B6CBCE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B9A7E-FAAB-4B5F-99A0-F5626BEE10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BEFB7-C318-4E1A-8CCF-3FF247A78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DC43-01FF-4A3F-AE15-D2A92B201B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987CE-1D49-45CF-AC0A-8EF836A9FB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D91F7-CEA8-43A4-9085-BFDABF3444A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24BE9-AD01-451C-92C6-FC54893EC1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91AA3-26A1-404A-9952-67FFB22094E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27665-C604-448D-9594-2A4382ACAA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ABAB1-CE2D-4545-AB14-07F3A52716C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69E8-9686-44F9-BADB-38BF663614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E7B7E-56BD-49BA-9106-46EECA5335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BEF9A-F2C6-4208-8C22-9923247268A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994F1-B8D7-4676-B1AC-ED96DEC59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43D9-0159-470F-96C4-D2FA0C43E4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0AE5A-7A24-4055-BF88-57F4095074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B31A-918B-4A51-8164-8B89FF8E1B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84B7-22EF-484F-95A1-39207B649F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08F9-7282-4888-97B4-186E490507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50A3-3FDB-4038-8095-295A1973C1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A268-1650-4CE6-9F4F-0DBF178E02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7FD9-6C90-4FAB-826A-4E792581D9D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0408-5524-40DC-BFBD-4D21ED5CA6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9D8A-39FD-4BDC-BC45-E1A16205B7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9AE1-9FEA-41D3-8C51-B6630EFBB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31EF-5069-43B7-847B-F3EC7986E4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C9FC-F64B-4782-8BDB-1CC1512550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F292-C536-48E6-86D7-0F441FD2EF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0B4D-66B4-45E0-81F8-996991930B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32C6D-8775-4233-A2DD-6BDC5B2E23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7B0AD-0BBA-4E75-BE48-F0D113FA83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8176C-3F79-48AD-9102-C0E2AD60A8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8A5131-E91B-4B84-A700-F5D35A1D98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647D8A-421E-4F2F-A6AB-2EB1D58D302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EB178-90C6-4748-9D2D-2DD27CB750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52D0D-CD84-4E2A-8ED3-383EE7F54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3C17-8718-4777-83AE-16AF00E9608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B6890A-4440-421E-9ABE-B973D2BF75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53597-CE91-4982-9B0F-5306376F81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8A1B78-2A1E-421C-A59E-EF37B8F770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2D644-13E8-4374-9C34-12F2A643BD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FCF34-235D-4059-A882-3FC5890525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EE0CB-3482-45DD-87E6-FB0C23F0A80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2BE2E-F65A-4575-85BC-FA6BB86954A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D3ED7-34B2-46AC-A156-87FD6BB8171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37516-5BE1-4784-A643-2138351CE1E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DB2BA-6F93-4E56-944D-7EBB28690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2B3D-2871-4F07-9F81-9ACEBD9372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22AEA-EAC0-42B6-A56C-502CD9A359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307B7-9791-464C-9DFC-A805BB1B14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C93D5-82C4-45B4-8922-99DBD26F44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318F9-5D0D-48F8-8555-F67D34F804D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19A6E-FB5D-41A8-B1E8-D1A8869262C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F47CD-3C5C-4DE0-9CB2-5309D42C056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AF6C9-A47A-409E-91FC-9260FE7370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BCD0-FEA8-4308-944E-C5A659B0C5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4A86-9B47-4A34-8E18-412E77FA514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1B4D-BA77-404F-9FE2-7ECD75790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529EAA-D014-45D4-BAEE-3F6879AE1D4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10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FB55DD-EA57-403E-A986-A3E99FCB2018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1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976CF0-D031-4F14-AA38-C9941A8B34B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6372CA-9AAC-432A-8AB0-F5ADE094FFB0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DD9D48-71AE-4C75-BF66-BE5CE7CA8A2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14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14649C-7E23-408A-996E-48254A9BD1B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Num" idx="15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4BC11A-2459-4666-ACEC-CBD400E32C2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1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C900C0-320C-4097-A91C-A9315F06D080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615C3E-F739-48D1-BDF5-FB95C7472CE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CE7DCF-B6DD-4135-B5BA-53E6A476334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3A2F60-C383-4005-9104-88BEE44ADFC4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5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DF3D12-8155-4986-A502-8574FB767DB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10BBF7-6DBA-491C-808A-BD6E75A2765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7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CE16BB-416F-434D-9411-DF75E0955C5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88BFD6-9281-4E1F-AE34-9D21201A1A04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9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DEAFC9-39B1-4EC6-9FBF-68262F39AF7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792440" y="888840"/>
            <a:ext cx="5486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Социально-экономическое развитие Брянщины</a:t>
            </a:r>
            <a:br>
              <a:rPr sz="4800"/>
            </a:b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в первой половине 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 века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а: Сидоренко И.  9-В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2728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омышленность Брянского края в 1879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914400" y="642960"/>
            <a:ext cx="7772400" cy="75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рян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остроение, обработка металлов, чугунолитейное, канатное, кирпичное, гончарное, макаронное, салотопенное, пивоваре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рачев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епальное, кирпичное, маслобойное, воскобойное, свечносальное, водо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вск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комольное, известковое, трепальное, свечносальное, водо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овозыбков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ичечное, канатное, полотняное, кожевенное, щетинное, маслобойное, мыловаренное, салотопе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бчевск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жевенное, маслобой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одуб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жевенное, маслобой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глин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слобой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раж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жевенное, маслобой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инц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уконное, кожевенное, чугу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ядьково, Ивот, Знеберь,Чернятино, Стеклянная Радица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ко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лынка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ичечное, кожеве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юбохна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натное, чугунолитейное, водочное, пивоваре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имово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отняное, кожевенное, щети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Сель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500120" y="1428840"/>
            <a:ext cx="6564240" cy="4859280"/>
            <a:chOff x="1500120" y="1428840"/>
            <a:chExt cx="6564240" cy="4859280"/>
          </a:xfrm>
        </p:grpSpPr>
        <p:pic>
          <p:nvPicPr>
            <p:cNvPr id="709" name="" descr=""/>
            <p:cNvPicPr/>
            <p:nvPr/>
          </p:nvPicPr>
          <p:blipFill>
            <a:blip r:embed="rId2"/>
            <a:stretch/>
          </p:blipFill>
          <p:spPr>
            <a:xfrm>
              <a:off x="1500120" y="1428840"/>
              <a:ext cx="656424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500120" y="1428840"/>
              <a:ext cx="6564240" cy="48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42920" y="142920"/>
            <a:ext cx="90010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SzPct val="9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Экстенсивный путь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СТ ПРОДУКЦИИ ПРОИСХОДИЛ ТОЛЬКО ЗА СЧЕТ РАСШИРЕНИЯ ПЛОЩАДИ ПОСЕВ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посевные площади увеличились в 1,5 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9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САМОСТОЯТЕЛЬНЫХ ХОЗЯЙСТВЕННЫХ РАЙОНОВ СПОСОБСТВОВАЛА РАЗВИТИЮ </a:t>
            </a:r>
            <a:r>
              <a:rPr b="1" lang="ru-RU" sz="2400" spc="-1" strike="noStrike">
                <a:solidFill>
                  <a:srgbClr val="740000"/>
                </a:solidFill>
                <a:latin typeface="Arial"/>
              </a:rPr>
              <a:t>ТОВАРНО- ДЕНЕЖНЫХ ОТНОШЕН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9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«КАПИТАЛИСТЫ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РЕСТЬЯНЕ, ЗАНИМАВШИЕСЯ ТОРГОВЛЕЙ, РОСТОВЩИЧЕСТВОМ,ПРОМЫШЛЕННЫ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ОМ (МОРОЗОВЫ, БАХРУШИНЫ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ФОРМЫ ФЕОДАЛЬНОЙ ЭКСПЛУА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РЩИНА                     МЕСЯЧИНА                   ОБ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озрос в 2,5-3,5 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429080" y="5214960"/>
            <a:ext cx="504720" cy="41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43000" y="5214960"/>
            <a:ext cx="504720" cy="41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286760" y="5214960"/>
            <a:ext cx="504720" cy="41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392904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-х гг. XIX в. в России начался промышленный переворот. Его развитие сдерживалось слабым развитием кредита (создание частных кредитных банков запрещалось, а казенные банки кредитовали в первую очередь дворян под залог имений), практическим отсутствием рынка свободной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1643040" y="0"/>
            <a:ext cx="642924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 fill="hold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0"/>
            <a:ext cx="2714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57160"/>
            <a:ext cx="9144000" cy="5786640"/>
          </a:xfrm>
          <a:prstGeom prst="rect">
            <a:avLst/>
          </a:prstGeom>
          <a:noFill/>
          <a:ln w="9360">
            <a:solidFill>
              <a:srgbClr val="1c1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c00000"/>
              </a:buClr>
              <a:buSzPct val="9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рянщине как и в других уездах России, распространяются капиталистические формы хозя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90000"/>
              <a:buFont typeface="Wingdings" charset="2"/>
              <a:buChar char="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мышленный переворот, на фоне которого развивалась экономика в первой половине XIX века, делал очевидной тормозящую роль крепостного права для дальнейшего развития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8786880" cy="70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ПИТАЛИЗМ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О –ЭКОНОМИЧЕСКИЙ СТ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НЫЙ НА ЧАСТНОЙ СОБСТВЕННОСТИ БУРЖУАЗИ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ПРОИЗВОДСТВА(ЗАВОДЫ, МАШ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) И НА ЭКСПЛУАТАЦИИ НАЕМНОГО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АНУФАКТУРА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ЯТИЕ,ОСНОВА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АЗДЕЛЕНИИ ТРУДА И НА РУЧНОЙ РЕМЕСЛЕННОЙ ТЕХ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УРЖУАЗИЯ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ЛЬЦЫ КАПИТАЛИСТ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ЯТИЙ,МАНУФАКТУР, ЭКСПЛУАТИРУЮЩИХ ТРУД НАЕМНЫХ РАБО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ЛЕТАРИАТ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НАЕМНЫХ РАБОТНИКОВ, ЛИШЕННЫХ СРЕДСТВ ПРОИЗВОДСТВА, ПРОДАЮЩИХ СВОЮ РАБОЧУЮ СИЛУ И ЭКСПЛУАТИРУЕМЫХ БУРЖУАЗ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АБ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пное предприятие, основанное на применении машин и разделения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215200" y="471492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1c1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215200" y="350028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1c1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215200" y="264312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1c1c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143920" y="100008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454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286840" y="6286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12338"/>
                </a:moveTo>
                <a:lnTo>
                  <a:pt x="17806" y="5332"/>
                </a:lnTo>
                <a:lnTo>
                  <a:pt x="17806" y="1934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454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072120" y="3500280"/>
            <a:ext cx="285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Большая часть территорий Брянщины входит в Орловскую и Черниговскую губер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Брянский у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00840" y="0"/>
            <a:ext cx="31431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я к середин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XIX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тинентальная стра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-я часть с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 млн.кв.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елена на 69 губер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бернии- на 10-12 уез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"/>
          <p:cNvCxnSpPr/>
          <p:nvPr/>
        </p:nvCxnSpPr>
        <p:spPr>
          <a:xfrm flipH="1" flipV="1">
            <a:off x="-1500840" y="1858320"/>
            <a:ext cx="3858120" cy="15721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2000160" y="3571920"/>
            <a:ext cx="500040" cy="142920"/>
          </a:xfrm>
          <a:custGeom>
            <a:avLst/>
            <a:gdLst>
              <a:gd name="textAreaLeft" fmla="*/ 111600 w 500040"/>
              <a:gd name="textAreaRight" fmla="*/ 370800 w 5000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ff5858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 fill="hold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-87480"/>
            <a:ext cx="831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ословия в п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XIX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века в Брян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0" y="476280"/>
          <a:ext cx="9144000" cy="6346800"/>
        </p:xfrm>
        <a:graphic>
          <a:graphicData uri="http://schemas.openxmlformats.org/drawingml/2006/table">
            <a:tbl>
              <a:tblPr/>
              <a:tblGrid>
                <a:gridCol w="1690560"/>
                <a:gridCol w="5686560"/>
                <a:gridCol w="1766880"/>
              </a:tblGrid>
              <a:tr h="160020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О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РЯ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АВА И ОБЯЗАННОСТИ СО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ривилегированное сослов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ело землей и крепостными крестьянами, занимало гос. должности, освобождено от обязательной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жбы. ПРАВО НА САМОУПРАВЛЕНИЕ. БЫЛИ- ПОТОМСТВЕННЫМИ И ЛИЧНЫ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330033"/>
                          </a:solidFill>
                          <a:uFillTx/>
                          <a:latin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330033"/>
                          </a:solidFill>
                          <a:uFillTx/>
                          <a:latin typeface="Times New Roman"/>
                        </a:rPr>
                        <a:t>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55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ХО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ПЕ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ривилегированное сослови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освобождалось от рекрутчины и телесных наказаний. Черное- монах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ое духовенст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ривилегированное сослов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имели право вести торговлю .Купцы 1-й гильдии- крупную внутреннюю и внешнюю. 2-й гильдии- крупную внутренню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й гильдии- мелкую торговл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ЩА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ивилегированное сословие; платило подати, несло рекрутскую повин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ее угнетаемое непривилегированное сословие ; делилось на государственны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ельных, крепостны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3тыс.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6192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емные работ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пускаются на заработки в город на мануфакту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71 тыс.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"/>
          <p:cNvSpPr/>
          <p:nvPr/>
        </p:nvSpPr>
        <p:spPr>
          <a:xfrm>
            <a:off x="0" y="292428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4929120"/>
            <a:ext cx="9144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0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 fill="hold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6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1998"/>
                            </p:stCondLst>
                            <p:childTnLst>
                              <p:par>
                                <p:cTn id="4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 fill="hold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57120" y="1571760"/>
            <a:ext cx="818676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ЭКОНОМИЧЕСКОЕ РАЗВИТИЕ Брянщины</a:t>
            </a:r>
            <a:br>
              <a:rPr sz="4400"/>
            </a:b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В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-Й ПОЛОВИНЕ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  XIX</a:t>
            </a: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3071880" y="0"/>
            <a:ext cx="2500200" cy="230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0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 fill="hold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6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2038320" y="0"/>
            <a:ext cx="5319720" cy="48578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071720" y="4857840"/>
            <a:ext cx="7143480" cy="20001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6000840" y="5072040"/>
            <a:ext cx="257040" cy="2984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572680" y="6143760"/>
            <a:ext cx="571320" cy="7142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14240"/>
              <a:gd name="textAreaBottom" fmla="*/ 677520 h 714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1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 fill="hold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 fill="hold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142920"/>
            <a:ext cx="9144000" cy="4665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первой половине XIX в. в России и на Брянщине продолжался рост мелкотоварного ремесла, развитие крестьянских промы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месло постепенно меняло свой характер. Теперь ремесленники были тесно связаны 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уфактурам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 позд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 с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брик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что позволяет говорить о 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апиталистическом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харак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АПИТАЛИСТИЧЕСКОЕ ПРОИЗВОДСТВО на Брянщине НЕ ВОЗНИКАЛО, ПОТОМУ ЧТО СУЩЕСТВОВАЛО КРЕПОСТНОЕ ПРАВО И НА МАНУФАКТУРАХ ПРИМЕНЯЛСЯ ПОДНЕВОЛЬНЫЙ ТРУД, КОТОРЫЙ НЕ БЫЛ ЭФФЕКТИВ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4859280" y="5040360"/>
            <a:ext cx="3535560" cy="162252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642960" y="5025960"/>
            <a:ext cx="3071880" cy="161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0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 fill="hold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14200" y="214200"/>
            <a:ext cx="871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Arial"/>
              </a:rPr>
              <a:t>Особенности формирования российского пролетари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русских наемных рабочих оставались крепостными, ушедшими в города на заработки. Заработную плату предприниматель вынужден был устанавливать на таком уровне, чтобы она обеспечивала  выплату рабочими оброка помещику. Крестьянин-отходник с трудом превращался в кадрового рабочего, поневоле сохранял прочную связь с деревней, где оставалась его семья. Да и сам он в любой момент мог быть отозван помещиком. Приток рабочей силы на фабрики и мануфактуры был сезонным: во время массовых сельскохозяйственных работ многие возвращались в деревн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есы развития российской промышленности требовали освобождения рабочей силы, то есть ликвидации крепостного права в 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21420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Специфика рус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уржуа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ая буржуазия первой половины XIXв. формировалась из купцов и капиталистых крестьян. Крепостной предприниматель начинал с нескольких ткацких станков, на которых работал вместе с сыновьями. Затем после ряда удачных сделок нанимал первых рабочих из числа односельчан, постепенно расширяя производство. Однако несмотря на свое богатство они оставались крепостными и продолжали всецело зависеть от помещика, что нередко крайне затрудняло их предпринимательскую деятельность. Большинство помещиков предпочитали не отпускать крепостных богачей на волю даже за огромный выкуп, а ежегодно взимали с них многотысячный об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7720" cy="19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371600" y="277920"/>
            <a:ext cx="77724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Заводы Брянщины первой половины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ек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Арсенал - расположен у подножия Покровской горы, занимает квартал между ул. Калинина и р. Десной. Основан в 1707 г., когда во время Северной войны по приказу Петра I в городе сооружались мастерские для изготовления холодного оружия и склады для хранения вооружения. В 1856 г. на заводе появилась первая паровая машина. С 1882 г. Арсенал перешел на производство стальных пушек. Новый этап крупного строительства сооружений относится к кон. 19 - нач. 20 в. 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-1812 год- возникновение первой суконной фабрики в Клинцах.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- 1868 год – открытие первой железной дороги в крае Орел- Дубровка.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- 1869 год- основание Радицкого вагоностроительного завода.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- 1873 год основание Брянского рельсопрокатного железоделательного и механического завод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4319640" y="4500720"/>
            <a:ext cx="3857400" cy="2146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8:12:38Z</dcterms:created>
  <dc:creator>паша</dc:creator>
  <dc:description/>
  <dc:language>en-US</dc:language>
  <cp:lastModifiedBy>IRA</cp:lastModifiedBy>
  <dcterms:modified xsi:type="dcterms:W3CDTF">2012-05-18T15:50:08Z</dcterms:modified>
  <cp:revision>77</cp:revision>
  <dc:subject/>
  <dc:title>ВЕРОВАНИЯ НАРОДОВ РОССИЙСКОЙ ИМПЕРИИ</dc:title>
</cp:coreProperties>
</file>