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7F2-7CC4-4159-AD02-3189244B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70E-2144-4EE8-A062-0B3C6D3C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9E3-12AC-4211-B9ED-34CBA532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9E8-240E-46FF-81AE-22E8685F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2AD0C-326E-44F2-BB1E-30B35B4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D3C09-3A4D-4D32-B41B-CB846D0B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1C63F-4B32-4D57-877D-0E28ABF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FC4C4-7DA3-477A-AE17-1FA4A5A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D85F-598F-4241-A8CA-2E4641B2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DE967-C62F-414A-B9B0-716D76B8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A1D9-0E3A-4C77-8FB9-DDDE2D7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31D-16CF-46FF-AB44-5743C3D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2680D-CBEE-4AD5-893A-1691C46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DDF2E-A198-4AA5-9575-11F19C40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84E3-5170-42AE-BE44-F87969F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D171-A571-40F7-A8D6-C1AC34D0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9535B-D99E-4165-90FC-4969D4E8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FAA-3F5F-428C-B7FA-89914A20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405-C216-4361-A18B-FC5D546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C13-0569-4A52-8F49-58AD011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21E-B02D-4A6F-92F1-0E74975E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73B-3F79-46D8-8478-FCD7C56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79D-969C-4667-AF2F-F40DC8C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408-67B8-43AA-9BF3-A3BE17D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471B-E21A-41CF-B01C-A18FFB3BCDAF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862-1E0E-4689-8CA2-ECA7E0E77C6F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е к интегрированному уроку экологии и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Технология выполнения цветов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0"/>
          <p:cNvSpPr txBox="1"/>
          <p:nvPr/>
        </p:nvSpPr>
        <p:spPr>
          <a:xfrm>
            <a:off x="533520" y="2286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НАРЦИСС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0" y="1295280"/>
            <a:ext cx="4419720" cy="556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5646600" y="2496960"/>
            <a:ext cx="2041560" cy="27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9"/>
          <p:cNvSpPr txBox="1"/>
          <p:nvPr/>
        </p:nvSpPr>
        <p:spPr>
          <a:xfrm>
            <a:off x="685800" y="457200"/>
            <a:ext cx="7848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ЮЛЬП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0" y="1295280"/>
            <a:ext cx="4648320" cy="556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151680" y="3351240"/>
            <a:ext cx="1031760" cy="10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9"/>
          <p:cNvSpPr txBox="1"/>
          <p:nvPr/>
        </p:nvSpPr>
        <p:spPr>
          <a:xfrm>
            <a:off x="1295280" y="228600"/>
            <a:ext cx="67820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А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533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5302080" y="2847960"/>
            <a:ext cx="273060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Calibri"/>
              </a:rPr>
              <a:t>Гвоздика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2670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ение раннее изуч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и вязании следует держать крючок в ру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способы вязания по круг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необходимо выполнить петель для подъема, если дальше будут выполняться столбики с накид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язании по кругу как соединяются начало и конец ря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техники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ючки должны быть хорошо отшлифованы и … в специальных коробоч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льзя делать … движений рукой с крюч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оставлять крючок без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передавать … впер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толе ножницы должны лежать с … лезв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ы становимся все выш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стаем руками крыш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два счета поднялис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ри, четыре – руки вниз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914400" y="914400"/>
            <a:ext cx="71629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полн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ктическо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Подведение итог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то узнали нового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Чему научилис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5335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alibri"/>
              </a:rPr>
              <a:t>Принести крючок, нит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учиться вывязывать цве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Уборка рабочих мес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Documents and Settings\Соня.7A687BD792F1496\Рабочий стол\РИСУНКИ\цвяты\Изображение 140.jpg"/>
          <p:cNvPicPr/>
          <p:nvPr/>
        </p:nvPicPr>
        <p:blipFill>
          <a:blip r:embed="rId1"/>
          <a:stretch/>
        </p:blipFill>
        <p:spPr>
          <a:xfrm>
            <a:off x="0" y="-46080"/>
            <a:ext cx="9372600" cy="713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701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Соня.7A687BD792F1496\Рабочий стол\РИСУНКИ\цвяты\Изображение 055.jpg"/>
          <p:cNvPicPr/>
          <p:nvPr/>
        </p:nvPicPr>
        <p:blipFill>
          <a:blip r:embed="rId3"/>
          <a:stretch/>
        </p:blipFill>
        <p:spPr>
          <a:xfrm>
            <a:off x="0" y="0"/>
            <a:ext cx="9372600" cy="723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4"/>
          <a:stretch/>
        </p:blipFill>
        <p:spPr>
          <a:xfrm>
            <a:off x="2057400" y="0"/>
            <a:ext cx="5029200" cy="7238880"/>
          </a:xfrm>
          <a:prstGeom prst="rect">
            <a:avLst/>
          </a:prstGeom>
          <a:ln w="0">
            <a:noFill/>
          </a:ln>
        </p:spPr>
      </p:pic>
      <p:pic>
        <p:nvPicPr>
          <p:cNvPr id="90" name="18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9" descr=""/>
          <p:cNvPicPr/>
          <p:nvPr/>
        </p:nvPicPr>
        <p:blipFill>
          <a:blip r:embed="rId1"/>
          <a:stretch/>
        </p:blipFill>
        <p:spPr>
          <a:xfrm>
            <a:off x="3124080" y="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4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5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6"/>
          <a:stretch/>
        </p:blipFill>
        <p:spPr>
          <a:xfrm>
            <a:off x="32004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КУСЫ           ГИАЦИ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243480" y="3179880"/>
            <a:ext cx="84780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ЕВЫЕ                «СВЕЖИ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ЦВЕТЫ                     ФРУ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154560" y="3214800"/>
            <a:ext cx="102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ИБЫ                       ВИНОГРАД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ОРЕХ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1905120"/>
            <a:ext cx="4800600" cy="4952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5584680" y="2838600"/>
            <a:ext cx="216540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ЖДЕСТВЕНСКАЯ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ЗВЕЗДА                       ОРХИДЕ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54560" y="3184560"/>
            <a:ext cx="102564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10"/>
          <p:cNvSpPr txBox="1"/>
          <p:nvPr/>
        </p:nvSpPr>
        <p:spPr>
          <a:xfrm>
            <a:off x="533520" y="228600"/>
            <a:ext cx="8305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РИЗАН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5740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6154560" y="3349800"/>
            <a:ext cx="1025640" cy="10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3-02-12T10:33:0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