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106-418E-4B07-AD28-98048811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1D7-1D52-44FA-A5C2-653BA4FE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B06-3F5E-4D8C-9F96-CD4E6FA8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53F-B32F-4FD3-AAFC-75AE49D8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D3AB-CB21-490E-B16A-691D4556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6E40-57DD-4A13-B1B5-74E1AFE2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FCF93-3BA7-4F1A-AACB-44EE0ABD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409C1-E00F-4CC9-9D13-FAD8F1C5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E5943-316C-4FF0-AFBC-4F5C6F1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DF3B7-0C6E-40F8-9DFD-053B9E97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A03D3-7670-468D-BF09-DE4981B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5CF-599C-49C7-9413-28620ED0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FEB4-2921-4A5C-85AC-21E59E50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C1B5C-5939-4225-855C-2A93CEB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1FB0F-5E85-4DDC-9788-F83900AE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C6536-F79E-4A10-91BF-5D8943F5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3765B-7C6D-4CAC-A7E3-7B17B4DE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51F-607A-4305-A6C2-5B7734E9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71C-F55E-466E-9C35-69E6BF8A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2BE-F9FF-455B-AA69-B4125F7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2E2-C5F9-497A-8332-EAA590B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C49-7541-4C63-A12C-E1163CC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CB1-705D-4141-B55B-60F080A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846-D604-45A6-91A9-4989449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0B32-6BF5-4435-A8AF-6057C99B68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91E8-2B1F-48E8-A712-A05974574D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Тема 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родные члены пред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ҖӨМЛӘНЕҢ ТИҢДӘШ КИСӘКЛӘР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Повторение пройденног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Предложения по его грамматической основ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1.  Двусоставные                                                   2.  Односостав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(в предложении есть                                 (есть только один главный член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и подлежащее и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tt-RU" sz="1400" spc="-1" strike="noStrike">
                <a:solidFill>
                  <a:srgbClr val="ffffff"/>
                </a:solidFill>
                <a:latin typeface="Tahoma"/>
              </a:rPr>
              <a:t>Личные предложения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:(сказуемные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сказуемое)                      а)Определенно-личное (конкретное лицо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Люблю грозу в начале ма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б)неопределенно-личное (неопределенное лицо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Клюкву собирают поздней осень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в)Обобщенно-личное (любое лицо вообще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Цыплят по осени считают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.Безличные предложения:(подлежащее не под-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разумеваетс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Было ветрено и свеж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Назывные:(есть только подлежащее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Вечер. Утр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лные и неполные предло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лные предложения, в которых пропущен какой-либо член-главный или второстепенный.Пропущенные члены легко восстанавливаются при разгово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зучение новой тем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Лев Толстой, Тургенев, Достоевск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знавали Пушкина своим духовным родоначальни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ие оперы на тексты произведений Пушкина написаны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линкой, Чайковским, Мусоргским, Римским-Корсаковы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Рахманиновым и другими крупнейшим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омпозитор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тератур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дним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еру человека всебя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азвив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нем стремление к истине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оре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 пошлостью в людях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озбужд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их душах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тыд, гнев, мужество, благородст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дьба значительной, правдивой книги всегда счастлив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лантливое произведение рождает в нас желание жить достойно, созидательно, радост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м нужно ответить на следующи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На какой вопрос отвечают выделенные слов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Являются ли они одним членом предлож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Подчиняются ли они одному и тому члену предлож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Какими членами предложения являются эти слов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Какой связью соединены между собой (сочинительной или подчинительной)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ордными называются любые одинаковые члены предложения, которые отвечают на один и тот же вопрос и одинаково связаны с каким-либо другим членом предлож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между собой соединены сочинительной связ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родные члены обычно выражаются словами одной части речи,но могут быть выражены и словами разных часте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люблю читать медленно, с останов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лю читать (как?) медленн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лю читать (как?) с остановк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родные члены бывют распространенные и нераспространен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и любят книжк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расочно оформленные, с картин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нижк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(какие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 с учебнико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р:280 (письменн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р:281 (устн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просы для закрепл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На какой вопрос отвечают однородные член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Каким членом предложения они являютс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К какому слову они относятс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Какой связью соединяются между собо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Могут быть выражены словами разных частей реч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учить правило на стр.148.,упр.28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6:02:49Z</dcterms:created>
  <dc:creator>Айзиля</dc:creator>
  <dc:description/>
  <dc:language>en-US</dc:language>
  <cp:lastModifiedBy>Айзиля</cp:lastModifiedBy>
  <dcterms:modified xsi:type="dcterms:W3CDTF">2013-02-24T08:25:58Z</dcterms:modified>
  <cp:revision>3</cp:revision>
  <dc:subject/>
  <dc:title>Слайд 1</dc:title>
</cp:coreProperties>
</file>