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B89-8FDD-481D-8F7F-0ACFE66A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25F-69F6-4004-9790-E2D6869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306-5D95-482F-B177-4AE17388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D76-4FBA-4F2D-AE0F-0EDAD5A9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9D6-7531-486D-88C9-DCEC253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999-A75F-4EF9-955E-A94154F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185-AAEC-4F15-A19A-8DE58E26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BD6-15F1-42B6-AC79-068428C1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B12-F29F-4143-BA23-6DAE2FA3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B2E-0D61-443D-B9FE-2378C5B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FCF-7B01-4FFA-837C-B0746E4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88B-BCFC-4905-8781-51B6D63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2EA9-7652-453B-89F7-E03F835D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«Социальная сфе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348920" y="571500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МОУ «Бельская СОШ» Тверской области Усачёва Н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9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среднему классу в экономически развитых странах относя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1) неквалифицированные рабочие                     2) менеджеры крупных предприят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3) владельцы небольших фир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4) лица, занятые физическим тру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 общества представлена  социальными  общностями и  группами  в многообразии  их  связей.  Какая  социальная  группа  выделена  по профессиональному признаку? 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ассаж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муж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горож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инжен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 кто оказался на социальном дне, назыв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ас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тра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маргина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люмпе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ом социальной структуры общества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ло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ар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парла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является примером вертикальной социальной мобильности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1) переезд на новое место житель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2) получение рабочим водительских прав        3) получение титула баронета мелкопоместным дворянин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4) переход банковского служащего на ту же должность в другой бан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ы ли следующие суждения о социальной ро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оциальная роль включает в себя набор прав и обяза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ля каждого статуса характерно выполнение только одной социальной р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только А     3)верны оба су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только Б     4)оба суждения невер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ША 12 % богатейших семей владеют 62% общего количества промышленных акций. Это проявл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1) социальной моби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2) социал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3) социальн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4) социального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676520" y="1752480"/>
            <a:ext cx="5638680" cy="60984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социальной страт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3520" y="3429000"/>
            <a:ext cx="2819160" cy="60948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ессиональ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200400" y="4343400"/>
            <a:ext cx="3048120" cy="60948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943600" y="3429000"/>
            <a:ext cx="2895480" cy="60948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8"/>
          <p:cNvCxnSpPr/>
          <p:nvPr/>
        </p:nvCxnSpPr>
        <p:spPr>
          <a:xfrm flipH="1">
            <a:off x="4571640" y="2361960"/>
            <a:ext cx="2160" cy="19054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0"/>
          <p:cNvCxnSpPr/>
          <p:nvPr/>
        </p:nvCxnSpPr>
        <p:spPr>
          <a:xfrm flipH="1">
            <a:off x="2209320" y="2361960"/>
            <a:ext cx="991440" cy="99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2"/>
          <p:cNvCxnSpPr/>
          <p:nvPr/>
        </p:nvCxnSpPr>
        <p:spPr>
          <a:xfrm>
            <a:off x="5942520" y="2361960"/>
            <a:ext cx="686520" cy="10674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ритериям социальной стратификации относится(-ятся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  размер дох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  форма проведения досу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 черты характе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  политические убеж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(1 бал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ны ли следующие суждения об особенностях социальной мобильност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  Войны и революции усиливают социальную мобильность индивидов и груп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.  Образование, личные качества помогают индивиду продвигаться вверх по социальной лестниц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  верно только 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  верно только 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  верны оба сужд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  оба суждения невер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сачева</dc:creator>
  <dc:description/>
  <dc:language>en-US</dc:language>
  <cp:lastModifiedBy>Усачева</cp:lastModifiedBy>
  <dcterms:modified xsi:type="dcterms:W3CDTF">2013-02-22T13:31:26Z</dcterms:modified>
  <cp:revision>8</cp:revision>
  <dc:subject/>
  <dc:title>1 (1 балл)</dc:title>
</cp:coreProperties>
</file>