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31A-FDFE-42F3-A6AE-DA120499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91E-4BD2-4B71-8276-B3935854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0F0-9D32-4435-9C43-51C8AEC2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09E-69F0-4BF8-97A7-200FE2AF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8036-A099-4154-8BCB-AB10C80E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CA47-ECA5-436C-8C0E-27A1AE2F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FEBA-9A9C-4911-9F1D-D9553011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BF8C-F582-435A-89B1-D335E35F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A991-7A7C-41D1-BD60-03F37D91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0E1B-7ED8-4D30-994E-08A76011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213A-967E-4614-A155-0AF841D4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F8A-1AE6-4B44-B8F6-3BEA10ED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337E-59D6-4D89-8755-EF90C58E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6B36-F204-40B7-900C-470E759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F162-5345-4518-9795-AD8605DF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B639-6EC0-4FEC-B5C1-FE849AC8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822D-686C-4CFB-9F04-4AA0F085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43D-2BBF-494C-97DE-2D8F34A0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C73-B186-4B4E-B0A1-5A6F3463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0BC-A69C-4933-A38D-B57DE47F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048-6ABB-489F-B704-95AE168D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E75-85A5-4E5D-B872-687787AD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945-9B60-472B-BE71-0830685E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64F-1451-425E-AC63-A1A69BAD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B702-B00B-4096-BDD8-D1DAD78388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DF21-1DE6-4093-8BE3-9279E925AE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ТОРНАД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622560" y="1341360"/>
            <a:ext cx="2521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Выполнил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отапов Кири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6588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7848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Comic Sans MS"/>
              </a:rPr>
              <a:t>Торнадо – это очень сильный ветер, который возникает в грозовом облаке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911160"/>
            <a:ext cx="9144000" cy="594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Comic Sans MS"/>
              </a:rPr>
              <a:t>Смерч проносится с очень большой скоростью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6227640" cy="5684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478480" y="1413000"/>
            <a:ext cx="366552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6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За несколько минут смерч может поднять в воздух людей, машины и дом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954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746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Comic Sans MS"/>
              </a:rPr>
              <a:t>Вид из космоса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538200"/>
            <a:ext cx="914400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155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ecff"/>
                </a:solidFill>
                <a:latin typeface="Comic Sans MS"/>
              </a:rPr>
              <a:t>Вращающаяся воронка,как пылесос затягивает предметы, ломает деревья и выбивает окн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29200" y="0"/>
            <a:ext cx="231444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Comic Sans MS"/>
              </a:rPr>
              <a:t>Последствия торнадо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32720" cy="4653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427640" y="3344760"/>
            <a:ext cx="4716360" cy="35132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3836880"/>
            <a:ext cx="4427640" cy="3021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632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Comic Sans MS"/>
              </a:rPr>
              <a:t>Чаще всего торнадо возникают в Америке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427640" cy="609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338720" y="692280"/>
            <a:ext cx="4805280" cy="6165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1:12:53Z</dcterms:created>
  <dc:creator>Миша</dc:creator>
  <dc:description/>
  <dc:language>en-US</dc:language>
  <cp:lastModifiedBy>Миша</cp:lastModifiedBy>
  <dcterms:modified xsi:type="dcterms:W3CDTF">2012-04-07T12:11:41Z</dcterms:modified>
  <cp:revision>3</cp:revision>
  <dc:subject/>
  <dc:title>ТОРНАДО</dc:title>
</cp:coreProperties>
</file>