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067-83CF-4795-B3EE-CA0E6232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C74-DFD2-427F-8844-87DCBCE8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FAD-AAA9-49B6-B3A4-4B5CEF3C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C51-6971-4ED4-AE63-6F93F53B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E44-7805-48C8-99A6-A6A8D91E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D32-69EA-46B1-A5F5-4AAE9E09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EE9-7A4E-4FFB-99B5-93D72C94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FCA-7D85-4C02-B522-CDBBF23A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E44-FC3D-4605-991D-1D89440D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5BC-8673-4FA6-9A3D-A0ACDCAC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F9F-200F-4584-8152-0DE4499E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861-88DD-4214-A510-5B91E0F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7E85-0CB6-465C-946F-0DD5353CE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h4k33m.files.wordpress.com/2008/06/trojan-horse.jpg"/>
          <p:cNvPicPr/>
          <p:nvPr/>
        </p:nvPicPr>
        <p:blipFill>
          <a:blip r:embed="rId1"/>
          <a:stretch/>
        </p:blipFill>
        <p:spPr>
          <a:xfrm>
            <a:off x="1857240" y="0"/>
            <a:ext cx="557244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downloads.bbc.co.uk/rmhttp/schools/primaryhistory/images/ancient_greeks/greek_world/g_the_trojan_horse.jpg"/>
          <p:cNvPicPr/>
          <p:nvPr/>
        </p:nvPicPr>
        <p:blipFill>
          <a:blip r:embed="rId1"/>
          <a:stretch/>
        </p:blipFill>
        <p:spPr>
          <a:xfrm>
            <a:off x="0" y="0"/>
            <a:ext cx="965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markelikalderon.com/wp-content/uploads/2008/06/trojan-ho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s14.radikal.ru/i187/0907/da/35cb9cd953b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9:49:57Z</dcterms:created>
  <dc:creator>User</dc:creator>
  <dc:description/>
  <dc:language>en-US</dc:language>
  <cp:lastModifiedBy>Ирина</cp:lastModifiedBy>
  <dcterms:modified xsi:type="dcterms:W3CDTF">2013-02-27T16:36:58Z</dcterms:modified>
  <cp:revision>6</cp:revision>
  <dc:subject/>
  <dc:title>Слайд 1</dc:title>
</cp:coreProperties>
</file>