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546-8730-445F-9457-D9DC13900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9B77-CA74-432A-A238-2DDBA305C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F4A4-84F1-4849-860C-A8E952A97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3F1-236C-4CC5-9CAF-C2218E50D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D7C8-4C76-41B5-9B83-24C073698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D3C6-760C-4D3F-97AA-100596DB8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A395-ED53-49A8-AF58-601EF0577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CD35-5C0A-4EC5-9153-EF6A60A1B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2AB0-4136-4E92-8216-C146D60CC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A03-7F89-4ACA-802F-645A2FCB3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35E-39F3-4FE8-866F-038724CE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AC1-4757-4226-8E62-5D462E46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0C8-682B-42BA-BAA2-2DE2C331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A11-1C7B-4E9E-9A0D-2966EED7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756-81EF-4810-B822-2AE07F80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CF1-221E-4C27-850D-DC4171C6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971-235D-405E-BDD8-B02E375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22A-2F13-4889-A371-774BD1A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D5F-D584-4036-8C71-2D513933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88F-05EA-48E1-81BE-934F7D38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380-83FF-4158-B9AA-2A68105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7BD-EDA1-43EE-ABA8-4D84410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5FA2-B252-48B6-B936-CE0265DE1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412640"/>
            <a:ext cx="777708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41414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441414"/>
                </a:solidFill>
                <a:latin typeface="Arial"/>
              </a:rPr>
              <a:t>D</a:t>
            </a:r>
            <a:r>
              <a:rPr b="0" lang="fr-FR" sz="6000" spc="-1" strike="noStrike">
                <a:solidFill>
                  <a:srgbClr val="441414"/>
                </a:solidFill>
                <a:latin typeface="Arial"/>
              </a:rPr>
              <a:t>es villages québécois et françai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324000" y="4932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441414"/>
                </a:solidFill>
                <a:latin typeface="Arial"/>
              </a:rPr>
              <a:t>Des paysages pittoresques dans les villages.</a:t>
            </a:r>
            <a:r>
              <a:rPr b="0" lang="fr-B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a9fe59cc84f5e4af49dda1691af73bc_d9c10e04bc14fe0cd90fc828dfc42fc7"/>
          <p:cNvPicPr/>
          <p:nvPr/>
        </p:nvPicPr>
        <p:blipFill>
          <a:blip r:embed="rId2"/>
          <a:stretch/>
        </p:blipFill>
        <p:spPr>
          <a:xfrm>
            <a:off x="1071720" y="357120"/>
            <a:ext cx="72738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24000" y="5445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441414"/>
                </a:solidFill>
                <a:latin typeface="Arial"/>
              </a:rPr>
              <a:t>Des villages donnés selon quelques critères.</a:t>
            </a:r>
            <a:r>
              <a:rPr b="0" lang="ru-RU" sz="3600" spc="-1" strike="noStrike">
                <a:solidFill>
                  <a:srgbClr val="44141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etoile"/>
          <p:cNvPicPr/>
          <p:nvPr/>
        </p:nvPicPr>
        <p:blipFill>
          <a:blip r:embed="rId2"/>
          <a:stretch/>
        </p:blipFill>
        <p:spPr>
          <a:xfrm>
            <a:off x="755640" y="339840"/>
            <a:ext cx="76327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4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79280" y="115920"/>
          <a:ext cx="8713800" cy="6597720"/>
        </p:xfrm>
        <a:graphic>
          <a:graphicData uri="http://schemas.openxmlformats.org/drawingml/2006/table">
            <a:tbl>
              <a:tblPr/>
              <a:tblGrid>
                <a:gridCol w="2641680"/>
                <a:gridCol w="3024360"/>
                <a:gridCol w="3047760"/>
              </a:tblGrid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s villages de la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s villages du Québ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a structure des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Il ya 3 types des villages qui s’installent  près des éléments significatifs. Parfois on speut voir les maisons anciennes  qui se trouvent chaotique ment,qui aont été laissées par les habitants ancie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s villages s’installent autour d’un élément significatif ou  selon des activités des villageo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s éléments significa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’église, la route, le château ou la poste. Parfois dans le village pourrait être pas un seul élé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Dans le village sans manquer il y a l’église et le moulin. Quelque part on peut voir le cimetiè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a description des mais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Dans l’architecture des maisons on observe le style. Les maisons sont très belles et déco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s maisons sont adaptées  au cadre naturel et l’activité des villageois. Les maisons sont cachées et dépendent des  conditions  du villag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s éléments principaux des mais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’ornement, le colombage, la tuile, la symétrie de la construc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’ornement, les pilastres et les balustres, les volets sur les fenêt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s activités traditionneles des village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 commerce, la pêche, l’industrie, la métallurgie, </a:t>
                      </a: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’épiscopat*</a:t>
                      </a: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e commerce</a:t>
                      </a: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a pêche*</a:t>
                      </a: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441414"/>
                          </a:solidFill>
                          <a:latin typeface="Times New Roman"/>
                          <a:ea typeface="Times New Roman"/>
                        </a:rPr>
                        <a:t>l’épiscopat, le métier du moul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toile"/>
          <p:cNvPicPr/>
          <p:nvPr/>
        </p:nvPicPr>
        <p:blipFill>
          <a:blip r:embed="rId2"/>
          <a:stretch/>
        </p:blipFill>
        <p:spPr>
          <a:xfrm>
            <a:off x="4716360" y="523800"/>
            <a:ext cx="4025880" cy="261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PhoA19_monthureux"/>
          <p:cNvPicPr/>
          <p:nvPr/>
        </p:nvPicPr>
        <p:blipFill>
          <a:blip r:embed="rId3"/>
          <a:stretch/>
        </p:blipFill>
        <p:spPr>
          <a:xfrm>
            <a:off x="468360" y="350028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ercle"/>
          <p:cNvPicPr/>
          <p:nvPr/>
        </p:nvPicPr>
        <p:blipFill>
          <a:blip r:embed="rId4"/>
          <a:stretch/>
        </p:blipFill>
        <p:spPr>
          <a:xfrm>
            <a:off x="428760" y="571680"/>
            <a:ext cx="388764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4716360" y="3615480"/>
            <a:ext cx="395928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441414"/>
                </a:solidFill>
                <a:latin typeface="Arial"/>
              </a:rPr>
              <a:t>Des villages français ont 3 types des bâtiments, qui sont dépendus de l’élement clé.</a:t>
            </a:r>
            <a:r>
              <a:rPr b="0" lang="fr-FR" sz="3600" spc="-1" strike="noStrike">
                <a:solidFill>
                  <a:srgbClr val="44141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300px-Christian_Church"/>
          <p:cNvPicPr/>
          <p:nvPr/>
        </p:nvPicPr>
        <p:blipFill>
          <a:blip r:embed="rId2"/>
          <a:stretch/>
        </p:blipFill>
        <p:spPr>
          <a:xfrm>
            <a:off x="428760" y="428760"/>
            <a:ext cx="4351320" cy="597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oulin"/>
          <p:cNvPicPr/>
          <p:nvPr/>
        </p:nvPicPr>
        <p:blipFill>
          <a:blip r:embed="rId3"/>
          <a:stretch/>
        </p:blipFill>
        <p:spPr>
          <a:xfrm>
            <a:off x="4859280" y="404640"/>
            <a:ext cx="4067280" cy="3167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4859280" y="3686760"/>
            <a:ext cx="403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41414"/>
                </a:solidFill>
                <a:latin typeface="Arial"/>
              </a:rPr>
              <a:t>Au Québec tous les villages sont structurés autour de l’église ou du moulin</a:t>
            </a:r>
            <a:r>
              <a:rPr b="0" lang="en-US" sz="3600" spc="-1" strike="noStrike">
                <a:solidFill>
                  <a:srgbClr val="441414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aison quebec 1"/>
          <p:cNvPicPr/>
          <p:nvPr/>
        </p:nvPicPr>
        <p:blipFill>
          <a:blip r:embed="rId2"/>
          <a:stretch/>
        </p:blipFill>
        <p:spPr>
          <a:xfrm>
            <a:off x="1143000" y="893880"/>
            <a:ext cx="3141720" cy="247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002"/>
          <p:cNvPicPr/>
          <p:nvPr/>
        </p:nvPicPr>
        <p:blipFill>
          <a:blip r:embed="rId3"/>
          <a:stretch/>
        </p:blipFill>
        <p:spPr>
          <a:xfrm>
            <a:off x="4929120" y="4173480"/>
            <a:ext cx="2857680" cy="21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003"/>
          <p:cNvPicPr/>
          <p:nvPr/>
        </p:nvPicPr>
        <p:blipFill>
          <a:blip r:embed="rId4"/>
          <a:stretch/>
        </p:blipFill>
        <p:spPr>
          <a:xfrm>
            <a:off x="1171440" y="4143240"/>
            <a:ext cx="3073680" cy="21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800px-Port-Saint-Père_-_Château_de_Granville"/>
          <p:cNvPicPr/>
          <p:nvPr/>
        </p:nvPicPr>
        <p:blipFill>
          <a:blip r:embed="rId5"/>
          <a:stretch/>
        </p:blipFill>
        <p:spPr>
          <a:xfrm>
            <a:off x="5000760" y="1011240"/>
            <a:ext cx="3000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539640" y="47923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441414"/>
                </a:solidFill>
                <a:latin typeface="Arial"/>
              </a:rPr>
              <a:t>Il y a 6 types de l’architecture des maiso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alpine"/>
          <p:cNvPicPr/>
          <p:nvPr/>
        </p:nvPicPr>
        <p:blipFill>
          <a:blip r:embed="rId2"/>
          <a:stretch/>
        </p:blipFill>
        <p:spPr>
          <a:xfrm>
            <a:off x="395280" y="2852640"/>
            <a:ext cx="338472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gaulois"/>
          <p:cNvPicPr/>
          <p:nvPr/>
        </p:nvPicPr>
        <p:blipFill>
          <a:blip r:embed="rId3"/>
          <a:stretch/>
        </p:blipFill>
        <p:spPr>
          <a:xfrm>
            <a:off x="4067280" y="2852640"/>
            <a:ext cx="244944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latin"/>
          <p:cNvPicPr/>
          <p:nvPr/>
        </p:nvPicPr>
        <p:blipFill>
          <a:blip r:embed="rId4"/>
          <a:stretch/>
        </p:blipFill>
        <p:spPr>
          <a:xfrm>
            <a:off x="6732720" y="2852640"/>
            <a:ext cx="2016000" cy="181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alsatien"/>
          <p:cNvPicPr/>
          <p:nvPr/>
        </p:nvPicPr>
        <p:blipFill>
          <a:blip r:embed="rId5"/>
          <a:stretch/>
        </p:blipFill>
        <p:spPr>
          <a:xfrm>
            <a:off x="6715080" y="500040"/>
            <a:ext cx="2138400" cy="207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normand"/>
          <p:cNvPicPr/>
          <p:nvPr/>
        </p:nvPicPr>
        <p:blipFill>
          <a:blip r:embed="rId6"/>
          <a:stretch/>
        </p:blipFill>
        <p:spPr>
          <a:xfrm>
            <a:off x="428760" y="500040"/>
            <a:ext cx="2825640" cy="207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basque"/>
          <p:cNvPicPr/>
          <p:nvPr/>
        </p:nvPicPr>
        <p:blipFill>
          <a:blip r:embed="rId7"/>
          <a:stretch/>
        </p:blipFill>
        <p:spPr>
          <a:xfrm>
            <a:off x="3468600" y="476280"/>
            <a:ext cx="29037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texture-2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rd1"/>
          <p:cNvPicPr/>
          <p:nvPr/>
        </p:nvPicPr>
        <p:blipFill>
          <a:blip r:embed="rId2"/>
          <a:stretch/>
        </p:blipFill>
        <p:spPr>
          <a:xfrm>
            <a:off x="4929120" y="3571920"/>
            <a:ext cx="3348000" cy="2643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les-poissons-du-jour_roland-chatain_aocd-xl"/>
          <p:cNvPicPr/>
          <p:nvPr/>
        </p:nvPicPr>
        <p:blipFill>
          <a:blip r:embed="rId3"/>
          <a:stretch/>
        </p:blipFill>
        <p:spPr>
          <a:xfrm>
            <a:off x="5076720" y="760320"/>
            <a:ext cx="3138480" cy="24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p127н_1"/>
          <p:cNvPicPr/>
          <p:nvPr/>
        </p:nvPicPr>
        <p:blipFill>
          <a:blip r:embed="rId4"/>
          <a:stretch/>
        </p:blipFill>
        <p:spPr>
          <a:xfrm>
            <a:off x="1143000" y="857160"/>
            <a:ext cx="34545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4:38:09Z</dcterms:created>
  <dc:creator>Катя</dc:creator>
  <dc:description/>
  <dc:language>en-US</dc:language>
  <cp:lastModifiedBy>ДЕН</cp:lastModifiedBy>
  <dcterms:modified xsi:type="dcterms:W3CDTF">2013-02-27T10:42:31Z</dcterms:modified>
  <cp:revision>11</cp:revision>
  <dc:subject/>
  <dc:title>Une corrélation des villages québécois et français</dc:title>
</cp:coreProperties>
</file>