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BF2-756A-4BB6-B979-0025CC0A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068-429D-4BEC-B8F7-D6E1E4D8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C9E-DEAE-4DEE-8811-9184EFE5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F9A-1AB3-498D-A536-10353ACC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A59B-9829-48EF-805A-0EF1D3B2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99B0-56FA-47AB-A666-6599B108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E95B-E08B-4083-88FB-A2287F09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B1BA-D91F-4D6B-9220-B80614E9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F2AD-91AA-4224-B8A9-E336C6F6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A45F-D907-47AE-8904-45F0437D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C62A-8AB3-4B68-B549-87CD8578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D48-1FA0-4BBD-A419-5618012A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4A2B-7F35-45DF-A4D7-96F6231B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8C7E-7948-4118-B839-7AE23E8E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C44D-CE1E-4426-A274-3C4E0CAA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5557-1151-4BEE-AC66-C00CB3C2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422F-EC18-4808-ACB4-BF2DDAD9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A90-532B-4959-9EBC-81331717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3FC-9D98-49FC-911F-2AF585DB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A5F-F74B-4C97-8CB2-8F456914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4DD-F058-4969-9392-F32EF425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B0D-BC6A-48BB-8E3E-C59D4EE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8B9-7660-4569-B888-D946DCB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FFA-3699-41E2-B02C-9C02A2F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6478-58FC-4F56-8AC3-3A47915BD5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5EC2-B082-4910-B0A2-70EC2CA517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метка заготовок из тонколистового металла и проволок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6858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9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Что такое разметка и для чего ей применяю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нии, повторяющие внешний образ при копировании де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133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ческая операция при которой на заготовке отмечают контуры будущего изделия при помощи чертёжных инстру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3276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ение размеров заготовки с помощью измерительных и разметочных инстру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4267080"/>
            <a:ext cx="2819520" cy="533520"/>
          </a:xfrm>
          <a:prstGeom prst="wedgeRoundRectCallout">
            <a:avLst>
              <a:gd name="adj1" fmla="val -93356"/>
              <a:gd name="adj2" fmla="val -520537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4572000"/>
            <a:ext cx="2819160" cy="457200"/>
          </a:xfrm>
          <a:prstGeom prst="wedgeRoundRectCallout">
            <a:avLst>
              <a:gd name="adj1" fmla="val -128263"/>
              <a:gd name="adj2" fmla="val -500694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191120"/>
            <a:ext cx="2819520" cy="533160"/>
          </a:xfrm>
          <a:prstGeom prst="wedgeRoundRectCallout">
            <a:avLst>
              <a:gd name="adj1" fmla="val -16162"/>
              <a:gd name="adj2" fmla="val -145833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56386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метка окру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15946" t="0" r="10948" b="7973"/>
          <a:stretch/>
        </p:blipFill>
        <p:spPr>
          <a:xfrm>
            <a:off x="7004160" y="4191120"/>
            <a:ext cx="1971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7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320" y="6858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10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При разметке центров будущих отверстий использую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меска, кия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ернер, моло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22096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ель, отбойный моло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048120"/>
            <a:ext cx="2819160" cy="533160"/>
          </a:xfrm>
          <a:prstGeom prst="wedgeRoundRectCallout">
            <a:avLst>
              <a:gd name="adj1" fmla="val -40370"/>
              <a:gd name="adj2" fmla="val -232439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3048120"/>
            <a:ext cx="2819520" cy="533160"/>
          </a:xfrm>
          <a:prstGeom prst="wedgeRoundRectCallout">
            <a:avLst>
              <a:gd name="adj1" fmla="val -59291"/>
              <a:gd name="adj2" fmla="val -243152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3048120"/>
            <a:ext cx="2819520" cy="533160"/>
          </a:xfrm>
          <a:prstGeom prst="wedgeRoundRectCallout">
            <a:avLst>
              <a:gd name="adj1" fmla="val -75337"/>
              <a:gd name="adj2" fmla="val -143152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14223" t="8812" r="14561" b="34833"/>
          <a:stretch/>
        </p:blipFill>
        <p:spPr>
          <a:xfrm>
            <a:off x="2057400" y="3705120"/>
            <a:ext cx="5181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1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32767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Чтобы во время работы не повредить разметочный инстру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85800"/>
            <a:ext cx="8643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1. Почему при разметке циркулем усилие прилагают к ножке, установленной в центре отверст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9160" y="182880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С той целью, чтобы опорная ножка циркуля при разметке не вышла из лунки центра окруж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9160" y="259092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Чтобы более четко оставить риску от ножки циркуля на окруж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962520"/>
            <a:ext cx="2666880" cy="609480"/>
          </a:xfrm>
          <a:prstGeom prst="wedgeRoundRectCallout">
            <a:avLst>
              <a:gd name="adj1" fmla="val -20833"/>
              <a:gd name="adj2" fmla="val -294791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962520"/>
            <a:ext cx="2667240" cy="609480"/>
          </a:xfrm>
          <a:prstGeom prst="wedgeRoundRectCallout">
            <a:avLst>
              <a:gd name="adj1" fmla="val -80773"/>
              <a:gd name="adj2" fmla="val -99481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3962520"/>
            <a:ext cx="2514600" cy="609480"/>
          </a:xfrm>
          <a:prstGeom prst="wedgeRoundRectCallout">
            <a:avLst>
              <a:gd name="adj1" fmla="val -75189"/>
              <a:gd name="adj2" fmla="val -21380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16773" t="25105" r="19145" b="0"/>
          <a:stretch/>
        </p:blipFill>
        <p:spPr>
          <a:xfrm>
            <a:off x="228600" y="3962520"/>
            <a:ext cx="3114720" cy="2730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05320" y="59436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метка окружности разметочным цирку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5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320" y="6858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12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При разметке циркуль слегка наклоняю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219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на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сторону дв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523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от себ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590920"/>
            <a:ext cx="2819160" cy="533160"/>
          </a:xfrm>
          <a:prstGeom prst="wedgeRoundRectCallout">
            <a:avLst>
              <a:gd name="adj1" fmla="val -16162"/>
              <a:gd name="adj2" fmla="val -238097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2590920"/>
            <a:ext cx="2819520" cy="533160"/>
          </a:xfrm>
          <a:prstGeom prst="wedgeRoundRectCallout">
            <a:avLst>
              <a:gd name="adj1" fmla="val -79333"/>
              <a:gd name="adj2" fmla="val -245833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590920"/>
            <a:ext cx="2819520" cy="533160"/>
          </a:xfrm>
          <a:prstGeom prst="wedgeRoundRectCallout">
            <a:avLst>
              <a:gd name="adj1" fmla="val -39810"/>
              <a:gd name="adj2" fmla="val -18393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rcRect l="17563" t="2209" r="13133" b="8247"/>
          <a:stretch/>
        </p:blipFill>
        <p:spPr>
          <a:xfrm>
            <a:off x="3220920" y="3200400"/>
            <a:ext cx="2579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782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9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3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320" y="6858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13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Наносить риску на плоскость тонколистового металла необходимо…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52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а-три раза, чтобы риска была хорошо вид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668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ин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835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а раза: первая – черновая, вторая – контрольная основ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1447920"/>
            <a:ext cx="2819160" cy="533160"/>
          </a:xfrm>
          <a:prstGeom prst="wedgeRoundRectCallout">
            <a:avLst>
              <a:gd name="adj1" fmla="val -166500"/>
              <a:gd name="adj2" fmla="val 20268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2362320"/>
            <a:ext cx="2819520" cy="533160"/>
          </a:xfrm>
          <a:prstGeom prst="wedgeRoundRectCallout">
            <a:avLst>
              <a:gd name="adj1" fmla="val -103546"/>
              <a:gd name="adj2" fmla="val -71726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1447920"/>
            <a:ext cx="2819160" cy="533160"/>
          </a:xfrm>
          <a:prstGeom prst="wedgeRoundRectCallout">
            <a:avLst>
              <a:gd name="adj1" fmla="val -126689"/>
              <a:gd name="adj2" fmla="val 235712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rcRect l="23734" t="46391" r="9969" b="0"/>
          <a:stretch/>
        </p:blipFill>
        <p:spPr>
          <a:xfrm>
            <a:off x="2743200" y="3770280"/>
            <a:ext cx="33526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83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84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Когда необходимо нанести несколько параллельных рис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685800"/>
            <a:ext cx="864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4. Для каких целей при разметке тонколистового металла используют струбцин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440" y="1676520"/>
            <a:ext cx="864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Когда прижимают шаблон к поверхности загот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9160" y="2133720"/>
            <a:ext cx="864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Для разметки центра окруж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3962520"/>
            <a:ext cx="2666880" cy="609480"/>
          </a:xfrm>
          <a:prstGeom prst="wedgeRoundRectCallout">
            <a:avLst>
              <a:gd name="adj1" fmla="val 11250"/>
              <a:gd name="adj2" fmla="val -373175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3962520"/>
            <a:ext cx="2667240" cy="609480"/>
          </a:xfrm>
          <a:prstGeom prst="wedgeRoundRectCallout">
            <a:avLst>
              <a:gd name="adj1" fmla="val -69347"/>
              <a:gd name="adj2" fmla="val -21380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962520"/>
            <a:ext cx="2514600" cy="609480"/>
          </a:xfrm>
          <a:prstGeom prst="wedgeRoundRectCallout">
            <a:avLst>
              <a:gd name="adj1" fmla="val -31944"/>
              <a:gd name="adj2" fmla="val -285157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rcRect l="6028" t="10105" r="0" b="5767"/>
          <a:stretch/>
        </p:blipFill>
        <p:spPr>
          <a:xfrm>
            <a:off x="2286000" y="4518000"/>
            <a:ext cx="3276720" cy="2187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52280" y="3657600"/>
            <a:ext cx="1897200" cy="3048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257800" y="495288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метка тонколистового металла с использованием струбц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36576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убц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6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91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78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Какие инструменты применяют для выполнения разметки тонколистового металла и проволо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рт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7360" y="5867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сштабная лин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1440" y="586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чные ти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0" t="15808" r="81052" b="25088"/>
          <a:stretch/>
        </p:blipFill>
        <p:spPr>
          <a:xfrm>
            <a:off x="457200" y="2209680"/>
            <a:ext cx="933480" cy="163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18378" t="6879" r="25340" b="78365"/>
          <a:stretch/>
        </p:blipFill>
        <p:spPr>
          <a:xfrm>
            <a:off x="428760" y="5410080"/>
            <a:ext cx="2771640" cy="40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23212" t="19935" r="71186" b="47424"/>
          <a:stretch/>
        </p:blipFill>
        <p:spPr>
          <a:xfrm>
            <a:off x="4676760" y="2238480"/>
            <a:ext cx="485640" cy="1590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29019" t="49838" r="57065" b="3777"/>
          <a:stretch/>
        </p:blipFill>
        <p:spPr>
          <a:xfrm>
            <a:off x="5753160" y="1805040"/>
            <a:ext cx="1104840" cy="2071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400800" y="4648320"/>
            <a:ext cx="2257560" cy="140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819520" y="2286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2057400" y="1905120"/>
            <a:ext cx="304920" cy="1928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705120" y="4495680"/>
            <a:ext cx="1933560" cy="135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7391520" y="1828800"/>
            <a:ext cx="1295280" cy="2077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020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р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3962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ия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ерн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3962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меточный цирку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ло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6019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лесарный 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800600" y="3048120"/>
            <a:ext cx="3124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54864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33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2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С помощью чертилки, линейки, слесарного угольника, кернера, слесарного молотка выполняется слесарная операци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057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Times New Roman"/>
                <a:ea typeface="Arial"/>
              </a:rPr>
              <a:t>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ка, гиб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057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Times New Roman"/>
                <a:ea typeface="Arial"/>
              </a:rPr>
              <a:t>Б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бка, пи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Times New Roman"/>
                <a:ea typeface="Arial"/>
              </a:rPr>
              <a:t>В –</a:t>
            </a:r>
            <a:r>
              <a:rPr b="1" lang="en-US" sz="2200" spc="-1" strike="noStrike">
                <a:solidFill>
                  <a:srgbClr val="29292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м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819520"/>
            <a:ext cx="2362320" cy="609480"/>
          </a:xfrm>
          <a:prstGeom prst="wedgeRoundRectCallout">
            <a:avLst>
              <a:gd name="adj1" fmla="val -17541"/>
              <a:gd name="adj2" fmla="val -108333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819520"/>
            <a:ext cx="2438280" cy="609480"/>
          </a:xfrm>
          <a:prstGeom prst="wedgeRoundRectCallout">
            <a:avLst>
              <a:gd name="adj1" fmla="val 4037"/>
              <a:gd name="adj2" fmla="val -111458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19520"/>
            <a:ext cx="2438280" cy="609480"/>
          </a:xfrm>
          <a:prstGeom prst="wedgeRoundRectCallout">
            <a:avLst>
              <a:gd name="adj1" fmla="val -7879"/>
              <a:gd name="adj2" fmla="val -104166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0" b="23488"/>
          <a:stretch/>
        </p:blipFill>
        <p:spPr>
          <a:xfrm>
            <a:off x="1905120" y="3657600"/>
            <a:ext cx="54100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6858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3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В чём отличие разметки металлических заготовок от разметки из древесины?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600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А – нет отлич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При разметке на металле используют чертилку, которая оставляет риску, а на древесине карандаш, который оставляет ме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124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Разметка на металле более сложная технологическая операция, чем разметка на древес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523880"/>
            <a:ext cx="2819520" cy="533520"/>
          </a:xfrm>
          <a:prstGeom prst="wedgeRoundRectCallout">
            <a:avLst>
              <a:gd name="adj1" fmla="val 69819"/>
              <a:gd name="adj2" fmla="val 506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447920"/>
            <a:ext cx="2819520" cy="457200"/>
          </a:xfrm>
          <a:prstGeom prst="wedgeRoundRectCallout">
            <a:avLst>
              <a:gd name="adj1" fmla="val 23592"/>
              <a:gd name="adj2" fmla="val 89583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523880"/>
            <a:ext cx="2819520" cy="533520"/>
          </a:xfrm>
          <a:prstGeom prst="wedgeRoundRectCallout">
            <a:avLst>
              <a:gd name="adj1" fmla="val -32152"/>
              <a:gd name="adj2" fmla="val 276189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44197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метка на плоскости древес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11385" t="0" r="12053" b="30953"/>
          <a:stretch/>
        </p:blipFill>
        <p:spPr>
          <a:xfrm>
            <a:off x="76320" y="4419720"/>
            <a:ext cx="3429000" cy="2319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95880" y="4335480"/>
            <a:ext cx="2971800" cy="244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0" y="571356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метка на плоскости мет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651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В приёмах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68580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4040" indent="-464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990033"/>
                </a:solidFill>
                <a:latin typeface="Tahoma"/>
              </a:rPr>
              <a:t>В чём сходство разметки на плоскости металла и древеси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040" y="160020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В обоих случаях используется линейка, угольник, циркуль, базовая линия и базовая плос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28600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Сходства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2666880"/>
            <a:ext cx="2666880" cy="609840"/>
          </a:xfrm>
          <a:prstGeom prst="wedgeRoundRectCallout">
            <a:avLst>
              <a:gd name="adj1" fmla="val -48273"/>
              <a:gd name="adj2" fmla="val -120574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666880"/>
            <a:ext cx="2666880" cy="609840"/>
          </a:xfrm>
          <a:prstGeom prst="wedgeRoundRectCallout">
            <a:avLst>
              <a:gd name="adj1" fmla="val -66726"/>
              <a:gd name="adj2" fmla="val -83592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2666880"/>
            <a:ext cx="2514600" cy="609840"/>
          </a:xfrm>
          <a:prstGeom prst="wedgeRoundRectCallout">
            <a:avLst>
              <a:gd name="adj1" fmla="val -64143"/>
              <a:gd name="adj2" fmla="val 4689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0" t="1197" r="0" b="18541"/>
          <a:stretch/>
        </p:blipFill>
        <p:spPr>
          <a:xfrm>
            <a:off x="1219320" y="3735360"/>
            <a:ext cx="3047760" cy="2378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rcRect l="25475" t="29114" r="25000" b="25949"/>
          <a:stretch/>
        </p:blipFill>
        <p:spPr>
          <a:xfrm>
            <a:off x="4572000" y="3735360"/>
            <a:ext cx="35812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320" y="6858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Arial"/>
              </a:rPr>
              <a:t>5.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Для чего на плоскости металла проводится базовая ли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я того, чтобы не использовать при разметке шаб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133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все кромки неровные, то при разметке проводят базовую линию и от неё выполняют дальнейшую разметку де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200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бы меньше металла уходило в от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4038480"/>
            <a:ext cx="2819520" cy="533520"/>
          </a:xfrm>
          <a:prstGeom prst="wedgeRoundRectCallout">
            <a:avLst>
              <a:gd name="adj1" fmla="val -113402"/>
              <a:gd name="adj2" fmla="val -436013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4495680"/>
            <a:ext cx="2819160" cy="457200"/>
          </a:xfrm>
          <a:prstGeom prst="wedgeRoundRectCallout">
            <a:avLst>
              <a:gd name="adj1" fmla="val 45212"/>
              <a:gd name="adj2" fmla="val -40868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733920"/>
            <a:ext cx="2819520" cy="533160"/>
          </a:xfrm>
          <a:prstGeom prst="wedgeRoundRectCallout">
            <a:avLst>
              <a:gd name="adj1" fmla="val 123819"/>
              <a:gd name="adj2" fmla="val -7262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метка базовой риски на плоскости метал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949" t="14960" r="25792" b="0"/>
          <a:stretch/>
        </p:blipFill>
        <p:spPr>
          <a:xfrm>
            <a:off x="5943600" y="3905280"/>
            <a:ext cx="3124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31237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При использовании шаблона предварительно можно не править листовой мета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68580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4040" indent="-464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6. Для какой цели при разметке заготовок из тонколистого металла используют шабл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040" y="160020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Если необходимо изготовить не одну, а несколько одинаковых дета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Шаблон может заменить сразу несколько разметочных инстру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666880"/>
            <a:ext cx="2666880" cy="609840"/>
          </a:xfrm>
          <a:prstGeom prst="wedgeRoundRectCallout">
            <a:avLst>
              <a:gd name="adj1" fmla="val -48273"/>
              <a:gd name="adj2" fmla="val -120574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666880"/>
            <a:ext cx="2666880" cy="609840"/>
          </a:xfrm>
          <a:prstGeom prst="wedgeRoundRectCallout">
            <a:avLst>
              <a:gd name="adj1" fmla="val -78037"/>
              <a:gd name="adj2" fmla="val 782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3733920"/>
            <a:ext cx="2514600" cy="609480"/>
          </a:xfrm>
          <a:prstGeom prst="wedgeRoundRectCallout">
            <a:avLst>
              <a:gd name="adj1" fmla="val -86046"/>
              <a:gd name="adj2" fmla="val -42708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7394" t="4789" r="0" b="6846"/>
          <a:stretch/>
        </p:blipFill>
        <p:spPr>
          <a:xfrm>
            <a:off x="152280" y="3798720"/>
            <a:ext cx="4191120" cy="298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419720" y="510552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метка плоскостной детали из металла по шабл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31240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слесарь-шаблонщ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68580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4040" indent="-464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7. Назовите профессию рабочих, изготавливающих шабло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60020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инструменталь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76320" y="2286000"/>
            <a:ext cx="864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слесарь-размет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2133720"/>
            <a:ext cx="2667240" cy="609480"/>
          </a:xfrm>
          <a:prstGeom prst="wedgeRoundRectCallout">
            <a:avLst>
              <a:gd name="adj1" fmla="val -57560"/>
              <a:gd name="adj2" fmla="val -75259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14600"/>
            <a:ext cx="2666880" cy="609480"/>
          </a:xfrm>
          <a:prstGeom prst="wedgeRoundRectCallout">
            <a:avLst>
              <a:gd name="adj1" fmla="val 75416"/>
              <a:gd name="adj2" fmla="val -27865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971800"/>
            <a:ext cx="2514600" cy="609480"/>
          </a:xfrm>
          <a:prstGeom prst="wedgeRoundRectCallout">
            <a:avLst>
              <a:gd name="adj1" fmla="val -81439"/>
              <a:gd name="adj2" fmla="val 35675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38280" y="3654360"/>
            <a:ext cx="43434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Проверь свои зн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3505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Чертилку, угольник, циркуль перед собой, заготовку и шаблон справа от себ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8580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4040" indent="-464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8. Как правильно разместить на верстаке чертилку, угольник, циркуль, заготовку, шабло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9160" y="1447920"/>
            <a:ext cx="864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05360" indent="-4053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Все инструменты, которые мы берём правой рукой должны находится справа, левой рукой - слева; режущими и колющими элементами от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514600"/>
            <a:ext cx="8643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Чертилку ручкой от себя, угольник справа от себя, циркуль ножками к себе, заготовку перед собой, шаблон справа от себ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3962520"/>
            <a:ext cx="2666880" cy="609480"/>
          </a:xfrm>
          <a:prstGeom prst="wedgeRoundRectCallout">
            <a:avLst>
              <a:gd name="adj1" fmla="val -20833"/>
              <a:gd name="adj2" fmla="val -325782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3962520"/>
            <a:ext cx="2667240" cy="609480"/>
          </a:xfrm>
          <a:prstGeom prst="wedgeRoundRectCallout">
            <a:avLst>
              <a:gd name="adj1" fmla="val -78569"/>
              <a:gd name="adj2" fmla="val -18490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3962520"/>
            <a:ext cx="2514600" cy="609480"/>
          </a:xfrm>
          <a:prstGeom prst="wedgeRoundRectCallout">
            <a:avLst>
              <a:gd name="adj1" fmla="val -49745"/>
              <a:gd name="adj2" fmla="val -185157"/>
              <a:gd name="adj3" fmla="val 16667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2351160" cy="2476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362320" y="58672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бочее место слесар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10-06-20T10:58:28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