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2A3-6D12-4983-BA08-6275609D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140-E901-407B-AB29-CDA8B37C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1A7-2937-4BC0-991B-A9C88E3B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BB9-530B-4D93-BA52-5E0CF390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63A8-6232-4ABB-988C-385710F1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515-C78E-4E5C-A918-012F7EA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519E-0A78-4B4B-8C14-F6DA944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1A34-8DFC-4F08-B490-5FFCB707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2E6D-43B1-4333-A123-F947062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9949-574F-4400-92AB-7F24B27B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CC49-5DE1-4703-B0A9-69A0FD4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656-C9D5-435D-B677-C731F5B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589C-2321-4574-995A-47C9F21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243F-8AE6-4260-BF6E-A531441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36F-6F00-4D1A-AAF5-C75E933D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27C2-608F-49DC-8DA5-39F91D97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AEBA-82E1-45EA-94CD-2A244062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C91-28E4-494D-90DD-DEEF6B07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790-748F-4433-AC46-46227148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98D-6D16-4488-9C30-3CD0193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B1A-8897-41C1-A239-4FDCB9F5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D04-ABD4-4116-812E-0908296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0C2-0AB8-42C9-B877-117A334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FA7-E3E0-4B7D-A557-3114A948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78D8-C988-4F02-AE7C-5575D2A9B5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C5C-68AB-4218-9126-72C7372948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22222" t="0" r="4760" b="36244"/>
          <a:stretch/>
        </p:blipFill>
        <p:spPr>
          <a:xfrm>
            <a:off x="152280" y="152280"/>
            <a:ext cx="4038840" cy="3525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3962520" cy="360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0" y="45684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зка тонколистового металла и проволок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 чтобы во время работы не поломались куса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3520"/>
            <a:ext cx="899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9. Почему при резании кусачками небольших кусков проволоки нужно  откусываемую часть направлять в сторону защитной сетки верста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90512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18040" indent="-51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чтобы кусок проволоки не отлетел в рядом работающего товарищ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5120" y="259092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чтобы отлетевший кусок проволоки можно было быстро найти на крышке верс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2514600" cy="609480"/>
          </a:xfrm>
          <a:prstGeom prst="wedgeRoundRectCallout">
            <a:avLst>
              <a:gd name="adj1" fmla="val -1134"/>
              <a:gd name="adj2" fmla="val -317967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3962520"/>
            <a:ext cx="2438280" cy="609480"/>
          </a:xfrm>
          <a:prstGeom prst="wedgeRoundRectCallout">
            <a:avLst>
              <a:gd name="adj1" fmla="val -41537"/>
              <a:gd name="adj2" fmla="val -20729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3962520"/>
            <a:ext cx="2514600" cy="609480"/>
          </a:xfrm>
          <a:prstGeom prst="wedgeRoundRectCallout">
            <a:avLst>
              <a:gd name="adj1" fmla="val -82009"/>
              <a:gd name="adj2" fmla="val -7239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4495680" cy="2463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05520" y="56386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ка проволоки кусачкам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9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320" y="8524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10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Какие правила соблюдают при резании металла слесарными ножниц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752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готовки следует закреплять прочно, но плавным вращением рукоятки винта тис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514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льзя касаться голыми руками отрезанных кромок загот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льзя направлять режущее полотно пальцем. Используйте для этих целей деревянные бруски, специальные уп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038480"/>
            <a:ext cx="2819520" cy="609840"/>
          </a:xfrm>
          <a:prstGeom prst="wedgeRoundRectCallout">
            <a:avLst>
              <a:gd name="adj1" fmla="val 337"/>
              <a:gd name="adj2" fmla="val -35807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038480"/>
            <a:ext cx="2819520" cy="609840"/>
          </a:xfrm>
          <a:prstGeom prst="wedgeRoundRectCallout">
            <a:avLst>
              <a:gd name="adj1" fmla="val -53884"/>
              <a:gd name="adj2" fmla="val -235416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038480"/>
            <a:ext cx="2819520" cy="609840"/>
          </a:xfrm>
          <a:prstGeom prst="wedgeRoundRectCallout">
            <a:avLst>
              <a:gd name="adj1" fmla="val -77421"/>
              <a:gd name="adj2" fmla="val -5963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24481" r="0" b="26465"/>
          <a:stretch/>
        </p:blipFill>
        <p:spPr>
          <a:xfrm>
            <a:off x="152280" y="4191120"/>
            <a:ext cx="3429000" cy="2523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33920" y="579024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рка качества выполненной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8524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11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Чем отличаются ручные слесарные ножницы от ножниц для резания бумаги и тка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752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мерами, вес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133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ками, размерами, принципами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режущими ножами. дизай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3352680"/>
            <a:ext cx="2819520" cy="609840"/>
          </a:xfrm>
          <a:prstGeom prst="wedgeRoundRectCallout">
            <a:avLst>
              <a:gd name="adj1" fmla="val -46000"/>
              <a:gd name="adj2" fmla="val -18411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3352680"/>
            <a:ext cx="2819520" cy="609840"/>
          </a:xfrm>
          <a:prstGeom prst="wedgeRoundRectCallout">
            <a:avLst>
              <a:gd name="adj1" fmla="val -54393"/>
              <a:gd name="adj2" fmla="val -25911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352680"/>
            <a:ext cx="2819520" cy="609840"/>
          </a:xfrm>
          <a:prstGeom prst="wedgeRoundRectCallout">
            <a:avLst>
              <a:gd name="adj1" fmla="val -65032"/>
              <a:gd name="adj2" fmla="val -8567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9089" r="0" b="14159"/>
          <a:stretch/>
        </p:blipFill>
        <p:spPr>
          <a:xfrm>
            <a:off x="5791320" y="4705200"/>
            <a:ext cx="3066840" cy="1314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4749840" cy="130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562720" y="6248520"/>
            <a:ext cx="33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 по бумаге, тк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6172200"/>
            <a:ext cx="28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есарные ножн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3200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 линия реза волнист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47760" y="76212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432720" indent="-43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2. Какие дефекты возможны на заготовке при её резании тупыми ножницами?    ножницами с неплотно подогнанными лезви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09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линия реза мятая, рва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74320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линия реза не соответствует линии разм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657600"/>
            <a:ext cx="2514600" cy="609480"/>
          </a:xfrm>
          <a:prstGeom prst="wedgeRoundRectCallout">
            <a:avLst>
              <a:gd name="adj1" fmla="val -62375"/>
              <a:gd name="adj2" fmla="val -227606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3657600"/>
            <a:ext cx="2438280" cy="609480"/>
          </a:xfrm>
          <a:prstGeom prst="wedgeRoundRectCallout">
            <a:avLst>
              <a:gd name="adj1" fmla="val -45115"/>
              <a:gd name="adj2" fmla="val -14062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3657600"/>
            <a:ext cx="2514600" cy="609480"/>
          </a:xfrm>
          <a:prstGeom prst="wedgeRoundRectCallout">
            <a:avLst>
              <a:gd name="adj1" fmla="val -82009"/>
              <a:gd name="adj2" fmla="val -7239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1055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ка полос тонколистового металла слесарными ножниц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rcRect l="0" t="0" r="0" b="7167"/>
          <a:stretch/>
        </p:blipFill>
        <p:spPr>
          <a:xfrm>
            <a:off x="228600" y="3657600"/>
            <a:ext cx="3733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1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28195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 ножницы быстро туп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47760" y="762120"/>
            <a:ext cx="864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3. Почему при резании тонколистового металла лезвия ножниц нельзя сводить до конц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а линии реза будут стыковые заусен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28600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увеличивается время рез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657600"/>
            <a:ext cx="2514600" cy="609480"/>
          </a:xfrm>
          <a:prstGeom prst="wedgeRoundRectCallout">
            <a:avLst>
              <a:gd name="adj1" fmla="val -21402"/>
              <a:gd name="adj2" fmla="val -29192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3657600"/>
            <a:ext cx="2438280" cy="609480"/>
          </a:xfrm>
          <a:prstGeom prst="wedgeRoundRectCallout">
            <a:avLst>
              <a:gd name="adj1" fmla="val -51041"/>
              <a:gd name="adj2" fmla="val -20963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3657600"/>
            <a:ext cx="2514600" cy="609480"/>
          </a:xfrm>
          <a:prstGeom prst="wedgeRoundRectCallout">
            <a:avLst>
              <a:gd name="adj1" fmla="val -71023"/>
              <a:gd name="adj2" fmla="val -13437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9067" t="0" r="16184" b="16522"/>
          <a:stretch/>
        </p:blipFill>
        <p:spPr>
          <a:xfrm>
            <a:off x="228600" y="3429000"/>
            <a:ext cx="4191120" cy="3193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0" y="48769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ка тонколистового металла слесарными ножниц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5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 Какие инструменты и  оборудование используют при резке тонколистового металла и проволо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3212" t="19935" r="71186" b="47424"/>
          <a:stretch/>
        </p:blipFill>
        <p:spPr>
          <a:xfrm>
            <a:off x="7934400" y="2048040"/>
            <a:ext cx="573120" cy="18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29019" t="49838" r="57065" b="3777"/>
          <a:stretch/>
        </p:blipFill>
        <p:spPr>
          <a:xfrm>
            <a:off x="1562040" y="1676520"/>
            <a:ext cx="111780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19200" y="2076480"/>
            <a:ext cx="304560" cy="1928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47920" y="1981080"/>
            <a:ext cx="1933560" cy="135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762520" y="1876320"/>
            <a:ext cx="1295640" cy="207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4280" y="409572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р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429000"/>
            <a:ext cx="19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чные ти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038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ерн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8768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меточный цирк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124080" y="4343400"/>
            <a:ext cx="2438640" cy="1527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rcRect l="0" t="0" r="50458" b="49459"/>
          <a:stretch/>
        </p:blipFill>
        <p:spPr>
          <a:xfrm>
            <a:off x="380880" y="4943520"/>
            <a:ext cx="1981440" cy="77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rcRect l="0" t="10076" r="0" b="22396"/>
          <a:stretch/>
        </p:blipFill>
        <p:spPr>
          <a:xfrm>
            <a:off x="6400800" y="4876920"/>
            <a:ext cx="2033640" cy="77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15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есарные нож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и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57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с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6510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назна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47760" y="76212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 Что общего у  слесарных ножниц и кусаче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95280"/>
            <a:ext cx="864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принцип работы режущих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52480"/>
            <a:ext cx="864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ручки и режущие губ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819520"/>
            <a:ext cx="2514600" cy="609480"/>
          </a:xfrm>
          <a:prstGeom prst="wedgeRoundRectCallout">
            <a:avLst>
              <a:gd name="adj1" fmla="val 3347"/>
              <a:gd name="adj2" fmla="val -24323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819520"/>
            <a:ext cx="2438280" cy="609480"/>
          </a:xfrm>
          <a:prstGeom prst="wedgeRoundRectCallout">
            <a:avLst>
              <a:gd name="adj1" fmla="val -24282"/>
              <a:gd name="adj2" fmla="val -17395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2819520"/>
            <a:ext cx="2514600" cy="609480"/>
          </a:xfrm>
          <a:prstGeom prst="wedgeRoundRectCallout">
            <a:avLst>
              <a:gd name="adj1" fmla="val -58962"/>
              <a:gd name="adj2" fmla="val -115106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575160"/>
            <a:ext cx="8077320" cy="3206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3880" y="6324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есарные нож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с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32767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поверхность тонколистового металла не очищена от ржавч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7621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3. Почему при резании тонколистовой металл иногда ножницы мнут, а не режу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676520"/>
            <a:ext cx="86439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большой зазор между режущими ножами ножниц; затупившиеся ножи нож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514600"/>
            <a:ext cx="864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недостаточно приложена сила давления на рукоятки нож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-24810"/>
              <a:gd name="adj2" fmla="val -33724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3809880"/>
            <a:ext cx="2438280" cy="609840"/>
          </a:xfrm>
          <a:prstGeom prst="wedgeRoundRectCallout">
            <a:avLst>
              <a:gd name="adj1" fmla="val -62370"/>
              <a:gd name="adj2" fmla="val -20494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-72791"/>
              <a:gd name="adj2" fmla="val -2942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3440" t="23160" r="19312" b="24147"/>
          <a:stretch/>
        </p:blipFill>
        <p:spPr>
          <a:xfrm>
            <a:off x="228600" y="4237200"/>
            <a:ext cx="48006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4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очему трудно резать листовой металл тупыми ножниц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002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отому что прикладывая дополнительные усилия при резке, устаёт р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438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отому что тупые ножи при резке листовой металл мнут, а острые -  реж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200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потому что приходится резать листовой металл по одному и тому же месту несколько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419720"/>
            <a:ext cx="2819520" cy="609480"/>
          </a:xfrm>
          <a:prstGeom prst="wedgeRoundRectCallout">
            <a:avLst>
              <a:gd name="adj1" fmla="val -23365"/>
              <a:gd name="adj2" fmla="val -40573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4419720"/>
            <a:ext cx="2819520" cy="609480"/>
          </a:xfrm>
          <a:prstGeom prst="wedgeRoundRectCallout">
            <a:avLst>
              <a:gd name="adj1" fmla="val -53379"/>
              <a:gd name="adj2" fmla="val -31875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419720"/>
            <a:ext cx="2819160" cy="609480"/>
          </a:xfrm>
          <a:prstGeom prst="wedgeRoundRectCallout">
            <a:avLst>
              <a:gd name="adj1" fmla="val -64583"/>
              <a:gd name="adj2" fmla="val -13125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5898" t="0" r="7669" b="0"/>
          <a:stretch/>
        </p:blipFill>
        <p:spPr>
          <a:xfrm>
            <a:off x="228600" y="4267080"/>
            <a:ext cx="3962520" cy="2379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56386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ка листового металла слесарными ножниц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 потому что при резании очень трудно держать заготов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47760" y="7621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5. Почему листовую заготовку при резании следует периодически переставлять ближе к оси ножни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676520"/>
            <a:ext cx="86439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отому что при резании листового металла линия реза уходит от разметочной ближе к середине загот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514600"/>
            <a:ext cx="864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отому что можно сломать инстру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5240"/>
              <a:gd name="adj2" fmla="val -28229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3809880"/>
            <a:ext cx="2438280" cy="609840"/>
          </a:xfrm>
          <a:prstGeom prst="wedgeRoundRectCallout">
            <a:avLst>
              <a:gd name="adj1" fmla="val -62370"/>
              <a:gd name="adj2" fmla="val -20494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-90657"/>
              <a:gd name="adj2" fmla="val -12239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3440" t="23160" r="20112" b="25472"/>
          <a:stretch/>
        </p:blipFill>
        <p:spPr>
          <a:xfrm>
            <a:off x="228600" y="3809880"/>
            <a:ext cx="5334120" cy="28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15000" y="518148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етка плоскостной детали из металла по шабл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 конструк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47760" y="762120"/>
            <a:ext cx="864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6. Резку заготовок на предприятии выполняю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295280"/>
            <a:ext cx="864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резчики мета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752480"/>
            <a:ext cx="864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роектировщ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-74430"/>
              <a:gd name="adj2" fmla="val -42057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3809880"/>
            <a:ext cx="2438280" cy="609840"/>
          </a:xfrm>
          <a:prstGeom prst="wedgeRoundRectCallout">
            <a:avLst>
              <a:gd name="adj1" fmla="val -80861"/>
              <a:gd name="adj2" fmla="val -33359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-88888"/>
              <a:gd name="adj2" fmla="val -25338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847960" cy="3886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76720" y="52578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ка листового металла на предприят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 фасонные и циркулярны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47760" y="762120"/>
            <a:ext cx="8643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7. Назовите виды промышленных ножниц для резания листового металла и прутков большого диамет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05740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механические ножницы гильотинного и дискового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514600"/>
            <a:ext cx="864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специальные слесарные ножниц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5240"/>
              <a:gd name="adj2" fmla="val -28229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809880"/>
            <a:ext cx="2438280" cy="609840"/>
          </a:xfrm>
          <a:prstGeom prst="wedgeRoundRectCallout">
            <a:avLst>
              <a:gd name="adj1" fmla="val -62370"/>
              <a:gd name="adj2" fmla="val -20494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809880"/>
            <a:ext cx="2514600" cy="609840"/>
          </a:xfrm>
          <a:prstGeom prst="wedgeRoundRectCallout">
            <a:avLst>
              <a:gd name="adj1" fmla="val -90657"/>
              <a:gd name="adj2" fmla="val -12239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24280" y="4876920"/>
            <a:ext cx="2971800" cy="1676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0" t="0" r="5897" b="2010"/>
          <a:stretch/>
        </p:blipFill>
        <p:spPr>
          <a:xfrm>
            <a:off x="152280" y="4876920"/>
            <a:ext cx="20383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0" t="8565" r="0" b="8649"/>
          <a:stretch/>
        </p:blipFill>
        <p:spPr>
          <a:xfrm>
            <a:off x="2438280" y="4876920"/>
            <a:ext cx="2057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3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8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Чем отличаются промышленные механические ножницы от слесарных ручны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00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разме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2057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риводом и конструк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вес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971800"/>
            <a:ext cx="2819520" cy="609480"/>
          </a:xfrm>
          <a:prstGeom prst="wedgeRoundRectCallout">
            <a:avLst>
              <a:gd name="adj1" fmla="val -69708"/>
              <a:gd name="adj2" fmla="val -22239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971800"/>
            <a:ext cx="2819520" cy="609480"/>
          </a:xfrm>
          <a:prstGeom prst="wedgeRoundRectCallout">
            <a:avLst>
              <a:gd name="adj1" fmla="val -52870"/>
              <a:gd name="adj2" fmla="val -135416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2971800"/>
            <a:ext cx="2819160" cy="609480"/>
          </a:xfrm>
          <a:prstGeom prst="wedgeRoundRectCallout">
            <a:avLst>
              <a:gd name="adj1" fmla="val -77421"/>
              <a:gd name="adj2" fmla="val -5963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0" t="0" r="0" b="50076"/>
          <a:stretch/>
        </p:blipFill>
        <p:spPr>
          <a:xfrm>
            <a:off x="2514600" y="5562720"/>
            <a:ext cx="3809880" cy="111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553080" y="4586400"/>
            <a:ext cx="2133720" cy="2116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25280" y="5062680"/>
            <a:ext cx="2160720" cy="1719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76320" y="441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ханические ножницы гильотинного ти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119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чные слесарные нож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3930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ханические ножницы дискового ти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10-06-20T12:41:2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