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8F71-58DC-4A94-8F40-8C5E3BCA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56F6-276C-4991-98D9-7F7D88BA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AB09-CEE8-4F47-8EA8-97BA569A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6223-20C0-4EDD-ADF6-B3133B07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F81B-FC92-4411-8EDA-3DB6CC1C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EE6C-D3A5-4563-A58C-C35E311A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9F6F-60C0-4849-8502-19E6D389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E467-E78F-4C43-BFEC-62727381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3C46-2722-462F-8014-3510B77F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EF91-293B-435A-89DD-C4B4CC09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7897-B4F3-43A6-9542-9981C999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5546-25B7-42C7-8233-75D2BE29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6925-673F-48A5-B2B7-303782C3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80DE-AC33-476C-BAFA-61C8C822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1596-1372-4960-9B94-E96F20F6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B8FF-221B-4307-ACE8-95BE6F45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0D54-DFC2-4A80-B3AC-7C994756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49D2F-BB06-4A95-8527-81153144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0ED9C-6743-4C65-B00E-9E51F725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C4D48-4681-4465-B2F2-A6F5BCAC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B1775-4157-4FAA-BA02-B1273DE4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EC6EF-EE2D-4D1F-BD8F-CB98E972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4F30-8846-4C1E-A5C8-6EBCA050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0CD88-4D67-449B-97EA-8756B32A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CA81E-E3A5-489B-8FFE-D024668C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4F728-74F6-4DC9-B3AC-791A6AF1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A6CD1-2315-4939-821E-F45D1337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10A56-A693-4482-8C8E-AC9F9100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1EEBD-98F1-40E5-BBE2-E54C3157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87626-9C32-496B-BE17-086F8F26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C00B7-DCAB-4EE3-9056-E549503C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0D39B-DA75-4218-B79C-E9810626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F3FE8-A00E-4D49-B120-2636BF55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B54F-C7DB-49FA-94A5-A5A175BA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CE672-1246-45D6-BC44-2DDF8F27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D84D4-4CA6-45FE-8DDE-09186F2A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9FF18-98AD-4108-8171-803E2D63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A3988-3E33-41B1-98DF-D7D06DF6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47591-6062-4248-B1DD-BB33B4E7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4ACEA-D79A-4273-B188-C7DEEFE9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B36D9-4B7E-46A0-9A2D-89EDD651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0108E-90FC-4CDE-B817-E0019204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DB6DA-5840-493E-B4A2-E3297CFE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065B1-36B5-485A-88B6-60BF3D06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2DEE-3E82-411E-9A48-EAEE209C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4430C-DD18-448F-84FD-75EBE582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12EE1-5EA4-4180-BAC1-D5553548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8422A-FAA5-4FE8-8A91-E68191E2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4B9A0-3A51-4730-8761-6DE0302A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C5156-55DA-447E-AAB5-3EEDD007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B73F6-5315-4A41-AC46-BBA796F9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76A90-EA9C-4D15-B7C8-44A7ACA2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C6C4B-75B2-4967-A10E-1FEA24DF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DF7F4-8E49-48CB-836A-84E299E1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7B56D-42AF-4E16-9E70-C29233A3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0C9C-D860-49C3-82C3-3BEF1C46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2E2E8-A19C-4006-A14A-633D5D5B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17377-ED94-42C4-B778-92CBFBC3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2198F-AE14-4EC2-90FE-2C692492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21932-0488-47C9-98C8-7D1CB47C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F75E6-5424-4382-ADDD-54C85293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052D8-E920-4FF9-A892-F1CCE591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071D3-4A64-4403-B7AB-D55B7328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5FA03-A54F-45FF-903E-FDE4D54A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03E13-CD56-4D36-A9F0-85031C9F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CB0D9-B8C0-4946-9880-485C5A46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C07B-1536-46D3-BB76-1171E83F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BDD8A-2227-4CE3-9BDB-7B8C686E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7D9E4-5B34-48C0-A36A-1BD8FD09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14C85-CDD7-41E1-84E1-48B09B7E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2288B-D2FD-48D7-8957-45B0C025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C04A5-9BBD-4AA3-A29D-5DB03E72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A966E-FF91-4A5C-860D-D76F9663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F3E99-0CEF-416E-B088-FE5C26A0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023E1-5EEE-4D69-9F2E-4BDEA61F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C4610-7F2F-4185-9F7E-6976C934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82C72-4D64-42A6-8F99-9D83E7DC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3082-892D-46D6-9DF4-C201CC6D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C0A69-406B-470F-AF6A-462C1D01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36C7C-80DA-4230-A8AF-7E7D89FB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F3C74-81E8-4DDF-95B2-DC59A365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D03CC-E63F-4A4D-B911-40B2AFFB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C2F62-B242-4629-8AED-A720F688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116E6-4261-45E8-B351-5A90D1CD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E4ACC-08E1-47C7-BC1D-EB68388E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54B0E-1F98-43D8-BEDD-7B73233D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F6D1E-5421-44B3-B2C8-44E195B5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2602E-7A2F-4F0B-B101-5454E0BA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C9A7-486C-4B86-ADE4-7E7F8E46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AB4A6-CFDD-4C65-8782-D9928D57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2EFF3-8001-4281-8020-28BE0705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AA0CA-254B-44AF-859A-279E6C49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FD0A3-256A-4C04-B240-AD43A7A6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78CB9-D5F8-4DCF-93A7-9EE4F21C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C88A0-6EDA-4823-8761-1CADDF1F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45454-8C3A-450F-94EB-9CDE66CD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1575-98B7-46AB-8DE8-21E937CC22F7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8980-D9D1-4512-B417-B32567A7A36E}" type="slidenum">
              <a:rPr b="0" lang="ru-RU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8577-6352-4629-8DA9-01178E0CEB3D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05E4-FC60-4783-82BB-95921031E635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6008-4F08-4412-A4BB-74EF78B067F0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FE23-7D7D-4CF7-BB7E-19F6F0CB9924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282D-AD62-410E-A56C-09CDDE9BB4E9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C295-B85E-478D-8F0C-20FD9A62AC13}" type="slidenum">
              <a:rPr b="0" lang="ru-RU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2.xml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" Target="slide4.xml"/><Relationship Id="rId13" Type="http://schemas.openxmlformats.org/officeDocument/2006/relationships/slide" Target="slide4.xml"/><Relationship Id="rId14" Type="http://schemas.openxmlformats.org/officeDocument/2006/relationships/slide" Target="slide4.xml"/><Relationship Id="rId15" Type="http://schemas.openxmlformats.org/officeDocument/2006/relationships/slide" Target="slide4.xml"/><Relationship Id="rId16" Type="http://schemas.openxmlformats.org/officeDocument/2006/relationships/slide" Target="slide4.xml"/><Relationship Id="rId17" Type="http://schemas.openxmlformats.org/officeDocument/2006/relationships/slide" Target="slide4.xml"/><Relationship Id="rId18" Type="http://schemas.openxmlformats.org/officeDocument/2006/relationships/slide" Target="slide4.xml"/><Relationship Id="rId19" Type="http://schemas.openxmlformats.org/officeDocument/2006/relationships/slide" Target="slide5.xml"/><Relationship Id="rId20" Type="http://schemas.openxmlformats.org/officeDocument/2006/relationships/slide" Target="slide4.xml"/><Relationship Id="rId21" Type="http://schemas.openxmlformats.org/officeDocument/2006/relationships/slide" Target="slide4.xml"/><Relationship Id="rId22" Type="http://schemas.openxmlformats.org/officeDocument/2006/relationships/slide" Target="slide3.xml"/><Relationship Id="rId23" Type="http://schemas.openxmlformats.org/officeDocument/2006/relationships/slide" Target="slide3.xml"/><Relationship Id="rId24" Type="http://schemas.openxmlformats.org/officeDocument/2006/relationships/slide" Target="slide3.xml"/><Relationship Id="rId25" Type="http://schemas.openxmlformats.org/officeDocument/2006/relationships/slide" Target="slide3.xml"/><Relationship Id="rId26" Type="http://schemas.openxmlformats.org/officeDocument/2006/relationships/slide" Target="slide4.xml"/><Relationship Id="rId27" Type="http://schemas.openxmlformats.org/officeDocument/2006/relationships/slide" Target="slide4.xml"/><Relationship Id="rId28" Type="http://schemas.openxmlformats.org/officeDocument/2006/relationships/slide" Target="slide4.xml"/><Relationship Id="rId29" Type="http://schemas.openxmlformats.org/officeDocument/2006/relationships/slide" Target="slide4.xml"/><Relationship Id="rId30" Type="http://schemas.openxmlformats.org/officeDocument/2006/relationships/slide" Target="slide4.xml"/><Relationship Id="rId31" Type="http://schemas.openxmlformats.org/officeDocument/2006/relationships/slide" Target="slide4.xml"/><Relationship Id="rId32" Type="http://schemas.openxmlformats.org/officeDocument/2006/relationships/slide" Target="slide4.xml"/><Relationship Id="rId33" Type="http://schemas.openxmlformats.org/officeDocument/2006/relationships/slide" Target="slide4.xml"/><Relationship Id="rId34" Type="http://schemas.openxmlformats.org/officeDocument/2006/relationships/slide" Target="slide5.xml"/><Relationship Id="rId35" Type="http://schemas.openxmlformats.org/officeDocument/2006/relationships/slide" Target="slide4.xml"/><Relationship Id="rId36" Type="http://schemas.openxmlformats.org/officeDocument/2006/relationships/slide" Target="slide4.xml"/><Relationship Id="rId37" Type="http://schemas.openxmlformats.org/officeDocument/2006/relationships/slide" Target="slide3.xml"/><Relationship Id="rId38" Type="http://schemas.openxmlformats.org/officeDocument/2006/relationships/slide" Target="slide3.xml"/><Relationship Id="rId39" Type="http://schemas.openxmlformats.org/officeDocument/2006/relationships/slide" Target="slide4.xml"/><Relationship Id="rId40" Type="http://schemas.openxmlformats.org/officeDocument/2006/relationships/slide" Target="slide4.xml"/><Relationship Id="rId41" Type="http://schemas.openxmlformats.org/officeDocument/2006/relationships/slide" Target="slide3.xml"/><Relationship Id="rId42" Type="http://schemas.openxmlformats.org/officeDocument/2006/relationships/slide" Target="slide3.xml"/><Relationship Id="rId43" Type="http://schemas.openxmlformats.org/officeDocument/2006/relationships/slide" Target="slide4.xml"/><Relationship Id="rId44" Type="http://schemas.openxmlformats.org/officeDocument/2006/relationships/slide" Target="slide4.xml"/><Relationship Id="rId45" Type="http://schemas.openxmlformats.org/officeDocument/2006/relationships/slide" Target="slide5.xml"/><Relationship Id="rId46" Type="http://schemas.openxmlformats.org/officeDocument/2006/relationships/slide" Target="slide4.xml"/><Relationship Id="rId47" Type="http://schemas.openxmlformats.org/officeDocument/2006/relationships/slide" Target="slide4.xml"/><Relationship Id="rId48" Type="http://schemas.openxmlformats.org/officeDocument/2006/relationships/slide" Target="slide3.xml"/><Relationship Id="rId4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Rectangle 11"/>
          <p:cNvSpPr/>
          <p:nvPr/>
        </p:nvSpPr>
        <p:spPr>
          <a:xfrm>
            <a:off x="4481640" y="-111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Rectangle 14"/>
          <p:cNvSpPr/>
          <p:nvPr/>
        </p:nvSpPr>
        <p:spPr>
          <a:xfrm>
            <a:off x="4481640" y="-111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Rectangle 19"/>
          <p:cNvSpPr/>
          <p:nvPr/>
        </p:nvSpPr>
        <p:spPr>
          <a:xfrm>
            <a:off x="4481640" y="-111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Rectangle 22"/>
          <p:cNvSpPr/>
          <p:nvPr/>
        </p:nvSpPr>
        <p:spPr>
          <a:xfrm>
            <a:off x="4481640" y="-111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43"/>
          <p:cNvSpPr/>
          <p:nvPr/>
        </p:nvSpPr>
        <p:spPr>
          <a:xfrm>
            <a:off x="4481640" y="-111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45720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1234440" y="429840"/>
            <a:ext cx="54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произвольный треугольник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457200" y="82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785520" y="785880"/>
            <a:ext cx="392580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r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а 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: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D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 si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D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h· sinβ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D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DB,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·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α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10" name="Group 2"/>
          <p:cNvGrpSpPr/>
          <p:nvPr/>
        </p:nvGrpSpPr>
        <p:grpSpPr>
          <a:xfrm>
            <a:off x="3929040" y="2500200"/>
            <a:ext cx="5214600" cy="4357800"/>
            <a:chOff x="3929040" y="2500200"/>
            <a:chExt cx="5214600" cy="4357800"/>
          </a:xfrm>
        </p:grpSpPr>
        <p:sp>
          <p:nvSpPr>
            <p:cNvPr id="511" name="Text Box 7"/>
            <p:cNvSpPr/>
            <p:nvPr/>
          </p:nvSpPr>
          <p:spPr>
            <a:xfrm>
              <a:off x="3929040" y="5919840"/>
              <a:ext cx="596520" cy="58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2" name="Text Box 6"/>
            <p:cNvSpPr/>
            <p:nvPr/>
          </p:nvSpPr>
          <p:spPr>
            <a:xfrm>
              <a:off x="6197040" y="2500200"/>
              <a:ext cx="659160" cy="62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3" name="Text Box 3"/>
            <p:cNvSpPr/>
            <p:nvPr/>
          </p:nvSpPr>
          <p:spPr>
            <a:xfrm>
              <a:off x="8548200" y="5889240"/>
              <a:ext cx="595440" cy="58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4" name="AutoShape 4"/>
            <p:cNvSpPr/>
            <p:nvPr/>
          </p:nvSpPr>
          <p:spPr>
            <a:xfrm>
              <a:off x="4259160" y="3108240"/>
              <a:ext cx="4322160" cy="3067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5" name="Text Box 8"/>
            <p:cNvSpPr/>
            <p:nvPr/>
          </p:nvSpPr>
          <p:spPr>
            <a:xfrm>
              <a:off x="6276600" y="6271920"/>
              <a:ext cx="595080" cy="58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6" name="Freeform 10"/>
            <p:cNvSpPr/>
            <p:nvPr/>
          </p:nvSpPr>
          <p:spPr>
            <a:xfrm>
              <a:off x="6437520" y="3696120"/>
              <a:ext cx="425520" cy="22968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374" h="220">
                  <a:moveTo>
                    <a:pt x="0" y="100"/>
                  </a:moveTo>
                  <a:cubicBezTo>
                    <a:pt x="89" y="160"/>
                    <a:pt x="179" y="220"/>
                    <a:pt x="241" y="203"/>
                  </a:cubicBezTo>
                  <a:cubicBezTo>
                    <a:pt x="303" y="186"/>
                    <a:pt x="352" y="34"/>
                    <a:pt x="374" y="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7" name="Text Box 9"/>
            <p:cNvSpPr/>
            <p:nvPr/>
          </p:nvSpPr>
          <p:spPr>
            <a:xfrm>
              <a:off x="6436080" y="4823640"/>
              <a:ext cx="595440" cy="58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8" name="Freeform 11"/>
            <p:cNvSpPr/>
            <p:nvPr/>
          </p:nvSpPr>
          <p:spPr>
            <a:xfrm>
              <a:off x="6052320" y="3695400"/>
              <a:ext cx="384840" cy="159840"/>
            </a:xfrm>
            <a:custGeom>
              <a:avLst/>
              <a:gdLst>
                <a:gd name="textAreaLeft" fmla="*/ 0 w 384840"/>
                <a:gd name="textAreaRight" fmla="*/ 385200 w 384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38" h="153">
                  <a:moveTo>
                    <a:pt x="0" y="0"/>
                  </a:moveTo>
                  <a:cubicBezTo>
                    <a:pt x="0" y="54"/>
                    <a:pt x="0" y="109"/>
                    <a:pt x="56" y="131"/>
                  </a:cubicBezTo>
                  <a:cubicBezTo>
                    <a:pt x="112" y="153"/>
                    <a:pt x="225" y="142"/>
                    <a:pt x="338" y="131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9" name="Freeform 12"/>
            <p:cNvSpPr/>
            <p:nvPr/>
          </p:nvSpPr>
          <p:spPr>
            <a:xfrm>
              <a:off x="6437520" y="3880080"/>
              <a:ext cx="514440" cy="28512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85120"/>
                <a:gd name="textAreaBottom" fmla="*/ 285480 h 285120"/>
              </a:gdLst>
              <a:ahLst/>
              <a:rect l="textAreaLeft" t="textAreaTop" r="textAreaRight" b="textAreaBottom"/>
              <a:pathLst>
                <a:path w="452" h="273">
                  <a:moveTo>
                    <a:pt x="0" y="120"/>
                  </a:moveTo>
                  <a:cubicBezTo>
                    <a:pt x="83" y="196"/>
                    <a:pt x="166" y="273"/>
                    <a:pt x="241" y="253"/>
                  </a:cubicBezTo>
                  <a:cubicBezTo>
                    <a:pt x="316" y="233"/>
                    <a:pt x="414" y="42"/>
                    <a:pt x="452" y="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cxnSp>
          <p:nvCxnSpPr>
            <p:cNvPr id="520" name="AutoShape 5"/>
            <p:cNvCxnSpPr>
              <a:stCxn id="514" idx="0"/>
              <a:endCxn id="514" idx="3"/>
            </p:cNvCxnSpPr>
            <p:nvPr/>
          </p:nvCxnSpPr>
          <p:spPr>
            <a:xfrm>
              <a:off x="6418080" y="3108960"/>
              <a:ext cx="1800" cy="3068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521" name="TextBox 51"/>
          <p:cNvSpPr/>
          <p:nvPr/>
        </p:nvSpPr>
        <p:spPr>
          <a:xfrm>
            <a:off x="6000840" y="37735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2" name="TextBox 52"/>
          <p:cNvSpPr/>
          <p:nvPr/>
        </p:nvSpPr>
        <p:spPr>
          <a:xfrm>
            <a:off x="6643800" y="40593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TextBox 1"/>
          <p:cNvSpPr/>
          <p:nvPr/>
        </p:nvSpPr>
        <p:spPr>
          <a:xfrm>
            <a:off x="4906800" y="4292640"/>
            <a:ext cx="6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TextBox 44"/>
          <p:cNvSpPr/>
          <p:nvPr/>
        </p:nvSpPr>
        <p:spPr>
          <a:xfrm>
            <a:off x="7524720" y="4140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l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4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4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40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40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0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40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40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0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0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40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40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0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40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40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Rectangle 11"/>
          <p:cNvSpPr/>
          <p:nvPr/>
        </p:nvSpPr>
        <p:spPr>
          <a:xfrm>
            <a:off x="4481640" y="-111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Rectangle 14"/>
          <p:cNvSpPr/>
          <p:nvPr/>
        </p:nvSpPr>
        <p:spPr>
          <a:xfrm>
            <a:off x="4481640" y="-111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Rectangle 19"/>
          <p:cNvSpPr/>
          <p:nvPr/>
        </p:nvSpPr>
        <p:spPr>
          <a:xfrm>
            <a:off x="4481640" y="-111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5" name="Rectangle 22"/>
          <p:cNvSpPr/>
          <p:nvPr/>
        </p:nvSpPr>
        <p:spPr>
          <a:xfrm>
            <a:off x="4481640" y="-111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9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0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Rectangle 43"/>
          <p:cNvSpPr/>
          <p:nvPr/>
        </p:nvSpPr>
        <p:spPr>
          <a:xfrm>
            <a:off x="4481640" y="-111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3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45720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500040" y="2500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Rectangle 66"/>
          <p:cNvSpPr/>
          <p:nvPr/>
        </p:nvSpPr>
        <p:spPr>
          <a:xfrm>
            <a:off x="642960" y="576000"/>
            <a:ext cx="74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2 bс sin (α + β) = 1/2 сh sinα + 1/2 bh sinβ, ил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 sin(α + β) = ch sinα + bh sin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Rectangle 67"/>
          <p:cNvSpPr/>
          <p:nvPr/>
        </p:nvSpPr>
        <p:spPr>
          <a:xfrm>
            <a:off x="857160" y="19299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им обе части равенства на bc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0" name="Прямоугольник 67"/>
          <p:cNvSpPr/>
          <p:nvPr/>
        </p:nvSpPr>
        <p:spPr>
          <a:xfrm>
            <a:off x="1000080" y="2500200"/>
            <a:ext cx="50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(α + β) = h/b sinα + h/c sin β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к. h/b = cosβ,  h/c = cosα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1" name="Rectangle 68"/>
          <p:cNvSpPr/>
          <p:nvPr/>
        </p:nvSpPr>
        <p:spPr>
          <a:xfrm>
            <a:off x="179280" y="421632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(α + β) = sinα · cosβ + cosα ·  sin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2" name="Group 2"/>
          <p:cNvGrpSpPr/>
          <p:nvPr/>
        </p:nvGrpSpPr>
        <p:grpSpPr>
          <a:xfrm>
            <a:off x="5364000" y="3068640"/>
            <a:ext cx="3600360" cy="3528720"/>
            <a:chOff x="5364000" y="3068640"/>
            <a:chExt cx="3600360" cy="3528720"/>
          </a:xfrm>
        </p:grpSpPr>
        <p:sp>
          <p:nvSpPr>
            <p:cNvPr id="553" name="Text Box 7"/>
            <p:cNvSpPr/>
            <p:nvPr/>
          </p:nvSpPr>
          <p:spPr>
            <a:xfrm>
              <a:off x="5364000" y="5837760"/>
              <a:ext cx="411840" cy="47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54" name="Text Box 6"/>
            <p:cNvSpPr/>
            <p:nvPr/>
          </p:nvSpPr>
          <p:spPr>
            <a:xfrm>
              <a:off x="6930000" y="3068640"/>
              <a:ext cx="455040" cy="50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55" name="Text Box 3"/>
            <p:cNvSpPr/>
            <p:nvPr/>
          </p:nvSpPr>
          <p:spPr>
            <a:xfrm>
              <a:off x="8553240" y="5813280"/>
              <a:ext cx="411120" cy="47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56" name="AutoShape 4"/>
            <p:cNvSpPr/>
            <p:nvPr/>
          </p:nvSpPr>
          <p:spPr>
            <a:xfrm>
              <a:off x="5591880" y="3561120"/>
              <a:ext cx="2984040" cy="248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57" name="Text Box 8"/>
            <p:cNvSpPr/>
            <p:nvPr/>
          </p:nvSpPr>
          <p:spPr>
            <a:xfrm>
              <a:off x="6985080" y="6122880"/>
              <a:ext cx="411120" cy="47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58" name="Freeform 10"/>
            <p:cNvSpPr/>
            <p:nvPr/>
          </p:nvSpPr>
          <p:spPr>
            <a:xfrm>
              <a:off x="7095960" y="4037400"/>
              <a:ext cx="293760" cy="18612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374" h="220">
                  <a:moveTo>
                    <a:pt x="0" y="100"/>
                  </a:moveTo>
                  <a:cubicBezTo>
                    <a:pt x="89" y="160"/>
                    <a:pt x="179" y="220"/>
                    <a:pt x="241" y="203"/>
                  </a:cubicBezTo>
                  <a:cubicBezTo>
                    <a:pt x="303" y="186"/>
                    <a:pt x="352" y="34"/>
                    <a:pt x="374" y="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59" name="Text Box 9"/>
            <p:cNvSpPr/>
            <p:nvPr/>
          </p:nvSpPr>
          <p:spPr>
            <a:xfrm>
              <a:off x="7094880" y="4950360"/>
              <a:ext cx="411120" cy="47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60" name="Freeform 11"/>
            <p:cNvSpPr/>
            <p:nvPr/>
          </p:nvSpPr>
          <p:spPr>
            <a:xfrm>
              <a:off x="6829920" y="4036320"/>
              <a:ext cx="265680" cy="129240"/>
            </a:xfrm>
            <a:custGeom>
              <a:avLst/>
              <a:gdLst>
                <a:gd name="textAreaLeft" fmla="*/ 0 w 265680"/>
                <a:gd name="textAreaRight" fmla="*/ 266040 w 2656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338" h="153">
                  <a:moveTo>
                    <a:pt x="0" y="0"/>
                  </a:moveTo>
                  <a:cubicBezTo>
                    <a:pt x="0" y="54"/>
                    <a:pt x="0" y="109"/>
                    <a:pt x="56" y="131"/>
                  </a:cubicBezTo>
                  <a:cubicBezTo>
                    <a:pt x="112" y="153"/>
                    <a:pt x="225" y="142"/>
                    <a:pt x="338" y="131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61" name="Freeform 12"/>
            <p:cNvSpPr/>
            <p:nvPr/>
          </p:nvSpPr>
          <p:spPr>
            <a:xfrm>
              <a:off x="7095960" y="4186080"/>
              <a:ext cx="355320" cy="23076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452" h="273">
                  <a:moveTo>
                    <a:pt x="0" y="120"/>
                  </a:moveTo>
                  <a:cubicBezTo>
                    <a:pt x="83" y="196"/>
                    <a:pt x="166" y="273"/>
                    <a:pt x="241" y="253"/>
                  </a:cubicBezTo>
                  <a:cubicBezTo>
                    <a:pt x="316" y="233"/>
                    <a:pt x="414" y="42"/>
                    <a:pt x="452" y="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cxnSp>
          <p:nvCxnSpPr>
            <p:cNvPr id="562" name="AutoShape 5"/>
            <p:cNvCxnSpPr>
              <a:stCxn id="556" idx="0"/>
              <a:endCxn id="556" idx="3"/>
            </p:cNvCxnSpPr>
            <p:nvPr/>
          </p:nvCxnSpPr>
          <p:spPr>
            <a:xfrm>
              <a:off x="7083360" y="3561840"/>
              <a:ext cx="1440" cy="2484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563" name="Прямоугольник 39"/>
          <p:cNvSpPr/>
          <p:nvPr/>
        </p:nvSpPr>
        <p:spPr>
          <a:xfrm>
            <a:off x="6225480" y="4365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4" name="Прямоугольник 40"/>
          <p:cNvSpPr/>
          <p:nvPr/>
        </p:nvSpPr>
        <p:spPr>
          <a:xfrm>
            <a:off x="7805880" y="4508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5" name="Прямоугольник 41"/>
          <p:cNvSpPr/>
          <p:nvPr/>
        </p:nvSpPr>
        <p:spPr>
          <a:xfrm>
            <a:off x="6735240" y="407664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6" name="Прямоугольник 42"/>
          <p:cNvSpPr/>
          <p:nvPr/>
        </p:nvSpPr>
        <p:spPr>
          <a:xfrm>
            <a:off x="7166880" y="42926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Прямоугольник 1"/>
          <p:cNvSpPr/>
          <p:nvPr/>
        </p:nvSpPr>
        <p:spPr>
          <a:xfrm>
            <a:off x="857160" y="2143080"/>
            <a:ext cx="7929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cos</a:t>
            </a:r>
            <a:r>
              <a:rPr b="1" lang="ru-RU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 (α</a:t>
            </a:r>
            <a:r>
              <a:rPr b="1" lang="en-US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 β</a:t>
            </a:r>
            <a:r>
              <a:rPr b="1" lang="ru-RU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) =</a:t>
            </a:r>
            <a:r>
              <a:rPr b="1" lang="en-US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 cos</a:t>
            </a:r>
            <a:r>
              <a:rPr b="1" lang="ru-RU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α · </a:t>
            </a:r>
            <a:r>
              <a:rPr b="1" lang="en-US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cosβ</a:t>
            </a:r>
            <a:r>
              <a:rPr b="1" lang="ru-RU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 – </a:t>
            </a:r>
            <a:r>
              <a:rPr b="1" lang="en-US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sin</a:t>
            </a:r>
            <a:r>
              <a:rPr b="1" lang="ru-RU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α · </a:t>
            </a:r>
            <a:r>
              <a:rPr b="1" lang="en-US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sin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cos</a:t>
            </a:r>
            <a:r>
              <a:rPr b="1" lang="ru-RU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 (α – </a:t>
            </a:r>
            <a:r>
              <a:rPr b="1" lang="en-US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β</a:t>
            </a:r>
            <a:r>
              <a:rPr b="1" lang="ru-RU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) =</a:t>
            </a:r>
            <a:r>
              <a:rPr b="1" lang="en-US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 cos</a:t>
            </a:r>
            <a:r>
              <a:rPr b="1" lang="ru-RU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α · </a:t>
            </a:r>
            <a:r>
              <a:rPr b="1" lang="en-US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cosβ</a:t>
            </a:r>
            <a:r>
              <a:rPr b="1" lang="ru-RU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+</a:t>
            </a:r>
            <a:r>
              <a:rPr b="1" lang="ru-RU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sin</a:t>
            </a:r>
            <a:r>
              <a:rPr b="1" lang="ru-RU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α · </a:t>
            </a:r>
            <a:r>
              <a:rPr b="1" lang="en-US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sin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sin</a:t>
            </a:r>
            <a:r>
              <a:rPr b="1" lang="ru-RU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 (α</a:t>
            </a:r>
            <a:r>
              <a:rPr b="1" lang="en-US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 β</a:t>
            </a:r>
            <a:r>
              <a:rPr b="1" lang="ru-RU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= sin</a:t>
            </a:r>
            <a:r>
              <a:rPr b="1" lang="ru-RU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α · </a:t>
            </a:r>
            <a:r>
              <a:rPr b="1" lang="en-US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cosβ</a:t>
            </a:r>
            <a:r>
              <a:rPr b="1" lang="ru-RU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+</a:t>
            </a:r>
            <a:r>
              <a:rPr b="1" lang="ru-RU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cos</a:t>
            </a:r>
            <a:r>
              <a:rPr b="1" lang="ru-RU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α · </a:t>
            </a:r>
            <a:r>
              <a:rPr b="1" lang="en-US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sin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sin </a:t>
            </a:r>
            <a:r>
              <a:rPr b="1" lang="ru-RU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(α</a:t>
            </a:r>
            <a:r>
              <a:rPr b="1" lang="en-US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 – β</a:t>
            </a:r>
            <a:r>
              <a:rPr b="1" lang="ru-RU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= sin</a:t>
            </a:r>
            <a:r>
              <a:rPr b="1" lang="ru-RU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α · </a:t>
            </a:r>
            <a:r>
              <a:rPr b="1" lang="en-US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cosβ</a:t>
            </a:r>
            <a:r>
              <a:rPr b="1" lang="ru-RU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– cos</a:t>
            </a:r>
            <a:r>
              <a:rPr b="1" lang="ru-RU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α · </a:t>
            </a:r>
            <a:r>
              <a:rPr b="1" lang="en-US" sz="32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sin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8" name="Прямоугольник 2"/>
          <p:cNvSpPr/>
          <p:nvPr/>
        </p:nvSpPr>
        <p:spPr>
          <a:xfrm>
            <a:off x="3060360" y="642960"/>
            <a:ext cx="335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3171e"/>
                </a:solidFill>
                <a:latin typeface="Times New Roman"/>
                <a:ea typeface="Times New Roman"/>
              </a:rPr>
              <a:t>Формулы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3" name="Rectangle 11"/>
          <p:cNvSpPr/>
          <p:nvPr/>
        </p:nvSpPr>
        <p:spPr>
          <a:xfrm>
            <a:off x="4481640" y="-111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4481640" y="-111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6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7" name="Rectangle 19"/>
          <p:cNvSpPr/>
          <p:nvPr/>
        </p:nvSpPr>
        <p:spPr>
          <a:xfrm>
            <a:off x="4481640" y="-111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9" name="Rectangle 22"/>
          <p:cNvSpPr/>
          <p:nvPr/>
        </p:nvSpPr>
        <p:spPr>
          <a:xfrm>
            <a:off x="4481640" y="-111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0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1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2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3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4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5" name="Rectangle 43"/>
          <p:cNvSpPr/>
          <p:nvPr/>
        </p:nvSpPr>
        <p:spPr>
          <a:xfrm>
            <a:off x="4481640" y="-111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6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7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45720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1" name="Rectangle 6"/>
          <p:cNvSpPr/>
          <p:nvPr/>
        </p:nvSpPr>
        <p:spPr>
          <a:xfrm>
            <a:off x="2799360" y="502200"/>
            <a:ext cx="24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Задание 2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2" name="Прямоугольник 68"/>
          <p:cNvSpPr/>
          <p:nvPr/>
        </p:nvSpPr>
        <p:spPr>
          <a:xfrm>
            <a:off x="1571760" y="1357200"/>
            <a:ext cx="47149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, что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-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x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π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-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x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3" name="Прямоугольник 69"/>
          <p:cNvSpPr/>
          <p:nvPr/>
        </p:nvSpPr>
        <p:spPr>
          <a:xfrm>
            <a:off x="1000080" y="2979720"/>
            <a:ext cx="70722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π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π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 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1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x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π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π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x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π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- 1 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x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0 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x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l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Заголовок 1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120168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500040" y="1355400"/>
            <a:ext cx="3997440" cy="50148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I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714560" y="1355400"/>
            <a:ext cx="3971880" cy="50148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вариант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285840" y="1999800"/>
            <a:ext cx="421488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343080">
              <a:lnSpc>
                <a:spcPct val="100000"/>
              </a:lnSpc>
              <a:buClr>
                <a:srgbClr val="000000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6044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6044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ычислит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6044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4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os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 4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6044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6044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ычислите синусы  углов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6044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16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б)10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60440" indent="-343080">
              <a:lnSpc>
                <a:spcPct val="100000"/>
              </a:lnSpc>
              <a:buClr>
                <a:srgbClr val="2da2bf"/>
              </a:buClr>
              <a:buSzPct val="68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642920" y="2071800"/>
            <a:ext cx="43578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-457200">
              <a:lnSpc>
                <a:spcPct val="100000"/>
              </a:lnSpc>
              <a:buClr>
                <a:srgbClr val="000000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74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74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ычислит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74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4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sin 4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74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74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ычислите косинусы углов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74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7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 б)1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74560" indent="-457200">
              <a:lnSpc>
                <a:spcPct val="100000"/>
              </a:lnSpc>
              <a:buClr>
                <a:srgbClr val="2da2bf"/>
              </a:buClr>
              <a:buSzPct val="68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Заголовок 2" descr=""/>
          <p:cNvPicPr/>
          <p:nvPr/>
        </p:nvPicPr>
        <p:blipFill>
          <a:blip r:embed="rId1"/>
          <a:stretch/>
        </p:blipFill>
        <p:spPr>
          <a:xfrm>
            <a:off x="633240" y="-6480"/>
            <a:ext cx="8060040" cy="101304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2" name="Rectangle 9"/>
          <p:cNvSpPr/>
          <p:nvPr/>
        </p:nvSpPr>
        <p:spPr>
          <a:xfrm>
            <a:off x="4444920" y="298440"/>
            <a:ext cx="25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Object 15"/>
              <p:cNvSpPr txBox="1"/>
              <p:nvPr/>
            </p:nvSpPr>
            <p:spPr>
              <a:xfrm>
                <a:off x="1428840" y="2143080"/>
                <a:ext cx="71424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Object 14"/>
              <p:cNvSpPr txBox="1"/>
              <p:nvPr/>
            </p:nvSpPr>
            <p:spPr>
              <a:xfrm>
                <a:off x="4929120" y="2143080"/>
                <a:ext cx="5428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Object 13"/>
              <p:cNvSpPr txBox="1"/>
              <p:nvPr/>
            </p:nvSpPr>
            <p:spPr>
              <a:xfrm>
                <a:off x="1643040" y="3786120"/>
                <a:ext cx="107172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12"/>
              <p:cNvSpPr txBox="1"/>
              <p:nvPr/>
            </p:nvSpPr>
            <p:spPr>
              <a:xfrm>
                <a:off x="5214960" y="3429000"/>
                <a:ext cx="7858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11"/>
              <p:cNvSpPr txBox="1"/>
              <p:nvPr/>
            </p:nvSpPr>
            <p:spPr>
              <a:xfrm>
                <a:off x="1857240" y="4786200"/>
                <a:ext cx="8575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Object 10"/>
              <p:cNvSpPr txBox="1"/>
              <p:nvPr/>
            </p:nvSpPr>
            <p:spPr>
              <a:xfrm>
                <a:off x="5286240" y="4857840"/>
                <a:ext cx="10004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9" name="Rectangle 18"/>
          <p:cNvSpPr/>
          <p:nvPr/>
        </p:nvSpPr>
        <p:spPr>
          <a:xfrm>
            <a:off x="500040" y="16052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 вариант                                2 вариан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0" name="Rectangle 20"/>
          <p:cNvSpPr/>
          <p:nvPr/>
        </p:nvSpPr>
        <p:spPr>
          <a:xfrm>
            <a:off x="857160" y="2358360"/>
            <a:ext cx="5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1" name="Rectangle 21"/>
          <p:cNvSpPr/>
          <p:nvPr/>
        </p:nvSpPr>
        <p:spPr>
          <a:xfrm>
            <a:off x="4289400" y="235836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2" name="Rectangle 22"/>
          <p:cNvSpPr/>
          <p:nvPr/>
        </p:nvSpPr>
        <p:spPr>
          <a:xfrm>
            <a:off x="642960" y="3585960"/>
            <a:ext cx="12859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а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3" name="Rectangle 23"/>
          <p:cNvSpPr/>
          <p:nvPr/>
        </p:nvSpPr>
        <p:spPr>
          <a:xfrm>
            <a:off x="4005720" y="357300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а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4" name="Rectangle 24"/>
          <p:cNvSpPr/>
          <p:nvPr/>
        </p:nvSpPr>
        <p:spPr>
          <a:xfrm>
            <a:off x="4645440" y="485892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5" name="Rectangle 25"/>
          <p:cNvSpPr/>
          <p:nvPr/>
        </p:nvSpPr>
        <p:spPr>
          <a:xfrm>
            <a:off x="219240" y="4645800"/>
            <a:ext cx="15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9.1, 9.3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3; 9.8; 9.26(абв); 9.28(вг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7" name="Заголовок 6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Прямоугольник 1"/>
          <p:cNvSpPr/>
          <p:nvPr/>
        </p:nvSpPr>
        <p:spPr>
          <a:xfrm>
            <a:off x="3071880" y="28584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Задание  3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Rectangle 1"/>
          <p:cNvSpPr/>
          <p:nvPr/>
        </p:nvSpPr>
        <p:spPr>
          <a:xfrm>
            <a:off x="1357200" y="855720"/>
            <a:ext cx="6572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числите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sin ( x + y)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если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sin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x = 3/5,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 x &lt; π/2;  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cos y = - 3/5,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π&lt; y &lt; 3π/2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1"/>
          <p:cNvSpPr/>
          <p:nvPr/>
        </p:nvSpPr>
        <p:spPr>
          <a:xfrm>
            <a:off x="2195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Упростить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Прямоугольник 2"/>
          <p:cNvSpPr/>
          <p:nvPr/>
        </p:nvSpPr>
        <p:spPr>
          <a:xfrm>
            <a:off x="395280" y="625320"/>
            <a:ext cx="828036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os ( 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+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tg (3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 u="sng">
                <a:solidFill>
                  <a:srgbClr val="ff8119"/>
                </a:solidFill>
                <a:uFillTx/>
                <a:latin typeface="Arial"/>
                <a:hlinkClick r:id="rId1" action="ppaction://hlinksldjump"/>
              </a:rPr>
              <a:t>1) 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2" action="ppaction://hlinksldjump"/>
              </a:rPr>
              <a:t>cos</a:t>
            </a:r>
            <a:r>
              <a:rPr b="0" lang="el-GR" sz="1800" spc="-1" strike="noStrike" u="sng">
                <a:solidFill>
                  <a:srgbClr val="ff8119"/>
                </a:solidFill>
                <a:uFillTx/>
                <a:latin typeface="Arial"/>
                <a:hlinkClick r:id="rId3" action="ppaction://hlinksldjump"/>
              </a:rPr>
              <a:t>α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4" action="ppaction://hlinksldjump"/>
              </a:rPr>
              <a:t>; 2) – sin</a:t>
            </a:r>
            <a:r>
              <a:rPr b="0" lang="el-GR" sz="1800" spc="-1" strike="noStrike" u="sng">
                <a:solidFill>
                  <a:srgbClr val="ff8119"/>
                </a:solidFill>
                <a:uFillTx/>
                <a:latin typeface="Arial"/>
                <a:hlinkClick r:id="rId5" action="ppaction://hlinksldjump"/>
              </a:rPr>
              <a:t>α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6" action="ppaction://hlinksldjump"/>
              </a:rPr>
              <a:t>; 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7" action="ppaction://hlinksldjump"/>
              </a:rPr>
              <a:t>3) sin</a:t>
            </a:r>
            <a:r>
              <a:rPr b="0" lang="el-GR" sz="1800" spc="-1" strike="noStrike" u="sng">
                <a:solidFill>
                  <a:srgbClr val="ff8119"/>
                </a:solidFill>
                <a:uFillTx/>
                <a:latin typeface="Arial"/>
                <a:hlinkClick r:id="rId8" action="ppaction://hlinksldjump"/>
              </a:rPr>
              <a:t>α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9" action="ppaction://hlinksldjump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10" action="ppaction://hlinksldjump"/>
              </a:rPr>
              <a:t>1) –tg</a:t>
            </a:r>
            <a:r>
              <a:rPr b="0" lang="el-GR" sz="1800" spc="-1" strike="noStrike" u="sng">
                <a:solidFill>
                  <a:srgbClr val="ff8119"/>
                </a:solidFill>
                <a:uFillTx/>
                <a:latin typeface="Arial"/>
                <a:hlinkClick r:id="rId11" action="ppaction://hlinksldjump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12" action="ppaction://hlinksldjump"/>
              </a:rPr>
              <a:t>2) ctg </a:t>
            </a:r>
            <a:r>
              <a:rPr b="0" lang="el-GR" sz="1800" spc="-1" strike="noStrike" u="sng">
                <a:solidFill>
                  <a:srgbClr val="ff8119"/>
                </a:solidFill>
                <a:uFillTx/>
                <a:latin typeface="Arial"/>
                <a:hlinkClick r:id="rId13" action="ppaction://hlinksldjump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14" action="ppaction://hlinksldjump"/>
              </a:rPr>
              <a:t>3)-ctg </a:t>
            </a:r>
            <a:r>
              <a:rPr b="0" lang="el-GR" sz="1800" spc="-1" strike="noStrike" u="sng">
                <a:solidFill>
                  <a:srgbClr val="ff8119"/>
                </a:solidFill>
                <a:uFillTx/>
                <a:latin typeface="Arial"/>
                <a:hlinkClick r:id="rId15" action="ppaction://hlinksldjump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α ) 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г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 +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16" action="ppaction://hlinksldjump"/>
              </a:rPr>
              <a:t>1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17" action="ppaction://hlinksldjump"/>
              </a:rPr>
              <a:t>) cos </a:t>
            </a:r>
            <a:r>
              <a:rPr b="0" lang="el-GR" sz="1800" spc="-1" strike="noStrike" u="sng">
                <a:solidFill>
                  <a:srgbClr val="ff8119"/>
                </a:solidFill>
                <a:uFillTx/>
                <a:latin typeface="Arial"/>
                <a:hlinkClick r:id="rId18" action="ppaction://hlinksldjump"/>
              </a:rPr>
              <a:t>α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19" action="ppaction://hlinksldjump"/>
              </a:rPr>
              <a:t>;  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20" action="ppaction://hlinksldjump"/>
              </a:rPr>
              <a:t>2) – sin </a:t>
            </a:r>
            <a:r>
              <a:rPr b="0" lang="el-GR" sz="1800" spc="-1" strike="noStrike" u="sng">
                <a:solidFill>
                  <a:srgbClr val="ff8119"/>
                </a:solidFill>
                <a:uFillTx/>
                <a:latin typeface="Arial"/>
                <a:hlinkClick r:id="rId21" action="ppaction://hlinksldjump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22" action="ppaction://hlinksldjump"/>
              </a:rPr>
              <a:t>3) sin </a:t>
            </a:r>
            <a:r>
              <a:rPr b="0" lang="el-GR" sz="1800" spc="-1" strike="noStrike" u="sng">
                <a:solidFill>
                  <a:srgbClr val="ff8119"/>
                </a:solidFill>
                <a:uFillTx/>
                <a:latin typeface="Arial"/>
                <a:hlinkClick r:id="rId23" action="ppaction://hlinksldjump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                 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24" action="ppaction://hlinksldjump"/>
              </a:rPr>
              <a:t>1) cos </a:t>
            </a:r>
            <a:r>
              <a:rPr b="0" lang="el-GR" sz="1800" spc="-1" strike="noStrike" u="sng">
                <a:solidFill>
                  <a:srgbClr val="ff8119"/>
                </a:solidFill>
                <a:uFillTx/>
                <a:latin typeface="Arial"/>
                <a:hlinkClick r:id="rId25" action="ppaction://hlinksldjump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26" action="ppaction://hlinksldjump"/>
              </a:rPr>
              <a:t>2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27" action="ppaction://hlinksldjump"/>
              </a:rPr>
              <a:t>) – sin </a:t>
            </a:r>
            <a:r>
              <a:rPr b="0" lang="el-GR" sz="1800" spc="-1" strike="noStrike" u="sng">
                <a:solidFill>
                  <a:srgbClr val="ff8119"/>
                </a:solidFill>
                <a:uFillTx/>
                <a:latin typeface="Arial"/>
                <a:hlinkClick r:id="rId28" action="ppaction://hlinksldjump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29" action="ppaction://hlinksldjump"/>
              </a:rPr>
              <a:t>3) sin </a:t>
            </a:r>
            <a:r>
              <a:rPr b="0" lang="el-GR" sz="1800" spc="-1" strike="noStrike" u="sng">
                <a:solidFill>
                  <a:srgbClr val="ff8119"/>
                </a:solidFill>
                <a:uFillTx/>
                <a:latin typeface="Arial"/>
                <a:hlinkClick r:id="rId30" action="ppaction://hlinksldjump"/>
              </a:rPr>
              <a:t>α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31" action="ppaction://hlinksldjump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α ) 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 –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32" action="ppaction://hlinksldjump"/>
              </a:rPr>
              <a:t>1) ctg </a:t>
            </a:r>
            <a:r>
              <a:rPr b="0" lang="el-GR" sz="1800" spc="-1" strike="noStrike" u="sng">
                <a:solidFill>
                  <a:srgbClr val="ff8119"/>
                </a:solidFill>
                <a:uFillTx/>
                <a:latin typeface="Arial"/>
                <a:hlinkClick r:id="rId33" action="ppaction://hlinksldjump"/>
              </a:rPr>
              <a:t>α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34" action="ppaction://hlinksldjump"/>
              </a:rPr>
              <a:t>;  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35" action="ppaction://hlinksldjump"/>
              </a:rPr>
              <a:t>2) – tg </a:t>
            </a:r>
            <a:r>
              <a:rPr b="0" lang="el-GR" sz="1800" spc="-1" strike="noStrike" u="sng">
                <a:solidFill>
                  <a:srgbClr val="ff8119"/>
                </a:solidFill>
                <a:uFillTx/>
                <a:latin typeface="Arial"/>
                <a:hlinkClick r:id="rId36" action="ppaction://hlinksldjump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37" action="ppaction://hlinksldjump"/>
              </a:rPr>
              <a:t>3) tg </a:t>
            </a:r>
            <a:r>
              <a:rPr b="0" lang="el-GR" sz="1800" spc="-1" strike="noStrike" u="sng">
                <a:solidFill>
                  <a:srgbClr val="ff8119"/>
                </a:solidFill>
                <a:uFillTx/>
                <a:latin typeface="Arial"/>
                <a:hlinkClick r:id="rId38" action="ppaction://hlinksldjump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                         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39" action="ppaction://hlinksldjump"/>
              </a:rPr>
              <a:t>1) – sin </a:t>
            </a:r>
            <a:r>
              <a:rPr b="0" lang="el-GR" sz="1800" spc="-1" strike="noStrike" u="sng">
                <a:solidFill>
                  <a:srgbClr val="ff8119"/>
                </a:solidFill>
                <a:uFillTx/>
                <a:latin typeface="Arial"/>
                <a:hlinkClick r:id="rId40" action="ppaction://hlinksldjump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41" action="ppaction://hlinksldjump"/>
              </a:rPr>
              <a:t>2) sin </a:t>
            </a:r>
            <a:r>
              <a:rPr b="0" lang="el-GR" sz="1800" spc="-1" strike="noStrike" u="sng">
                <a:solidFill>
                  <a:srgbClr val="ff8119"/>
                </a:solidFill>
                <a:uFillTx/>
                <a:latin typeface="Arial"/>
                <a:hlinkClick r:id="rId42" action="ppaction://hlinksldjump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43" action="ppaction://hlinksldjump"/>
              </a:rPr>
              <a:t>3) cos </a:t>
            </a:r>
            <a:r>
              <a:rPr b="0" lang="el-GR" sz="1800" spc="-1" strike="noStrike" u="sng">
                <a:solidFill>
                  <a:srgbClr val="ff8119"/>
                </a:solidFill>
                <a:uFillTx/>
                <a:latin typeface="Arial"/>
                <a:hlinkClick r:id="rId44" action="ppaction://hlinksldjump"/>
              </a:rPr>
              <a:t>α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45" action="ppaction://hlinksldjump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tg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 + α) 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з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46" action="ppaction://hlinksldjump"/>
              </a:rPr>
              <a:t>1) – ctg</a:t>
            </a:r>
            <a:r>
              <a:rPr b="0" lang="el-GR" sz="1800" spc="-1" strike="noStrike" u="sng">
                <a:solidFill>
                  <a:srgbClr val="ff8119"/>
                </a:solidFill>
                <a:uFillTx/>
                <a:latin typeface="Arial"/>
                <a:hlinkClick r:id="rId47" action="ppaction://hlinksldjump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48" action="ppaction://hlinksldjump"/>
              </a:rPr>
              <a:t>2) – tg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 3) tg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                      1) tg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 2) – tg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 3) ctg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1"/>
          <p:cNvSpPr/>
          <p:nvPr/>
        </p:nvSpPr>
        <p:spPr>
          <a:xfrm>
            <a:off x="0" y="2637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orbel"/>
              </a:rPr>
              <a:t>Верно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Выгнутая вправо стрелка 2"/>
          <p:cNvSpPr/>
          <p:nvPr/>
        </p:nvSpPr>
        <p:spPr>
          <a:xfrm>
            <a:off x="1116000" y="4508640"/>
            <a:ext cx="1008000" cy="108108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175680 h 1081080"/>
              <a:gd name="textAreaBottom" fmla="*/ 7794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024" stAng="-5400000" swAng="5400000"/>
                <a:lnTo>
                  <a:pt x="21600" y="12060"/>
                </a:lnTo>
                <a:arcTo wR="21600" hR="7024" stAng="0" swAng="3092894"/>
                <a:lnTo>
                  <a:pt x="5400" y="21377"/>
                </a:lnTo>
                <a:lnTo>
                  <a:pt x="0" y="16565"/>
                </a:lnTo>
                <a:lnTo>
                  <a:pt x="5400" y="11307"/>
                </a:lnTo>
                <a:lnTo>
                  <a:pt x="5400" y="13824"/>
                </a:lnTo>
                <a:arcTo wR="21600" hR="7024" stAng="3092894" swAng="-2665816"/>
                <a:lnTo>
                  <a:pt x="20164" y="9542"/>
                </a:lnTo>
                <a:arcTo wR="21600" hR="7024" stAng="-427078" swAng="-4972922"/>
                <a:close/>
              </a:path>
              <a:path fill="darkenLess" w="21600" h="21600">
                <a:moveTo>
                  <a:pt x="0" y="0"/>
                </a:moveTo>
                <a:arcTo wR="21600" hR="7024" stAng="-5400000" swAng="5400000"/>
                <a:lnTo>
                  <a:pt x="21600" y="12060"/>
                </a:lnTo>
                <a:arcTo wR="21600" hR="7024" stAng="0" swAng="-427078"/>
                <a:lnTo>
                  <a:pt x="20164" y="9542"/>
                </a:lnTo>
                <a:arcTo wR="21600" hR="7024" stAng="-427078" swAng="-4972922"/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1"/>
          <p:cNvSpPr/>
          <p:nvPr/>
        </p:nvSpPr>
        <p:spPr>
          <a:xfrm>
            <a:off x="0" y="2637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orbel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Выгнутая вправо стрелка 2"/>
          <p:cNvSpPr/>
          <p:nvPr/>
        </p:nvSpPr>
        <p:spPr>
          <a:xfrm>
            <a:off x="1116000" y="4508640"/>
            <a:ext cx="1008000" cy="108108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175680 h 1081080"/>
              <a:gd name="textAreaBottom" fmla="*/ 7794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024" stAng="-5400000" swAng="5400000"/>
                <a:lnTo>
                  <a:pt x="21600" y="12060"/>
                </a:lnTo>
                <a:arcTo wR="21600" hR="7024" stAng="0" swAng="3092894"/>
                <a:lnTo>
                  <a:pt x="5400" y="21377"/>
                </a:lnTo>
                <a:lnTo>
                  <a:pt x="0" y="16565"/>
                </a:lnTo>
                <a:lnTo>
                  <a:pt x="5400" y="11307"/>
                </a:lnTo>
                <a:lnTo>
                  <a:pt x="5400" y="13824"/>
                </a:lnTo>
                <a:arcTo wR="21600" hR="7024" stAng="3092894" swAng="-2665816"/>
                <a:lnTo>
                  <a:pt x="20164" y="9542"/>
                </a:lnTo>
                <a:arcTo wR="21600" hR="7024" stAng="-427078" swAng="-4972922"/>
                <a:close/>
              </a:path>
              <a:path fill="darkenLess" w="21600" h="21600">
                <a:moveTo>
                  <a:pt x="0" y="0"/>
                </a:moveTo>
                <a:arcTo wR="21600" hR="7024" stAng="-5400000" swAng="5400000"/>
                <a:lnTo>
                  <a:pt x="21600" y="12060"/>
                </a:lnTo>
                <a:arcTo wR="21600" hR="7024" stAng="0" swAng="-427078"/>
                <a:lnTo>
                  <a:pt x="20164" y="9542"/>
                </a:lnTo>
                <a:arcTo wR="21600" hR="7024" stAng="-427078" swAng="-4972922"/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2"/>
          <p:cNvSpPr/>
          <p:nvPr/>
        </p:nvSpPr>
        <p:spPr>
          <a:xfrm>
            <a:off x="3071880" y="1190520"/>
            <a:ext cx="23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числит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4481640" y="-111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Rectangle 14"/>
          <p:cNvSpPr/>
          <p:nvPr/>
        </p:nvSpPr>
        <p:spPr>
          <a:xfrm>
            <a:off x="4481640" y="-111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Rectangle 19"/>
          <p:cNvSpPr/>
          <p:nvPr/>
        </p:nvSpPr>
        <p:spPr>
          <a:xfrm>
            <a:off x="4481640" y="-111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Rectangle 22"/>
          <p:cNvSpPr/>
          <p:nvPr/>
        </p:nvSpPr>
        <p:spPr>
          <a:xfrm>
            <a:off x="4481640" y="-111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Rectangle 43"/>
          <p:cNvSpPr/>
          <p:nvPr/>
        </p:nvSpPr>
        <p:spPr>
          <a:xfrm>
            <a:off x="4481640" y="-111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45720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457200" y="82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28"/>
              <p:cNvSpPr txBox="1"/>
              <p:nvPr/>
            </p:nvSpPr>
            <p:spPr>
              <a:xfrm>
                <a:off x="1285920" y="1714680"/>
                <a:ext cx="50004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01" name="Rectangle 30"/>
          <p:cNvSpPr/>
          <p:nvPr/>
        </p:nvSpPr>
        <p:spPr>
          <a:xfrm>
            <a:off x="1000080" y="1708920"/>
            <a:ext cx="6357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in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– 2 t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2 sin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sin 1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sin 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sin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cos 10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Текст 3" descr=""/>
          <p:cNvPicPr/>
          <p:nvPr/>
        </p:nvPicPr>
        <p:blipFill>
          <a:blip r:embed="rId1"/>
          <a:stretch/>
        </p:blipFill>
        <p:spPr>
          <a:xfrm>
            <a:off x="646200" y="3481560"/>
            <a:ext cx="27302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03" name="Group 2"/>
          <p:cNvGrpSpPr/>
          <p:nvPr/>
        </p:nvGrpSpPr>
        <p:grpSpPr>
          <a:xfrm>
            <a:off x="3000240" y="1714680"/>
            <a:ext cx="5929560" cy="5454360"/>
            <a:chOff x="3000240" y="1714680"/>
            <a:chExt cx="5929560" cy="5454360"/>
          </a:xfrm>
        </p:grpSpPr>
        <p:sp>
          <p:nvSpPr>
            <p:cNvPr id="404" name="AutoShape 3"/>
            <p:cNvSpPr/>
            <p:nvPr/>
          </p:nvSpPr>
          <p:spPr>
            <a:xfrm>
              <a:off x="3000240" y="1714680"/>
              <a:ext cx="5929560" cy="54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05" name="Text Box 4"/>
            <p:cNvSpPr/>
            <p:nvPr/>
          </p:nvSpPr>
          <p:spPr>
            <a:xfrm>
              <a:off x="6476040" y="2370240"/>
              <a:ext cx="541800" cy="41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06" name="Text Box 5"/>
            <p:cNvSpPr/>
            <p:nvPr/>
          </p:nvSpPr>
          <p:spPr>
            <a:xfrm>
              <a:off x="5812920" y="2334240"/>
              <a:ext cx="541800" cy="41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07" name="Text Box 6"/>
            <p:cNvSpPr/>
            <p:nvPr/>
          </p:nvSpPr>
          <p:spPr>
            <a:xfrm>
              <a:off x="4659840" y="2322360"/>
              <a:ext cx="541800" cy="41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08" name="Text Box 7"/>
            <p:cNvSpPr/>
            <p:nvPr/>
          </p:nvSpPr>
          <p:spPr>
            <a:xfrm>
              <a:off x="5092920" y="4427640"/>
              <a:ext cx="70776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endParaRPr b="0" lang="en-US" sz="12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09" name="Text Box 8"/>
            <p:cNvSpPr/>
            <p:nvPr/>
          </p:nvSpPr>
          <p:spPr>
            <a:xfrm>
              <a:off x="8103240" y="4255560"/>
              <a:ext cx="826200" cy="88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ωt</a:t>
              </a:r>
              <a:endParaRPr b="0" lang="en-US" sz="12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10" name="Text Box 9"/>
            <p:cNvSpPr/>
            <p:nvPr/>
          </p:nvSpPr>
          <p:spPr>
            <a:xfrm>
              <a:off x="3367800" y="2737800"/>
              <a:ext cx="397800" cy="50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cxnSp>
          <p:nvCxnSpPr>
            <p:cNvPr id="411" name="AutoShape 10"/>
            <p:cNvCxnSpPr/>
            <p:nvPr/>
          </p:nvCxnSpPr>
          <p:spPr>
            <a:xfrm flipH="1" flipV="1">
              <a:off x="3797640" y="2673360"/>
              <a:ext cx="11880" cy="3044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412" name="AutoShape 11"/>
            <p:cNvCxnSpPr/>
            <p:nvPr/>
          </p:nvCxnSpPr>
          <p:spPr>
            <a:xfrm>
              <a:off x="3798360" y="4366080"/>
              <a:ext cx="4435920" cy="1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413" name="AutoShape 12"/>
            <p:cNvCxnSpPr/>
            <p:nvPr/>
          </p:nvCxnSpPr>
          <p:spPr>
            <a:xfrm>
              <a:off x="3798360" y="2921040"/>
              <a:ext cx="4306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cxnSp>
          <p:nvCxnSpPr>
            <p:cNvPr id="414" name="AutoShape 13"/>
            <p:cNvCxnSpPr/>
            <p:nvPr/>
          </p:nvCxnSpPr>
          <p:spPr>
            <a:xfrm>
              <a:off x="3809160" y="5531760"/>
              <a:ext cx="438156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415" name="Freeform 14"/>
            <p:cNvSpPr/>
            <p:nvPr/>
          </p:nvSpPr>
          <p:spPr>
            <a:xfrm>
              <a:off x="3798360" y="2919960"/>
              <a:ext cx="4231080" cy="2820960"/>
            </a:xfrm>
            <a:custGeom>
              <a:avLst/>
              <a:gdLst>
                <a:gd name="textAreaLeft" fmla="*/ 0 w 4231080"/>
                <a:gd name="textAreaRight" fmla="*/ 4231440 w 4231080"/>
                <a:gd name="textAreaTop" fmla="*/ 0 h 2820960"/>
                <a:gd name="textAreaBottom" fmla="*/ 2821320 h 2820960"/>
              </a:gdLst>
              <a:ahLst/>
              <a:rect l="textAreaLeft" t="textAreaTop" r="textAreaRight" b="textAreaBottom"/>
              <a:pathLst>
                <a:path w="4935" h="3424">
                  <a:moveTo>
                    <a:pt x="0" y="2"/>
                  </a:moveTo>
                  <a:cubicBezTo>
                    <a:pt x="233" y="526"/>
                    <a:pt x="905" y="3145"/>
                    <a:pt x="1395" y="3145"/>
                  </a:cubicBezTo>
                  <a:cubicBezTo>
                    <a:pt x="1885" y="3145"/>
                    <a:pt x="2488" y="4"/>
                    <a:pt x="2940" y="2"/>
                  </a:cubicBezTo>
                  <a:cubicBezTo>
                    <a:pt x="3392" y="0"/>
                    <a:pt x="3775" y="2840"/>
                    <a:pt x="4108" y="3132"/>
                  </a:cubicBezTo>
                  <a:cubicBezTo>
                    <a:pt x="4441" y="3424"/>
                    <a:pt x="4763" y="2042"/>
                    <a:pt x="4935" y="1755"/>
                  </a:cubicBezTo>
                </a:path>
              </a:pathLst>
            </a:custGeom>
            <a:noFill/>
            <a:ln w="1908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16" name="Freeform 15"/>
            <p:cNvSpPr/>
            <p:nvPr/>
          </p:nvSpPr>
          <p:spPr>
            <a:xfrm>
              <a:off x="3799080" y="2905920"/>
              <a:ext cx="4493160" cy="2840040"/>
            </a:xfrm>
            <a:custGeom>
              <a:avLst/>
              <a:gdLst>
                <a:gd name="textAreaLeft" fmla="*/ 0 w 4493160"/>
                <a:gd name="textAreaRight" fmla="*/ 4493520 w 4493160"/>
                <a:gd name="textAreaTop" fmla="*/ 0 h 2840040"/>
                <a:gd name="textAreaBottom" fmla="*/ 2840040 h 2840040"/>
              </a:gdLst>
              <a:ahLst/>
              <a:rect l="textAreaLeft" t="textAreaTop" r="textAreaRight" b="textAreaBottom"/>
              <a:pathLst>
                <a:path w="5241" h="3447">
                  <a:moveTo>
                    <a:pt x="0" y="1747"/>
                  </a:moveTo>
                  <a:cubicBezTo>
                    <a:pt x="145" y="1459"/>
                    <a:pt x="575" y="11"/>
                    <a:pt x="868" y="19"/>
                  </a:cubicBezTo>
                  <a:cubicBezTo>
                    <a:pt x="1161" y="27"/>
                    <a:pt x="1448" y="1275"/>
                    <a:pt x="1757" y="1797"/>
                  </a:cubicBezTo>
                  <a:cubicBezTo>
                    <a:pt x="2066" y="2319"/>
                    <a:pt x="2315" y="3447"/>
                    <a:pt x="2721" y="3149"/>
                  </a:cubicBezTo>
                  <a:cubicBezTo>
                    <a:pt x="3127" y="2851"/>
                    <a:pt x="3775" y="0"/>
                    <a:pt x="4195" y="7"/>
                  </a:cubicBezTo>
                  <a:cubicBezTo>
                    <a:pt x="4615" y="14"/>
                    <a:pt x="5023" y="2525"/>
                    <a:pt x="5241" y="31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cxnSp>
          <p:nvCxnSpPr>
            <p:cNvPr id="417" name="AutoShape 16"/>
            <p:cNvCxnSpPr/>
            <p:nvPr/>
          </p:nvCxnSpPr>
          <p:spPr>
            <a:xfrm flipV="1">
              <a:off x="7416360" y="2394720"/>
              <a:ext cx="1440" cy="360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18" name="Freeform 17"/>
            <p:cNvSpPr/>
            <p:nvPr/>
          </p:nvSpPr>
          <p:spPr>
            <a:xfrm>
              <a:off x="3809520" y="2894400"/>
              <a:ext cx="4294440" cy="2869560"/>
            </a:xfrm>
            <a:custGeom>
              <a:avLst/>
              <a:gdLst/>
              <a:ahLst/>
              <a:rect l="l" t="t" r="r" b="b"/>
              <a:pathLst>
                <a:path w="5009" h="3483">
                  <a:moveTo>
                    <a:pt x="0" y="2926"/>
                  </a:moveTo>
                  <a:cubicBezTo>
                    <a:pt x="96" y="2938"/>
                    <a:pt x="220" y="3483"/>
                    <a:pt x="576" y="3001"/>
                  </a:cubicBezTo>
                  <a:cubicBezTo>
                    <a:pt x="932" y="2519"/>
                    <a:pt x="1657" y="0"/>
                    <a:pt x="2133" y="33"/>
                  </a:cubicBezTo>
                  <a:cubicBezTo>
                    <a:pt x="2609" y="66"/>
                    <a:pt x="2952" y="3118"/>
                    <a:pt x="3431" y="3201"/>
                  </a:cubicBezTo>
                  <a:cubicBezTo>
                    <a:pt x="3910" y="3284"/>
                    <a:pt x="4673" y="1102"/>
                    <a:pt x="5009" y="534"/>
                  </a:cubicBezTo>
                </a:path>
              </a:pathLst>
            </a:custGeom>
            <a:noFill/>
            <a:ln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cxnSp>
          <p:nvCxnSpPr>
            <p:cNvPr id="419" name="AutoShape 18"/>
            <p:cNvCxnSpPr/>
            <p:nvPr/>
          </p:nvCxnSpPr>
          <p:spPr>
            <a:xfrm>
              <a:off x="5302800" y="4234320"/>
              <a:ext cx="1440" cy="258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420" name="Oval 19"/>
            <p:cNvSpPr/>
            <p:nvPr/>
          </p:nvSpPr>
          <p:spPr>
            <a:xfrm>
              <a:off x="5262480" y="3207600"/>
              <a:ext cx="85680" cy="58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21" name="Oval 20"/>
            <p:cNvSpPr/>
            <p:nvPr/>
          </p:nvSpPr>
          <p:spPr>
            <a:xfrm>
              <a:off x="5262480" y="5113440"/>
              <a:ext cx="85680" cy="58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cxnSp>
          <p:nvCxnSpPr>
            <p:cNvPr id="422" name="AutoShape 21"/>
            <p:cNvCxnSpPr>
              <a:stCxn id="420" idx="4"/>
              <a:endCxn id="421" idx="4"/>
            </p:cNvCxnSpPr>
            <p:nvPr/>
          </p:nvCxnSpPr>
          <p:spPr>
            <a:xfrm flipH="1">
              <a:off x="5305320" y="3267000"/>
              <a:ext cx="2160" cy="1906560"/>
            </a:xfrm>
            <a:prstGeom prst="straightConnector1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423" name="AutoShape 22"/>
            <p:cNvCxnSpPr/>
            <p:nvPr/>
          </p:nvCxnSpPr>
          <p:spPr>
            <a:xfrm flipH="1">
              <a:off x="4529160" y="2622240"/>
              <a:ext cx="207360" cy="27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4" name="AutoShape 23"/>
            <p:cNvCxnSpPr/>
            <p:nvPr/>
          </p:nvCxnSpPr>
          <p:spPr>
            <a:xfrm flipH="1">
              <a:off x="5689080" y="2622240"/>
              <a:ext cx="207360" cy="27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5" name="AutoShape 24"/>
            <p:cNvCxnSpPr/>
            <p:nvPr/>
          </p:nvCxnSpPr>
          <p:spPr>
            <a:xfrm flipH="1">
              <a:off x="6354720" y="2649240"/>
              <a:ext cx="207360" cy="27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426" name="Прямоугольник 25"/>
          <p:cNvSpPr/>
          <p:nvPr/>
        </p:nvSpPr>
        <p:spPr>
          <a:xfrm>
            <a:off x="3432960" y="857160"/>
            <a:ext cx="27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Задача №1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142560" y="3714480"/>
            <a:ext cx="2468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 x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 (x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28" name="Group 2"/>
          <p:cNvGrpSpPr/>
          <p:nvPr/>
        </p:nvGrpSpPr>
        <p:grpSpPr>
          <a:xfrm>
            <a:off x="3286080" y="1928880"/>
            <a:ext cx="5429160" cy="4456080"/>
            <a:chOff x="3286080" y="1928880"/>
            <a:chExt cx="5429160" cy="4456080"/>
          </a:xfrm>
        </p:grpSpPr>
        <p:sp>
          <p:nvSpPr>
            <p:cNvPr id="429" name="AutoShape 3"/>
            <p:cNvSpPr/>
            <p:nvPr/>
          </p:nvSpPr>
          <p:spPr>
            <a:xfrm>
              <a:off x="3286080" y="1928880"/>
              <a:ext cx="5429160" cy="44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30" name="Text Box 5"/>
            <p:cNvSpPr/>
            <p:nvPr/>
          </p:nvSpPr>
          <p:spPr>
            <a:xfrm>
              <a:off x="5123880" y="3264120"/>
              <a:ext cx="376200" cy="379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31" name="Text Box 6"/>
            <p:cNvSpPr/>
            <p:nvPr/>
          </p:nvSpPr>
          <p:spPr>
            <a:xfrm>
              <a:off x="5055120" y="2979720"/>
              <a:ext cx="510840" cy="3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32" name="Text Box 7"/>
            <p:cNvSpPr/>
            <p:nvPr/>
          </p:nvSpPr>
          <p:spPr>
            <a:xfrm>
              <a:off x="3420000" y="4077000"/>
              <a:ext cx="510840" cy="32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33" name="Text Box 8"/>
            <p:cNvSpPr/>
            <p:nvPr/>
          </p:nvSpPr>
          <p:spPr>
            <a:xfrm>
              <a:off x="3426120" y="3680280"/>
              <a:ext cx="511200" cy="39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cxnSp>
          <p:nvCxnSpPr>
            <p:cNvPr id="434" name="AutoShape 9"/>
            <p:cNvCxnSpPr/>
            <p:nvPr/>
          </p:nvCxnSpPr>
          <p:spPr>
            <a:xfrm>
              <a:off x="3472920" y="4241520"/>
              <a:ext cx="44751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5" name="AutoShape 10"/>
            <p:cNvCxnSpPr/>
            <p:nvPr/>
          </p:nvCxnSpPr>
          <p:spPr>
            <a:xfrm>
              <a:off x="5682240" y="2961720"/>
              <a:ext cx="1440" cy="264096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lgDash"/>
              <a:miter/>
            </a:ln>
          </p:spPr>
        </p:cxnSp>
        <p:cxnSp>
          <p:nvCxnSpPr>
            <p:cNvPr id="436" name="AutoShape 11"/>
            <p:cNvCxnSpPr/>
            <p:nvPr/>
          </p:nvCxnSpPr>
          <p:spPr>
            <a:xfrm flipH="1" flipV="1">
              <a:off x="5340960" y="2643120"/>
              <a:ext cx="341640" cy="15991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437" name="AutoShape 12"/>
            <p:cNvCxnSpPr/>
            <p:nvPr/>
          </p:nvCxnSpPr>
          <p:spPr>
            <a:xfrm>
              <a:off x="5681880" y="4241880"/>
              <a:ext cx="351360" cy="1621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38" name="AutoShape 13"/>
            <p:cNvCxnSpPr/>
            <p:nvPr/>
          </p:nvCxnSpPr>
          <p:spPr>
            <a:xfrm flipH="1" flipV="1">
              <a:off x="4695120" y="3074040"/>
              <a:ext cx="987120" cy="1167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39" name="AutoShape 14"/>
            <p:cNvCxnSpPr/>
            <p:nvPr/>
          </p:nvCxnSpPr>
          <p:spPr>
            <a:xfrm>
              <a:off x="4695480" y="3074760"/>
              <a:ext cx="646560" cy="75672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0" name="AutoShape 15"/>
            <p:cNvCxnSpPr/>
            <p:nvPr/>
          </p:nvCxnSpPr>
          <p:spPr>
            <a:xfrm>
              <a:off x="5713560" y="4429080"/>
              <a:ext cx="214920" cy="1000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1" name="Arc 16"/>
            <p:cNvSpPr/>
            <p:nvPr/>
          </p:nvSpPr>
          <p:spPr>
            <a:xfrm flipV="1" rot="18894600">
              <a:off x="5577480" y="4853880"/>
              <a:ext cx="421560" cy="31428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-360 h 314280"/>
                <a:gd name="textAreaBottom" fmla="*/ 314280 h 314280"/>
              </a:gdLst>
              <a:ahLst/>
              <a:rect l="textAreaLeft" t="textAreaTop" r="textAreaRight" b="textAreaBottom"/>
              <a:pathLst>
                <a:path fill="none" w="15275" h="19642">
                  <a:moveTo>
                    <a:pt x="-1" y="4369"/>
                  </a:moveTo>
                  <a:cubicBezTo>
                    <a:pt x="1819" y="2550"/>
                    <a:pt x="3949" y="1070"/>
                    <a:pt x="6288" y="-1"/>
                  </a:cubicBezTo>
                </a:path>
                <a:path stroke="0" w="15275" h="19642">
                  <a:moveTo>
                    <a:pt x="-1" y="4369"/>
                  </a:moveTo>
                  <a:cubicBezTo>
                    <a:pt x="1819" y="2550"/>
                    <a:pt x="3949" y="1070"/>
                    <a:pt x="6288" y="-1"/>
                  </a:cubicBezTo>
                  <a:lnTo>
                    <a:pt x="15275" y="19642"/>
                  </a:lnTo>
                  <a:lnTo>
                    <a:pt x="-1" y="4369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cxnSp>
          <p:nvCxnSpPr>
            <p:cNvPr id="442" name="AutoShape 17"/>
            <p:cNvCxnSpPr/>
            <p:nvPr/>
          </p:nvCxnSpPr>
          <p:spPr>
            <a:xfrm>
              <a:off x="5783760" y="5179680"/>
              <a:ext cx="1197000" cy="215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443" name="Text Box 18"/>
            <p:cNvSpPr/>
            <p:nvPr/>
          </p:nvSpPr>
          <p:spPr>
            <a:xfrm>
              <a:off x="6404040" y="4994640"/>
              <a:ext cx="773280" cy="50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 – α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44" name="Arc 19"/>
            <p:cNvSpPr/>
            <p:nvPr/>
          </p:nvSpPr>
          <p:spPr>
            <a:xfrm flipV="1" rot="10800000">
              <a:off x="5088600" y="3210480"/>
              <a:ext cx="589680" cy="307440"/>
            </a:xfrm>
            <a:custGeom>
              <a:avLst/>
              <a:gdLst>
                <a:gd name="textAreaLeft" fmla="*/ 0 w 589680"/>
                <a:gd name="textAreaRight" fmla="*/ 590040 w 589680"/>
                <a:gd name="textAreaTop" fmla="*/ 360 h 307440"/>
                <a:gd name="textAreaBottom" fmla="*/ 308160 h 307440"/>
              </a:gdLst>
              <a:ahLst/>
              <a:rect l="textAreaLeft" t="textAreaTop" r="textAreaRight" b="textAreaBottom"/>
              <a:pathLst>
                <a:path fill="none" w="23426" h="21600">
                  <a:moveTo>
                    <a:pt x="0" y="77"/>
                  </a:moveTo>
                  <a:cubicBezTo>
                    <a:pt x="607" y="25"/>
                    <a:pt x="1216" y="-1"/>
                    <a:pt x="1826" y="0"/>
                  </a:cubicBezTo>
                  <a:cubicBezTo>
                    <a:pt x="13755" y="0"/>
                    <a:pt x="23426" y="9670"/>
                    <a:pt x="23426" y="21600"/>
                  </a:cubicBezTo>
                </a:path>
                <a:path stroke="0" w="23426" h="21600">
                  <a:moveTo>
                    <a:pt x="0" y="77"/>
                  </a:moveTo>
                  <a:cubicBezTo>
                    <a:pt x="607" y="25"/>
                    <a:pt x="1216" y="-1"/>
                    <a:pt x="1826" y="0"/>
                  </a:cubicBezTo>
                  <a:cubicBezTo>
                    <a:pt x="13755" y="0"/>
                    <a:pt x="23426" y="9670"/>
                    <a:pt x="23426" y="21600"/>
                  </a:cubicBezTo>
                  <a:lnTo>
                    <a:pt x="1826" y="21600"/>
                  </a:lnTo>
                  <a:lnTo>
                    <a:pt x="0" y="77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lg" type="arrow" w="med"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45" name="Arc 20"/>
            <p:cNvSpPr/>
            <p:nvPr/>
          </p:nvSpPr>
          <p:spPr>
            <a:xfrm flipV="1" rot="10800000">
              <a:off x="5240880" y="3464640"/>
              <a:ext cx="543960" cy="26028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-360 h 260280"/>
                <a:gd name="textAreaBottom" fmla="*/ 260280 h 260280"/>
              </a:gdLst>
              <a:ahLst/>
              <a:rect l="textAreaLeft" t="textAreaTop" r="textAreaRight" b="textAreaBottom"/>
              <a:pathLst>
                <a:path fill="none" w="21600" h="18303">
                  <a:moveTo>
                    <a:pt x="11469" y="0"/>
                  </a:moveTo>
                  <a:cubicBezTo>
                    <a:pt x="17772" y="3949"/>
                    <a:pt x="21600" y="10864"/>
                    <a:pt x="21600" y="18303"/>
                  </a:cubicBezTo>
                </a:path>
                <a:path stroke="0" w="21600" h="18303">
                  <a:moveTo>
                    <a:pt x="11469" y="0"/>
                  </a:moveTo>
                  <a:cubicBezTo>
                    <a:pt x="17772" y="3949"/>
                    <a:pt x="21600" y="10864"/>
                    <a:pt x="21600" y="18303"/>
                  </a:cubicBezTo>
                  <a:lnTo>
                    <a:pt x="0" y="18303"/>
                  </a:lnTo>
                  <a:lnTo>
                    <a:pt x="11469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lg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446" name="Прямая соединительная линия 23"/>
          <p:cNvSpPr/>
          <p:nvPr/>
        </p:nvSpPr>
        <p:spPr>
          <a:xfrm>
            <a:off x="642960" y="4214880"/>
            <a:ext cx="1428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TextBox 28"/>
          <p:cNvSpPr/>
          <p:nvPr/>
        </p:nvSpPr>
        <p:spPr>
          <a:xfrm>
            <a:off x="2071800" y="396720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= 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TextBox 29"/>
          <p:cNvSpPr/>
          <p:nvPr/>
        </p:nvSpPr>
        <p:spPr>
          <a:xfrm>
            <a:off x="928800" y="2357280"/>
            <a:ext cx="235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воздух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2 – вода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Прямоугольник 24"/>
          <p:cNvSpPr/>
          <p:nvPr/>
        </p:nvSpPr>
        <p:spPr>
          <a:xfrm>
            <a:off x="3141360" y="857160"/>
            <a:ext cx="283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Задача №2 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285840" y="642600"/>
            <a:ext cx="8858160" cy="228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3171e"/>
                </a:solidFill>
                <a:latin typeface="Times New Roman"/>
                <a:ea typeface="Times New Roman"/>
              </a:rPr>
              <a:t>Тема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«Косинус и синус суммы и разности двух углов»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Rectangle 11"/>
          <p:cNvSpPr/>
          <p:nvPr/>
        </p:nvSpPr>
        <p:spPr>
          <a:xfrm>
            <a:off x="4481640" y="-111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Rectangle 14"/>
          <p:cNvSpPr/>
          <p:nvPr/>
        </p:nvSpPr>
        <p:spPr>
          <a:xfrm>
            <a:off x="4481640" y="-111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Rectangle 19"/>
          <p:cNvSpPr/>
          <p:nvPr/>
        </p:nvSpPr>
        <p:spPr>
          <a:xfrm>
            <a:off x="4481640" y="-111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Rectangle 22"/>
          <p:cNvSpPr/>
          <p:nvPr/>
        </p:nvSpPr>
        <p:spPr>
          <a:xfrm>
            <a:off x="4481640" y="-111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3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Rectangle 43"/>
          <p:cNvSpPr/>
          <p:nvPr/>
        </p:nvSpPr>
        <p:spPr>
          <a:xfrm>
            <a:off x="4481640" y="-111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1214280" y="73080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27a8f"/>
                </a:solidFill>
                <a:latin typeface="Arial"/>
              </a:rPr>
              <a:t>Найдите площадь треугольника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457200" y="828720"/>
            <a:ext cx="231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74" name="Group 2"/>
          <p:cNvGrpSpPr/>
          <p:nvPr/>
        </p:nvGrpSpPr>
        <p:grpSpPr>
          <a:xfrm>
            <a:off x="857160" y="1928880"/>
            <a:ext cx="7358040" cy="2925720"/>
            <a:chOff x="857160" y="1928880"/>
            <a:chExt cx="7358040" cy="2925720"/>
          </a:xfrm>
        </p:grpSpPr>
        <p:sp>
          <p:nvSpPr>
            <p:cNvPr id="475" name="Text Box 4"/>
            <p:cNvSpPr/>
            <p:nvPr/>
          </p:nvSpPr>
          <p:spPr>
            <a:xfrm>
              <a:off x="6016680" y="1928880"/>
              <a:ext cx="563040" cy="51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16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76" name="Text Box 5"/>
            <p:cNvSpPr/>
            <p:nvPr/>
          </p:nvSpPr>
          <p:spPr>
            <a:xfrm>
              <a:off x="7705440" y="4369680"/>
              <a:ext cx="509760" cy="48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77" name="Text Box 6"/>
            <p:cNvSpPr/>
            <p:nvPr/>
          </p:nvSpPr>
          <p:spPr>
            <a:xfrm>
              <a:off x="4214880" y="4369680"/>
              <a:ext cx="508680" cy="48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78" name="Text Box 7"/>
            <p:cNvSpPr/>
            <p:nvPr/>
          </p:nvSpPr>
          <p:spPr>
            <a:xfrm>
              <a:off x="5051520" y="3011760"/>
              <a:ext cx="637200" cy="54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79" name="Text Box 8"/>
            <p:cNvSpPr/>
            <p:nvPr/>
          </p:nvSpPr>
          <p:spPr>
            <a:xfrm>
              <a:off x="6888960" y="3011760"/>
              <a:ext cx="564120" cy="54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80" name="Text Box 9"/>
            <p:cNvSpPr/>
            <p:nvPr/>
          </p:nvSpPr>
          <p:spPr>
            <a:xfrm>
              <a:off x="857160" y="2002320"/>
              <a:ext cx="20552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81" name="AutoShape 3"/>
            <p:cNvSpPr/>
            <p:nvPr/>
          </p:nvSpPr>
          <p:spPr>
            <a:xfrm>
              <a:off x="4614840" y="2446200"/>
              <a:ext cx="3111120" cy="2155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82" name="Text Box 10"/>
            <p:cNvSpPr/>
            <p:nvPr/>
          </p:nvSpPr>
          <p:spPr>
            <a:xfrm>
              <a:off x="5929200" y="3173400"/>
              <a:ext cx="453960" cy="54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83" name="Freeform 11"/>
            <p:cNvSpPr/>
            <p:nvPr/>
          </p:nvSpPr>
          <p:spPr>
            <a:xfrm>
              <a:off x="5856840" y="2895840"/>
              <a:ext cx="618480" cy="199440"/>
            </a:xfrm>
            <a:custGeom>
              <a:avLst/>
              <a:gdLst>
                <a:gd name="textAreaLeft" fmla="*/ 0 w 618480"/>
                <a:gd name="textAreaRight" fmla="*/ 618840 w 61848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636" h="231">
                  <a:moveTo>
                    <a:pt x="0" y="0"/>
                  </a:moveTo>
                  <a:cubicBezTo>
                    <a:pt x="115" y="109"/>
                    <a:pt x="231" y="219"/>
                    <a:pt x="337" y="225"/>
                  </a:cubicBezTo>
                  <a:cubicBezTo>
                    <a:pt x="443" y="231"/>
                    <a:pt x="539" y="134"/>
                    <a:pt x="636" y="3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3142800" y="5285880"/>
            <a:ext cx="3189240" cy="10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BC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1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c si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Rectangle 41"/>
          <p:cNvSpPr/>
          <p:nvPr/>
        </p:nvSpPr>
        <p:spPr>
          <a:xfrm>
            <a:off x="285840" y="1822320"/>
            <a:ext cx="407196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но:  ∆АВС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∟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 = α;  |AC| = b;   |AB | = c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ти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∆A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over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08:49:26Z</dcterms:created>
  <dc:creator>deffy-kun</dc:creator>
  <dc:description/>
  <dc:language>en-US</dc:language>
  <cp:lastModifiedBy>Петраковы</cp:lastModifiedBy>
  <dcterms:modified xsi:type="dcterms:W3CDTF">2013-02-26T19:29:16Z</dcterms:modified>
  <cp:revision>79</cp:revision>
  <dc:subject/>
  <dc:title>Тема урока</dc:title>
</cp:coreProperties>
</file>