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A667-B1C5-4EB6-B87B-F3C373EC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04EE-1A7A-403A-81F4-14D6E8C0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614C-DDBF-425C-97FB-A92EC4E4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283D-2650-4E31-BB7B-C1EFAA51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2203-2541-4AA7-87FA-5F9AA4BD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64F9-B78E-4757-978B-0282A541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B824-0C26-4AA4-BF24-BAF856D9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FE62-4B8B-4A86-A712-8B567183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473E-55A3-4CC3-94A7-DB51ADDB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3867-BE42-4E67-80E6-66BE8F1C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CE75-20E7-4EF4-8AB3-6FCE690E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A884-3F6D-4636-A789-D4E47FC1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F4B4-008B-4582-9FA2-C0841B36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E110-6C32-421C-9692-4E3DE7A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2B8C-C70E-42B7-87DA-0784CB29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FFC5-04C6-4A0B-9EE6-1A79FB2D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429F-25CB-4C58-9248-4F7814AB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BE40-D670-41DB-9BF1-238A6ECB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7C25-4011-4403-9AD9-D55C0838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2A11F-7FE1-4F7A-A79F-41809B12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1BCA-46B7-42CB-B1FC-C87EA5D3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5D04-D6D8-4414-8873-64867596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2D373-9BB4-4B01-9EF0-DD602561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A12D-DD04-40EA-BA86-8DB88F86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2639-EDCC-4B27-84AC-3CA0DDB61E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393C-E617-485C-98A8-3AB251EBA3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c0b"/>
                </a:solidFill>
                <a:latin typeface="Tahoma"/>
              </a:rPr>
              <a:t>Мышонок и карандаш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9" descr="http://www.modernlib.ru/books/suteev_vladimir/mishonok_i_karandash/i_009.png"/>
          <p:cNvPicPr/>
          <p:nvPr/>
        </p:nvPicPr>
        <p:blipFill>
          <a:blip r:embed="rId1"/>
          <a:stretch/>
        </p:blipFill>
        <p:spPr>
          <a:xfrm>
            <a:off x="216000" y="549360"/>
            <a:ext cx="874872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0" descr="http://www.modernlib.ru/books/suteev_vladimir/mishonok_i_karandash/i_010.png"/>
          <p:cNvPicPr/>
          <p:nvPr/>
        </p:nvPicPr>
        <p:blipFill>
          <a:blip r:embed="rId1"/>
          <a:stretch/>
        </p:blipFill>
        <p:spPr>
          <a:xfrm>
            <a:off x="1763640" y="476280"/>
            <a:ext cx="612144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1" descr="http://www.modernlib.ru/books/suteev_vladimir/mishonok_i_karandash/i_011.png"/>
          <p:cNvPicPr/>
          <p:nvPr/>
        </p:nvPicPr>
        <p:blipFill>
          <a:blip r:embed="rId1"/>
          <a:stretch/>
        </p:blipFill>
        <p:spPr>
          <a:xfrm>
            <a:off x="1619280" y="765000"/>
            <a:ext cx="56167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http://www.modernlib.ru/books/suteev_vladimir/mishonok_i_karandash/i_001.png"/>
          <p:cNvPicPr/>
          <p:nvPr/>
        </p:nvPicPr>
        <p:blipFill>
          <a:blip r:embed="rId1"/>
          <a:stretch/>
        </p:blipFill>
        <p:spPr>
          <a:xfrm>
            <a:off x="395280" y="1844640"/>
            <a:ext cx="8353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2" descr="http://www.modernlib.ru/books/suteev_vladimir/mishonok_i_karandash/i_002.png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http://www.modernlib.ru/books/suteev_vladimir/mishonok_i_karandash/i_003.png"/>
          <p:cNvPicPr/>
          <p:nvPr/>
        </p:nvPicPr>
        <p:blipFill>
          <a:blip r:embed="rId1"/>
          <a:stretch/>
        </p:blipFill>
        <p:spPr>
          <a:xfrm>
            <a:off x="611280" y="1197000"/>
            <a:ext cx="7993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4" descr="http://www.modernlib.ru/books/suteev_vladimir/mishonok_i_karandash/i_004.png"/>
          <p:cNvPicPr/>
          <p:nvPr/>
        </p:nvPicPr>
        <p:blipFill>
          <a:blip r:embed="rId1"/>
          <a:stretch/>
        </p:blipFill>
        <p:spPr>
          <a:xfrm>
            <a:off x="755640" y="620640"/>
            <a:ext cx="777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5" descr="http://www.modernlib.ru/books/suteev_vladimir/mishonok_i_karandash/i_005.png"/>
          <p:cNvPicPr/>
          <p:nvPr/>
        </p:nvPicPr>
        <p:blipFill>
          <a:blip r:embed="rId1"/>
          <a:stretch/>
        </p:blipFill>
        <p:spPr>
          <a:xfrm>
            <a:off x="684360" y="476280"/>
            <a:ext cx="8064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6" descr="http://www.modernlib.ru/books/suteev_vladimir/mishonok_i_karandash/i_006.png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7" descr="http://www.modernlib.ru/books/suteev_vladimir/mishonok_i_karandash/i_007.png"/>
          <p:cNvPicPr/>
          <p:nvPr/>
        </p:nvPicPr>
        <p:blipFill>
          <a:blip r:embed="rId1"/>
          <a:stretch/>
        </p:blipFill>
        <p:spPr>
          <a:xfrm>
            <a:off x="179280" y="620640"/>
            <a:ext cx="874872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8" descr="http://www.modernlib.ru/books/suteev_vladimir/mishonok_i_karandash/i_008.png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08:12:42Z</dcterms:created>
  <dc:creator>Львова</dc:creator>
  <dc:description/>
  <dc:language>en-US</dc:language>
  <cp:lastModifiedBy>Львова</cp:lastModifiedBy>
  <dcterms:modified xsi:type="dcterms:W3CDTF">2012-11-30T08:21:40Z</dcterms:modified>
  <cp:revision>1</cp:revision>
  <dc:subject/>
  <dc:title>Мышонок и карандаш</dc:title>
</cp:coreProperties>
</file>