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8B5-C52E-4828-872C-8B6E3972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E6F-3BD9-4E3F-A3A6-9C1DE72E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7A1-9925-438F-8B84-6B69CDFF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81E-728D-47DE-88F3-BAB88CA9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714-5BFC-4048-B3BF-630FD042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0D0-8171-4CF1-8314-2F1700D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8BD-CCF1-4246-B289-FF3D1CC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56D-A299-47AD-89D3-4F4C8DA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087-3AB7-4427-8FA9-AEC1C85B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9F7-74D1-45AE-821E-938CEB7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139-7E36-46F0-B15B-1942C0D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BC2-A5CC-4BAD-AC2C-EBED312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0D33-F30B-43D3-BBAC-15A2A0FFC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ntract-army.ru/documentation/constitution.pdf" TargetMode="External"/><Relationship Id="rId3" Type="http://schemas.openxmlformats.org/officeDocument/2006/relationships/hyperlink" Target="http://contract-army.ru/documentation/zakon-ob-oborone.doc" TargetMode="External"/><Relationship Id="rId4" Type="http://schemas.openxmlformats.org/officeDocument/2006/relationships/hyperlink" Target="http://contract-army.ru/documentation/O-voinskoj-objazannosti-i-voennoj-sluzhbe.rtf" TargetMode="External"/><Relationship Id="rId5" Type="http://schemas.openxmlformats.org/officeDocument/2006/relationships/hyperlink" Target="http://contract-army.ru/documentation/O-statuse-voennosluzhawih.rtf" TargetMode="External"/><Relationship Id="rId6" Type="http://schemas.openxmlformats.org/officeDocument/2006/relationships/hyperlink" Target="http://contract-army.ru/documentation/O-grazhdanstve-Rossijskoj-Federacii.rtf" TargetMode="External"/><Relationship Id="rId7" Type="http://schemas.openxmlformats.org/officeDocument/2006/relationships/hyperlink" Target="http://contract-army.ru/documentation/O-pravovom-polozhenii-inostrannyh-grazhdan-v-Rossijskoj-Federacii.rtf" TargetMode="External"/><Relationship Id="rId8" Type="http://schemas.openxmlformats.org/officeDocument/2006/relationships/hyperlink" Target="http://contract-army.ru/documentation/O-nakopitel&apos;no-ipotechnoj-sisteme-zhiliwnogo-obespechenija-voennosluzhawih.rtf" TargetMode="External"/><Relationship Id="rId9" Type="http://schemas.openxmlformats.org/officeDocument/2006/relationships/hyperlink" Target="http://contract-army.ru/documentation/O-nakopitel&apos;no-ipotechnoj-sisteme-zhiliwnogo-obespechenija-voennosluzhawih.rtf" TargetMode="External"/><Relationship Id="rId10" Type="http://schemas.openxmlformats.org/officeDocument/2006/relationships/hyperlink" Target="http://contract-army.ru/documentation/O-nakopitel&apos;no-ipotechnoj-sisteme-zhiliwnogo-obespechenija-voennosluzhawih.rtf" TargetMode="External"/><Relationship Id="rId11" Type="http://schemas.openxmlformats.org/officeDocument/2006/relationships/hyperlink" Target="http://contract-army.ru/documentation/grazkodeks.zip" TargetMode="External"/><Relationship Id="rId12" Type="http://schemas.openxmlformats.org/officeDocument/2006/relationships/hyperlink" Target="http://contract-army.ru/documentation/Polozhenie-o-porjadke-prohozhdenija-voennoj-sluzhby.rtf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libri"/>
              </a:rPr>
              <a:t>Военная служба по контра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contract-army.jpg"/>
          <p:cNvPicPr/>
          <p:nvPr/>
        </p:nvPicPr>
        <p:blipFill>
          <a:blip r:embed="rId2"/>
          <a:stretch/>
        </p:blipFill>
        <p:spPr>
          <a:xfrm>
            <a:off x="1238400" y="163980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libri"/>
              </a:rPr>
              <a:t>Надба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жемесячная надбавка за выслугу лет (от 10% до 40% от размера оклада денежного содержания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жемесячная надбавка за классную квалификацию (от 5% до 30% от оклада по воинской должност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жемесячная надбавка за работу со сведениями, составляющими государственную тайну (до 65% оклада по воинской должност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жемесячная надбавка за особые условия военной службы (до 100% оклада по воинской должност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жемесячная надбавка за выполнение задач, непосредственно связанных с риском для жизни и здоровья в мирное время, а также за участие в учениях, походах кораблей, отработку задач боевой и учебно-боевой подготов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Финансовый 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dynamics-of-wages-2.png"/>
          <p:cNvPicPr/>
          <p:nvPr/>
        </p:nvPicPr>
        <p:blipFill>
          <a:blip r:embed="rId2"/>
          <a:stretch/>
        </p:blipFill>
        <p:spPr>
          <a:xfrm>
            <a:off x="347760" y="1135080"/>
            <a:ext cx="83674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ontract-army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«О ВОИНСКОЙ ОБЯЗАННОСТИ И ВОЕННОЙ СЛУЖБЕ» от 28.03.1998 N 53-Ф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Служба по контракту в Вооруженных Силах Российской Федерации сочетает, как личные, так и государственные интересы. С одной стороны — это добровольный вклад в укрепление обороны страны, повышение боеготовности Российской армии и флот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С другой стороны — заключить контракт, значит поставить свое настоящее и будущее на стабильный фундамент социальной защищенности.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Служба по контракту — это не просто работа. Военнослужащий по контракту — это профессиональный защитник Родин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онституция Российской Федераци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12 декабря 1993 г.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едеральный закон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«Об обороне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31 мая 1996 г. № 61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едеральный закон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«О воинской обязанности и военной службе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28 марта 1998 г. № 53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едеральный закон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«О статусе военнослужащих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27 мая 1998 г. № 76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едеральный закон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«О гражданстве Российской Федерации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31 мая 2002 г. № 62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едеральный закон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«О правовом положении иностранных граждан в Российской Федерации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25 июля 2002 г. № 115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едеральный закон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«О 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накопительно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— ипотечной системе жилищного обеспечения военнослужащих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20 августа 2004 г. № 117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Гражданский кодекс Российской Федераци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т 30 ноября 1994 г. № 51-ФЗ (в редакции федеральных законов от 20 февраля 1996 г. № 18-ФЗ, от 12 августа 1996 г. № 111-ФЗ, от 8 июля 1999 г. № 138-ФЗ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каз Президента Российской Федерации от 16 сентября 1999 г. № 1237 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«Положение о порядке прохождения военной службы)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оссийской Федерации от 25 февраля 2003 г. № 123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«Об утверждении положения о военно-врачебной экспертизе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оссийской Федерации от 30 декабря 2003 г. № 793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«О сроке временного пребывания в Российской Федерации иностранных граждан, поступающих на военную службу по контракту, и порядке их регистрации и учета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ребования к кандида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зраст – 19-35 лет по установленным Министерством обороны прави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разование – не ниже среднего (полного) общ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зическая подготов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доровье – годен к военной службе или годен к военной службе с незначительными ограниче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Требования к здоровь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Физическая подготовл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ача нормативов в соответствии с требованиями НФП-2009. Физическая подготовленность проверяется по установленным нормативам на силу, быстроту и выносливость, на выбор по одному из упражнений на каждое физическое ка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рофессиональная подготовл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ждане прошедшие военную службу по призыву или по контрак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Профпригод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, II категории, при отсутствии таких кандидатов рассматриваются кандидаты с III категор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Здоровь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ен к военной службе (Группа 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годен к военной службе с незначительными ограничениями (Группа 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libri"/>
              </a:rPr>
              <a:t>Нормати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sportsmanship.png"/>
          <p:cNvPicPr/>
          <p:nvPr/>
        </p:nvPicPr>
        <p:blipFill>
          <a:blip r:embed="rId2"/>
          <a:stretch/>
        </p:blipFill>
        <p:spPr>
          <a:xfrm>
            <a:off x="457200" y="1766880"/>
            <a:ext cx="8229600" cy="4192560"/>
          </a:xfrm>
          <a:prstGeom prst="rect">
            <a:avLst/>
          </a:prstGeom>
          <a:ln w="0">
            <a:noFill/>
          </a:ln>
        </p:spPr>
      </p:pic>
      <p:sp>
        <p:nvSpPr>
          <p:cNvPr id="52" name="Стрелка влево 4"/>
          <p:cNvSpPr/>
          <p:nvPr/>
        </p:nvSpPr>
        <p:spPr>
          <a:xfrm>
            <a:off x="7858080" y="6143760"/>
            <a:ext cx="500040" cy="428400"/>
          </a:xfrm>
          <a:prstGeom prst="lef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libri"/>
              </a:rPr>
              <a:t>Категории профприго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2960" y="17146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1.рекомендуется в первую очередь – первая категория. Относимые к этой категории граждане и военнослужащие по уровню развития профессионально важных качеств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полностью соответствуют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требованиям воинских должностей, что позволяет им в установленные сроки овладеть военно-учетной специальностью, иметь по результатам инспекторских, итоговых, контрольных проверок и выпускных экзаменов преимущественно отличные оценки, получить классную квалификаци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2. рекомендуется – вторая категор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3. рекомендуется условно – треть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4. не рекомендуется – четвертая категор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лево 3"/>
          <p:cNvSpPr/>
          <p:nvPr/>
        </p:nvSpPr>
        <p:spPr>
          <a:xfrm>
            <a:off x="8072280" y="6215040"/>
            <a:ext cx="500400" cy="4287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libri"/>
              </a:rPr>
              <a:t>Денежное доволь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5" descr="pay.png"/>
          <p:cNvPicPr/>
          <p:nvPr/>
        </p:nvPicPr>
        <p:blipFill>
          <a:blip r:embed="rId2"/>
          <a:stretch/>
        </p:blipFill>
        <p:spPr>
          <a:xfrm>
            <a:off x="1000080" y="1643040"/>
            <a:ext cx="71215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libri"/>
              </a:rPr>
              <a:t>Алгоритм посту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Гражданин, изъявивший желание проходить военную службу по контракту, обращается по месту регистрации в отдел военного комиссариата, либо непосредственно в пункт отбора на военную службу по контракт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Должностными лицами пункта отбора проводится военно-профессиональная консультация кандида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 зависимости от его уровня образования, опыта работы (прохождения службы) определяются воинские должности, на которых возможно прохождение службы по контракт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Доводится порядок прохождения отборочных мероприятий, перечень документов, необходимых для формирования личного дел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1:27:01Z</dcterms:created>
  <dc:creator>библиотекарь</dc:creator>
  <dc:description/>
  <dc:language>en-US</dc:language>
  <cp:lastModifiedBy>Антон</cp:lastModifiedBy>
  <dcterms:modified xsi:type="dcterms:W3CDTF">2013-02-27T14:20:56Z</dcterms:modified>
  <cp:revision>5</cp:revision>
  <dc:subject/>
  <dc:title>Военная служба по контракту</dc:title>
</cp:coreProperties>
</file>