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7A2C-B416-40E9-BCAD-F5252B67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5B64-9FA1-4028-90BA-63F960EA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E090-BD76-408B-A53F-E19B1DA2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A4DC-79D1-41A3-BEDE-F33E0E01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F116-EA1B-431F-A732-DC5A3351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0FB-D33D-47A9-91FC-65845C07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27BB-15BC-4774-A895-8C6C726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DB6B-51F0-4D28-8FB6-1E14ABDF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EDFA-7654-428F-9F93-2E32A77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B85F-ADC1-4C6F-90B5-8E8428E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6619-5F56-49E8-AF6B-7216D01C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157A-7F0C-4BCC-950A-63CF8AF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ACF3-669B-438C-9707-CF0C8E2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8257-1DD8-445B-B96F-6470CD5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EBFA-6C94-4AF7-997E-5D6B6D6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F2D3-7AF0-4226-AA5D-9C8EA165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7BED-6D7E-471C-AC9B-FB9D5AA1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53AE-B424-4A6F-B93D-935509DF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A42E-5E47-4C78-A49A-DF05EED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E2CA-0F6C-4A74-9927-3D30D3AC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0164-39A3-4FAE-B726-461DD72C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F9F3-B85A-40DA-91A9-1AC3C9B9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5C9A-9549-41F9-99CE-C27A870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23BE-8F53-4837-A8B1-81EFC3B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5A0-F48F-43D5-8065-67DDF26FF8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4AE-231C-4743-98CA-61FDBA95E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она арктических и антарктических пустынь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1280" y="5734080"/>
            <a:ext cx="4475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бота ученика 7 класса «В» Мишина Васи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Полярная зона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тарк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ирода ледяной зон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лярная зим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лярное лет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26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Животные Арктических и Антарктических пустынь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3357720"/>
            <a:ext cx="4211640" cy="3271680"/>
            <a:chOff x="0" y="3357720"/>
            <a:chExt cx="4211640" cy="32716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3357720"/>
              <a:ext cx="4211640" cy="32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0" y="3357720"/>
              <a:ext cx="4211640" cy="32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4" name="" descr="Белый медведь Арктика"/>
          <p:cNvPicPr/>
          <p:nvPr/>
        </p:nvPicPr>
        <p:blipFill>
          <a:blip r:embed="rId2"/>
          <a:stretch/>
        </p:blipFill>
        <p:spPr>
          <a:xfrm>
            <a:off x="4356000" y="1484280"/>
            <a:ext cx="4618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астительность Арктических и Антарктических пустын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своение человеком арктических и антарктических пустынь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403884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2447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0:57:14Z</dcterms:created>
  <dc:creator>Львова</dc:creator>
  <dc:description/>
  <dc:language>en-US</dc:language>
  <cp:lastModifiedBy>Львова</cp:lastModifiedBy>
  <dcterms:modified xsi:type="dcterms:W3CDTF">2013-02-27T12:38:02Z</dcterms:modified>
  <cp:revision>3</cp:revision>
  <dc:subject/>
  <dc:title>Полярная зона</dc:title>
</cp:coreProperties>
</file>