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4B3-D6BE-47F7-8B3F-8D9CF059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10A-F71C-4869-88AC-A963A6B1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158-C616-4F51-829A-05FD32D2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634-5D5E-4854-A435-447A7A9A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B848-D978-4FCC-B828-34FF4A81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79A2-A70E-4E4F-B62F-6622FCF3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B889-1C29-4C02-BF81-7D314FEC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88C1-0C99-48E6-8F4C-ECFE32B8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4E16-9B26-4A81-9183-2F7C4A4C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D429-8539-40DE-9F20-4F955774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D52D-661A-4790-8754-0073F49F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65F-857F-431F-AB49-E3DEA030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77BC-67B0-437D-A808-F9CCEDD2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BE26-2952-4BD2-B53E-B5362F8E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E5D4-67D7-47CD-8898-5D2F180D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C561-2A3F-41BE-84D6-5CE10989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8A37-2A9A-4CA4-A9F3-3829438B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36B83-938C-4B17-A838-E65AB83E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324CC-1764-406E-9635-0A56F026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7A477-A991-4F49-9075-F5F673DB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28A3-5741-4F05-82E0-F5DC63EE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AC67-6A8F-4261-995D-BA7FDC40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9E8-125D-47E2-B4FE-A4883760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F29F-EE65-4CA0-81A5-A3AE3D6D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0FED2-6BC0-4BFE-B625-4B97CDFB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C8FD2-ABB7-46BE-9718-3DF0356D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C6258-2A7F-4B2B-A18D-F02503AC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5C993-156B-4CBB-B591-97BECB18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D3365-BDF5-4849-86A8-A4353E6B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47D46-E4B3-4D12-AD55-382469DB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018-EF77-4DE8-B33B-0BE146A7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9C7-50DE-4374-A787-EBC6361B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253-F31D-4E9E-A86F-47E24200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9DB-237D-4D18-9E61-A8CA8605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BD9-BF00-4DA2-96C4-DF2E9B6D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8C62-2CF4-4992-826C-BB70F1B5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0D59-0BD9-4AB1-872F-D45EC2423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8A92-F679-4C65-949D-4EA7936D3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5D0B-827B-4F08-965D-D089C2DAE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9720" y="685440"/>
            <a:ext cx="7365960" cy="55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700" spc="-1" strike="noStrike">
                <a:solidFill>
                  <a:srgbClr val="000000"/>
                </a:solidFill>
                <a:latin typeface="Calibri"/>
              </a:rPr>
              <a:t>ЗРИТЕЛЬНЫЕ </a:t>
            </a:r>
            <a:r>
              <a:rPr b="1" lang="en-US" sz="4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700" spc="-1" strike="noStrike">
                <a:solidFill>
                  <a:srgbClr val="000000"/>
                </a:solidFill>
                <a:latin typeface="Calibri"/>
              </a:rPr>
              <a:t>ДИКТАНТЫ 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Calibri"/>
              </a:rPr>
              <a:t>ПО  ФЕДОРЕНКО И.Т.</a:t>
            </a:r>
            <a:br>
              <a:rPr sz="4700"/>
            </a:b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79440" y="1600200"/>
            <a:ext cx="722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нний день год кормит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ушка-весна всем красна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 с водой, май с травой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ёмуха цветёт - холод идёт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в мае дождь – будет и рожь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пит весною – плачет зимою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79080" y="1600200"/>
            <a:ext cx="729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дана на добрые дела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убил дерево – посади два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му мила своя сторона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ье – свет, а неученье – тьма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пешишь – людей насмешишь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е ручки чужие труды любят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79440" y="1600200"/>
            <a:ext cx="722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думал, да хорошо сказ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терпенье, будет и умен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книга тысячи людей учи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ую речь красно и слуш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ые речи и в потёмках слыш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сила не может, там ум помо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79440" y="1600200"/>
            <a:ext cx="722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олод всякий мол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ей шубке и морозы – шут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густ собирает, а зима поедае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зный январь – урожайный г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ь сани летом, а телегу зим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прилипает к деревьям- к тепл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79440" y="1356840"/>
            <a:ext cx="7221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– наша великая Родина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 – столица нашей России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 – великий русский поэт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гарин – первый в мире космонавт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ь Пётр основал Санкт-Петербург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Кутузов – великий полководец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00080" y="1428840"/>
            <a:ext cx="75009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ёлка маленькая, а и та работ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ужой стороне и весна не крас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холодный, а от стужи укрыв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солнце сквозь слёзы смеё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ено косят, так дождь не прося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птице своё гнездо нрав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79080" y="285480"/>
            <a:ext cx="7086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56800" y="928440"/>
            <a:ext cx="7643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 слове скор, тот в деле редко спор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е учиться – всегда пригодится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точки низко летают – дождь обещают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дежда красит человека, а добрые дела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снег глубокий – летом хлеб высокий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дной стороне каждый камушек знаком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79080" y="499680"/>
            <a:ext cx="7086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99720" y="928440"/>
            <a:ext cx="76438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 красна цветами, а осень  - снопам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ю день упустишь, годом не вернёшь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рте мороз скрипуч, да не больно жгуч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е злись метелица, всё  весной повевает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й март, а май мокрый делают хлеб добры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 марте зима не злится, а весне покоритс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9080" y="499680"/>
            <a:ext cx="7086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99720" y="999720"/>
            <a:ext cx="7643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пора долгих холод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е небо заволокли тёмные, мрачные туч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лёгкие морозцы затягивают лужи льдо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пропали разноцветные весёлые бабочки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сухими листочками спрятались лимонниц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пивницы залетели в сараи и заснули до вес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79080" y="499680"/>
            <a:ext cx="7086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99720" y="928440"/>
            <a:ext cx="7643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 добывают из земли, а знания из книг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в почёте быть, надо труд свой полюби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ужой сторонушке рад и родной воронушк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тябрь пахнет яблоками, а октябрь капуст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жим хлебом да чужим умом долго не проживёш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кладывай на завтра то, что можно сделать сегодн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79440" y="1600200"/>
            <a:ext cx="722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ёт сне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ду в ле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зим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щит мороз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холод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су красив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79080" y="428400"/>
            <a:ext cx="7086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28440" y="999720"/>
            <a:ext cx="7715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совсем скоро начнутся летние каникул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аша, Лена и Антон оканчивают первый клас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год ребята учились читать, писать и счита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они с удовольствием читали разные книг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всегда учат нас дружбе, товариществу и доб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дети любят русские народные сказ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79080" y="356760"/>
            <a:ext cx="7086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9720" y="928440"/>
            <a:ext cx="7643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живём на берегу прекрасной русской реки Волг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ерегах этой реки стоят замечательные гор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ен растительный и животный мир Росс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ем природу нашего родного края на уроках в школ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га – одна из самых полноводных и красивых рек Росс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о нам охранять и беречь природу родного кра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279080" y="642600"/>
            <a:ext cx="72932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здания слайдов использованы материалы из статьи Шейкиной С. А. «Применение зрительных диктантов по методике И. Т. Федоренко»// Начальная школа, №12, 2010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презентаци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Power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79440" y="1600200"/>
            <a:ext cx="722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ёт сне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ду в ле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зим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щит мороз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холод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су красив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тепл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ют птиц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чат ручь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ели птиц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т солнц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яло весно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тепл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ют птиц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чат ручь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ели птиц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т солнц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яло весно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79080" y="1600200"/>
            <a:ext cx="743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- заря вес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в поле не вои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 днём крас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т пл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 мастера боит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дела слабеет си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79080" y="1600200"/>
            <a:ext cx="729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 – время, потехе – ча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стены помогаю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– всему делу вене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дела – меньше сл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родной край, там и ра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чил дело, гуляй смел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79440" y="1600200"/>
            <a:ext cx="722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городской пар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любим тут гуля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растут берёз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стройные и высок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ерёзах гнёзда пти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берёз легко дыша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79440" y="1600200"/>
            <a:ext cx="722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выучили букв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очень много читаю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а и Катя любят сказ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а и Вова любят стих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игах много картино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и и сказки интерес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1:46:05Z</dcterms:created>
  <dc:creator>home</dc:creator>
  <dc:description/>
  <dc:language>en-US</dc:language>
  <cp:lastModifiedBy>Admin</cp:lastModifiedBy>
  <dcterms:modified xsi:type="dcterms:W3CDTF">2013-02-27T10:26:15Z</dcterms:modified>
  <cp:revision>18</cp:revision>
  <dc:subject/>
  <dc:title> ЗРИТЕЛЬНЫЕ  ДИКТАНТЫ  ПО  ФЕДОРЕНКО И.Т.</dc:title>
</cp:coreProperties>
</file>