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663238" cy="7696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495-EEFA-4A5B-AAE6-FCE49380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07800"/>
            <a:ext cx="9594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795320"/>
            <a:ext cx="959472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449960"/>
            <a:ext cx="959472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10E0-08B3-45A9-BBBB-9A9B134B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7800"/>
            <a:ext cx="9594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95320"/>
            <a:ext cx="4682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0040" y="1795320"/>
            <a:ext cx="4682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449960"/>
            <a:ext cx="4682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0040" y="4449960"/>
            <a:ext cx="4682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FED-CCD8-4B5F-A444-FF27DF4F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07800"/>
            <a:ext cx="9594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795320"/>
            <a:ext cx="3089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7480" y="1795320"/>
            <a:ext cx="3089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21440" y="1795320"/>
            <a:ext cx="3089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449960"/>
            <a:ext cx="3089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77480" y="4449960"/>
            <a:ext cx="3089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21440" y="4449960"/>
            <a:ext cx="3089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37E-99F7-4609-8749-C8BDE5B4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07800"/>
            <a:ext cx="9594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795320"/>
            <a:ext cx="959472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305A-AF00-42A4-9CA0-5528FE94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07800"/>
            <a:ext cx="9594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795320"/>
            <a:ext cx="959472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73E-961F-4005-AF4B-0A9E5D2F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07800"/>
            <a:ext cx="9594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795320"/>
            <a:ext cx="468216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0040" y="1795320"/>
            <a:ext cx="468216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F29-141E-496B-8FE0-A5E1A1F7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7800"/>
            <a:ext cx="9594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4FE1-2FA3-49B6-8156-68A27608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07800"/>
            <a:ext cx="9594720" cy="59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7C8-C356-4623-8A90-79CBB3B7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07800"/>
            <a:ext cx="9594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795320"/>
            <a:ext cx="4682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0040" y="1795320"/>
            <a:ext cx="468216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449960"/>
            <a:ext cx="4682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7FF-2550-4DE6-A9DC-BC49B4BE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07800"/>
            <a:ext cx="9594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795320"/>
            <a:ext cx="468216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0040" y="1795320"/>
            <a:ext cx="4682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0040" y="4449960"/>
            <a:ext cx="4682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FBF-4718-432F-87E0-BC6DD749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07800"/>
            <a:ext cx="9594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795320"/>
            <a:ext cx="4682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0040" y="1795320"/>
            <a:ext cx="4682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449960"/>
            <a:ext cx="959472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DF8E-23FA-4ECA-AAD0-7915AB10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07800"/>
            <a:ext cx="959472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795320"/>
            <a:ext cx="959472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520" y="7010280"/>
            <a:ext cx="248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2840" y="7010280"/>
            <a:ext cx="3375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0640" y="7010280"/>
            <a:ext cx="248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06AE-7889-44F3-8358-566A2EB56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2390760"/>
            <a:ext cx="90612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0066"/>
                </a:solidFill>
                <a:latin typeface="Arial"/>
              </a:rPr>
              <a:t>A country hou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" descr=""/>
          <p:cNvPicPr/>
          <p:nvPr/>
        </p:nvPicPr>
        <p:blipFill>
          <a:blip r:embed="rId1"/>
          <a:stretch/>
        </p:blipFill>
        <p:spPr>
          <a:xfrm>
            <a:off x="114480" y="36360"/>
            <a:ext cx="10547280" cy="76629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08:57:56Z</dcterms:created>
  <dc:creator>User5</dc:creator>
  <dc:description/>
  <dc:language>en-US</dc:language>
  <cp:lastModifiedBy>User5</cp:lastModifiedBy>
  <dcterms:modified xsi:type="dcterms:W3CDTF">2009-01-29T08:58:00Z</dcterms:modified>
  <cp:revision>1</cp:revision>
  <dc:subject/>
  <dc:title>A country house</dc:title>
</cp:coreProperties>
</file>