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63238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07-E0D2-4D87-9182-6D03D6B2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4996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A05-281A-462A-9EA4-140AF6C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6DE-D3B0-4320-BE50-0C11C0F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748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144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748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2144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AAA-739E-402C-88A2-8C52E54C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A0A-52DE-4FE5-BFFB-2221CA1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C84-A7AD-4BD9-9AB5-137F0B2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52F-5207-4A2A-A2D3-1B9B3A77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4A5-7A55-451B-B4FB-DD9DB31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7800"/>
            <a:ext cx="959472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CEE-92F9-4A52-8341-69071EF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2DF-A0C9-47A4-9B3A-4B22C14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926-7C94-48CC-90CA-BD85B35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039-8CF8-4290-BF4F-8AAA110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7010280"/>
            <a:ext cx="248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2840" y="7010280"/>
            <a:ext cx="337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0640" y="7010280"/>
            <a:ext cx="248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B7C-BF33-412A-805B-5B8B31E9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2390760"/>
            <a:ext cx="90612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66"/>
                </a:solidFill>
                <a:latin typeface="Arial"/>
              </a:rPr>
              <a:t>A country hou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114480" y="36360"/>
            <a:ext cx="10547280" cy="7662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57:56Z</dcterms:created>
  <dc:creator>User5</dc:creator>
  <dc:description/>
  <dc:language>en-US</dc:language>
  <cp:lastModifiedBy>User5</cp:lastModifiedBy>
  <dcterms:modified xsi:type="dcterms:W3CDTF">2009-01-29T08:58:00Z</dcterms:modified>
  <cp:revision>1</cp:revision>
  <dc:subject/>
  <dc:title>A country house</dc:title>
</cp:coreProperties>
</file>