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37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3F79-205A-411D-91DB-A51FA9A9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958F-D402-4E31-B7F5-CB543659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D427-C666-406E-A8D0-CF3F273E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F1BA-485C-4458-A8C7-BFC5712E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EB70-BCAF-486B-875B-72D59B76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1629-364C-4C81-A75B-24E91F86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D305-9ABE-4D19-A79F-8F38E866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1CA8-10A7-481D-9355-AD3F70F8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BF81-E374-4C51-BDF1-EF3A5201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42B5-99B2-4FF4-8510-35EC8DCE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72B9-64AF-4CDD-94D3-161A241B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92B3-7180-4F70-B6B9-7E9DA6B4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5206-23D4-4D41-A126-C0B1EB45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3537-3A61-4D58-903D-26F78C13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7A1B-6E73-4DE3-86BC-C78E95EC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88C4-C3A9-4759-8D1F-C312749D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BB8A-9186-4237-92C5-0D4E9885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6224-680C-419B-8630-27D8ECAB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4F65-84E3-4858-9A76-1DCD0B54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DF25-A281-4006-9430-DAB76D8D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EA02-2142-42CC-BF85-E8D54DE1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0F60-DF37-4AF4-9206-E7BFA2D4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97E3-7DF2-4FDE-B413-EFF65C2C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E6D0-11AC-4A4A-B1B8-45FDF7D9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79C6-968F-4B34-AC84-14F6710E9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BF05-02DB-4244-A86A-AEBD4C80AB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allerix.ru/fullpic/6ebb37e715fa40b4b641fe5d0381012c/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Исследовательский проект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«Душа Родной земли- Саврасов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Picture 4" descr="Изображение 1622"/>
          <p:cNvPicPr/>
          <p:nvPr/>
        </p:nvPicPr>
        <p:blipFill>
          <a:blip r:embed="rId2"/>
          <a:stretch/>
        </p:blipFill>
        <p:spPr>
          <a:xfrm>
            <a:off x="4284720" y="3016080"/>
            <a:ext cx="4859280" cy="3643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3"/>
          <a:stretch/>
        </p:blipFill>
        <p:spPr>
          <a:xfrm>
            <a:off x="250920" y="0"/>
            <a:ext cx="2482920" cy="24685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3059280" y="1413000"/>
            <a:ext cx="457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Автор исследовани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елкина Екатерина Кирилл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5219640" y="2060640"/>
            <a:ext cx="457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Научный руководит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лобанова Наталия Евгень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-92880" y="2492280"/>
            <a:ext cx="35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тросян Тигран Арутюр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2852640"/>
            <a:ext cx="35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ерман Владимир Леонид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-106560" y="3213000"/>
            <a:ext cx="38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бидзе Гиоргий Владимир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-75240" y="3573360"/>
            <a:ext cx="35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абанова Диана Сундар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50920" y="4022640"/>
            <a:ext cx="3779640" cy="28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205272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Сухарева башня. 1872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ид на Московский Кремль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сна, 1873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9" descr="москва2"/>
          <p:cNvPicPr/>
          <p:nvPr/>
        </p:nvPicPr>
        <p:blipFill>
          <a:blip r:embed="rId2"/>
          <a:stretch/>
        </p:blipFill>
        <p:spPr>
          <a:xfrm>
            <a:off x="324000" y="1628640"/>
            <a:ext cx="3771720" cy="5048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москва1"/>
          <p:cNvPicPr/>
          <p:nvPr/>
        </p:nvPicPr>
        <p:blipFill>
          <a:blip r:embed="rId3"/>
          <a:stretch/>
        </p:blipFill>
        <p:spPr>
          <a:xfrm>
            <a:off x="4856040" y="2060640"/>
            <a:ext cx="36435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5414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Вид на Москву от Мазилова,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1861</a:t>
            </a: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Picture 8" descr="Вид на Москву"/>
          <p:cNvPicPr/>
          <p:nvPr/>
        </p:nvPicPr>
        <p:blipFill>
          <a:blip r:embed="rId2"/>
          <a:stretch/>
        </p:blipFill>
        <p:spPr>
          <a:xfrm>
            <a:off x="755640" y="765000"/>
            <a:ext cx="2303640" cy="15591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1521360" y="2419920"/>
            <a:ext cx="44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осиный остров в Сокольниках. 1869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11" descr="Сокольники"/>
          <p:cNvPicPr/>
          <p:nvPr/>
        </p:nvPicPr>
        <p:blipFill>
          <a:blip r:embed="rId3"/>
          <a:stretch/>
        </p:blipFill>
        <p:spPr>
          <a:xfrm>
            <a:off x="6084720" y="1557360"/>
            <a:ext cx="2743200" cy="5048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24000" y="3068640"/>
            <a:ext cx="507672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У иконы. Богомольцы. Конец 1870-х - начало 1880-х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2" name="Picture 6" descr="москва4"/>
          <p:cNvPicPr/>
          <p:nvPr/>
        </p:nvPicPr>
        <p:blipFill>
          <a:blip r:embed="rId2"/>
          <a:stretch/>
        </p:blipFill>
        <p:spPr>
          <a:xfrm>
            <a:off x="0" y="3068640"/>
            <a:ext cx="4726080" cy="334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308520" y="2349360"/>
            <a:ext cx="37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Новодевичий монастырь(189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У иконы"/>
          <p:cNvPicPr/>
          <p:nvPr/>
        </p:nvPicPr>
        <p:blipFill>
          <a:blip r:embed="rId3"/>
          <a:stretch/>
        </p:blipFill>
        <p:spPr>
          <a:xfrm>
            <a:off x="4932360" y="1484280"/>
            <a:ext cx="377208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Берег моря. Сумерки (1854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5" descr="графика2"/>
          <p:cNvPicPr/>
          <p:nvPr/>
        </p:nvPicPr>
        <p:blipFill>
          <a:blip r:embed="rId2"/>
          <a:stretch/>
        </p:blipFill>
        <p:spPr>
          <a:xfrm>
            <a:off x="468360" y="1628640"/>
            <a:ext cx="83516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ело Волынское (1887)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графика1"/>
          <p:cNvPicPr/>
          <p:nvPr/>
        </p:nvPicPr>
        <p:blipFill>
          <a:blip r:embed="rId2"/>
          <a:stretch/>
        </p:blipFill>
        <p:spPr>
          <a:xfrm>
            <a:off x="468360" y="155736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ейзаж с мельницей (1861)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граф4"/>
          <p:cNvPicPr/>
          <p:nvPr/>
        </p:nvPicPr>
        <p:blipFill>
          <a:blip r:embed="rId2"/>
          <a:stretch/>
        </p:blipFill>
        <p:spPr>
          <a:xfrm>
            <a:off x="468360" y="162864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Ученики Саврасов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аак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Левита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Сергей и Константин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Коровин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ихаил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Нестеро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i?id=244185947-29-72"/>
          <p:cNvPicPr/>
          <p:nvPr/>
        </p:nvPicPr>
        <p:blipFill>
          <a:blip r:embed="rId2"/>
          <a:stretch/>
        </p:blipFill>
        <p:spPr>
          <a:xfrm>
            <a:off x="250920" y="189000"/>
            <a:ext cx="1490400" cy="194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2-256-01"/>
          <p:cNvPicPr/>
          <p:nvPr/>
        </p:nvPicPr>
        <p:blipFill>
          <a:blip r:embed="rId3"/>
          <a:stretch/>
        </p:blipFill>
        <p:spPr>
          <a:xfrm>
            <a:off x="6227640" y="2924280"/>
            <a:ext cx="2473560" cy="321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18657"/>
          <p:cNvPicPr/>
          <p:nvPr/>
        </p:nvPicPr>
        <p:blipFill>
          <a:blip r:embed="rId4"/>
          <a:stretch/>
        </p:blipFill>
        <p:spPr>
          <a:xfrm>
            <a:off x="2627280" y="3860640"/>
            <a:ext cx="1792440" cy="23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Список музее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ижнетагильский художественный музей изобразительных искусст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мская художественная галере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аганрогская картинная галере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лтайский музей изобразительных искусств, Барнау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ладимиро-Суздальский музей-заповедни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есский Государственный историко-архитектурный и художественный музей-заповедни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аратовский художественный муз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Ярославский художественный муз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ронежский областной художественный муз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осударственный Исторический музей, Моск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осударственный Литературный музей, Моск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осударственное музыкальное объединение "Художественная культура Русского Севера", Архангельс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осударственный музей Республики Татарстан, Казан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осударственный музей искусств Республики Казахстан, Алма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осударственный музей-заповедник Ростовский Кремл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осударственный театральный музей имени А.А. Бахруши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осударственный художественный музей им. М.В. Нестерова, Уф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осударственный художественный музей искусств Узбекистана, Ташкен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катеринбургский музей изобразительных искусст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вановское объединение художественных музее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лужский областной художественный муз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десский художественный муз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ренбургский областной музей изобразительных искусст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нзенская областная картинная галерея имени К. А. Савицко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сковский музей-заповедни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товский областной музей изобразительных искусст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язанский областной художественный муз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вастопольский художественный муз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рпуховский художественно-исторический муз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ульский областной художественный муз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льяновский художественный муз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860.1897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2" name="Picture 4" descr="фото3"/>
          <p:cNvPicPr/>
          <p:nvPr/>
        </p:nvPicPr>
        <p:blipFill>
          <a:blip r:embed="rId2"/>
          <a:stretch/>
        </p:blipFill>
        <p:spPr>
          <a:xfrm>
            <a:off x="900000" y="1484280"/>
            <a:ext cx="3284640" cy="4824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фото4"/>
          <p:cNvPicPr/>
          <p:nvPr/>
        </p:nvPicPr>
        <p:blipFill>
          <a:blip r:embed="rId3"/>
          <a:stretch/>
        </p:blipFill>
        <p:spPr>
          <a:xfrm>
            <a:off x="4356000" y="1413000"/>
            <a:ext cx="415764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870. 1860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5" name="Picture 4" descr="фото1"/>
          <p:cNvPicPr/>
          <p:nvPr/>
        </p:nvPicPr>
        <p:blipFill>
          <a:blip r:embed="rId2"/>
          <a:stretch/>
        </p:blipFill>
        <p:spPr>
          <a:xfrm>
            <a:off x="971640" y="1557360"/>
            <a:ext cx="3425760" cy="4680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фото2"/>
          <p:cNvPicPr/>
          <p:nvPr/>
        </p:nvPicPr>
        <p:blipFill>
          <a:blip r:embed="rId3"/>
          <a:stretch/>
        </p:blipFill>
        <p:spPr>
          <a:xfrm>
            <a:off x="4716360" y="1557360"/>
            <a:ext cx="363060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Часть 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Айвазовский Иван Константинович.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3324240" cy="44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Карл Иванович Рабус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карл иваныч рабус28001857"/>
          <p:cNvPicPr/>
          <p:nvPr/>
        </p:nvPicPr>
        <p:blipFill>
          <a:blip r:embed="rId2"/>
          <a:stretch/>
        </p:blipFill>
        <p:spPr>
          <a:xfrm>
            <a:off x="5221440" y="1557360"/>
            <a:ext cx="3600360" cy="5040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5"/>
          <p:cNvSpPr/>
          <p:nvPr/>
        </p:nvSpPr>
        <p:spPr>
          <a:xfrm>
            <a:off x="-250560" y="3899880"/>
            <a:ext cx="336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24000" y="45979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468360" y="21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 Самое важное дл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йзажиста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меть «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видеть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» прир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еров Василий Григорьевич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6" name="Rectangle 3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3170520" cy="4114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187280" y="1989000"/>
            <a:ext cx="269568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782360" cy="729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"Пейзаж с рекой и рыбаком".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258920" y="1268280"/>
            <a:ext cx="6810480" cy="479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Камень в лесу у «Разлива»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(1850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7201080" cy="48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Вид на Кремль в ненастную погоду (1851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7" name="Picture 4" descr="вид на кремль"/>
          <p:cNvPicPr/>
          <p:nvPr/>
        </p:nvPicPr>
        <p:blipFill>
          <a:blip r:embed="rId2"/>
          <a:stretch/>
        </p:blipFill>
        <p:spPr>
          <a:xfrm>
            <a:off x="1332000" y="1844640"/>
            <a:ext cx="640872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Грачи прилетели.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1871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9" name="" descr="грачи"/>
          <p:cNvPicPr/>
          <p:nvPr/>
        </p:nvPicPr>
        <p:blipFill>
          <a:blip r:embed="rId2"/>
          <a:stretch/>
        </p:blipFill>
        <p:spPr>
          <a:xfrm>
            <a:off x="2496960" y="1484280"/>
            <a:ext cx="412452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Весна. Грачи прилетели.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1872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весна"/>
          <p:cNvPicPr/>
          <p:nvPr/>
        </p:nvPicPr>
        <p:blipFill>
          <a:blip r:embed="rId2"/>
          <a:stretch/>
        </p:blipFill>
        <p:spPr>
          <a:xfrm>
            <a:off x="250920" y="1700280"/>
            <a:ext cx="8675640" cy="49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рачи прилетели.(1879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4" name="Picture 4" descr="грачи2"/>
          <p:cNvPicPr/>
          <p:nvPr/>
        </p:nvPicPr>
        <p:blipFill>
          <a:blip r:embed="rId2"/>
          <a:stretch/>
        </p:blipFill>
        <p:spPr>
          <a:xfrm>
            <a:off x="2484360" y="1413000"/>
            <a:ext cx="392760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Цель исследов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94400" indent="-19440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c00"/>
                </a:solidFill>
                <a:latin typeface="Tahoma"/>
              </a:rPr>
              <a:t>Изучение творчества художник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194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194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ccff"/>
                </a:solidFill>
                <a:uFillTx/>
                <a:latin typeface="Tahoma"/>
              </a:rPr>
              <a:t>Задачи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194400" indent="-19440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сследование периодов жизни А.К.Саврасова, чтобы понять какое влияние на творчество художника оказали люди его окружающие, политические события происходящие в стране, семья и его величество случай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194400" indent="-19440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зучение картин художника о Москве,  мой город в 19 веке глазами великого пейзажист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194400" indent="-19440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Раскрытие богатства его творчества, особенно мало известных направлени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194400" indent="-19440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зучение роли А.К.Саврасова как учителя и наставник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194400" indent="-19440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равнение разных источников информации и нахождение новых малоизвестных материалов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194400" indent="-19440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лучение  полного представление о деятельности художника и его наследи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194400" indent="-19440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бзор художественных музеев и картинных галерей, в которых можно увидеть работы А.К.Саврасов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194400" indent="-19440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ткрытие Саврасова как график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Грачи прилетели (1880). Повеяло весной(1890)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6" name="Picture 4" descr="грачи5"/>
          <p:cNvPicPr/>
          <p:nvPr/>
        </p:nvPicPr>
        <p:blipFill>
          <a:blip r:embed="rId2"/>
          <a:stretch/>
        </p:blipFill>
        <p:spPr>
          <a:xfrm>
            <a:off x="1116000" y="1628640"/>
            <a:ext cx="2735280" cy="4537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грачи4"/>
          <p:cNvPicPr/>
          <p:nvPr/>
        </p:nvPicPr>
        <p:blipFill>
          <a:blip r:embed="rId3"/>
          <a:stretch/>
        </p:blipFill>
        <p:spPr>
          <a:xfrm>
            <a:off x="5207040" y="1628640"/>
            <a:ext cx="33274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Алексей Кондратьевич Саврасов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830-1897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2205000"/>
            <a:ext cx="56516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Земля ведь рай, и жизнь на ней - тайна, прекрасная тайна. Прославляйте жизнь. Художник - тот же поэт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5" descr="Сав"/>
          <p:cNvPicPr/>
          <p:nvPr/>
        </p:nvPicPr>
        <p:blipFill>
          <a:blip r:embed="rId2"/>
          <a:stretch/>
        </p:blipFill>
        <p:spPr>
          <a:xfrm>
            <a:off x="5724360" y="1989000"/>
            <a:ext cx="3227400" cy="46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4760" y="-171360"/>
            <a:ext cx="8229600" cy="13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Хронология жизн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1830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12 (24) мая - родился в семье московского мещанина Кондратия Артемьевича Саврасова (до середины 1850-х годов подписывал свои картины как А. Соврасовъ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1844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- А. Саврасов поступает в московское Училище живописи и ваяния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1848-1850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- вновь учится в Московском училище живописи и ваяния (МУЖВ) по классу пейзажной живописи у К.И. Рабус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1850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- удостоен звания неклассного художника за "Вид Московского Кремля при луне"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185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- пишет картины на основе впечатлений от поездок на юг России: "Степь днем", "Рассвет в степи"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1857-188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- руководит пейзажным классом в Московском училище живописи, ваяния и зодчеств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1860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- Посещает Францию, Швейцарию и Германию. Пишет картину "Вид в швейцарских Альпах близ Интерлакена"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1866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- Получает звание надворного советника. Посещает Швейцарию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1867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- поездка во Францию на Всемирную выставку в Париже. Катина "Сельский вид"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1868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- Награжден орденом Святой Анны 3-й степен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1869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- Картина "Лосиный остров в Сокольниках". Участвует в создании Товарищества передвижных художественных выставок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1871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- Пишет картину "Грачи прилетели". Участие на первой выставке Товарищества передвижных художественных выставок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188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- Уволен из Московского училища живописи, ваяния и зодчества. 1882 - Разрыв семейных отношений. Саврасов ведет скитальческую жизнь, терпя нищету и болезн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1897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26 сентября (8 октября) - умер в Москве, во 2-й городской больнице, в отделении для бедны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Товарищество Передвижных Художественных Выставок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является ключевой вехой в развитии русского искусства.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Picture 5" descr="banner"/>
          <p:cNvPicPr/>
          <p:nvPr/>
        </p:nvPicPr>
        <p:blipFill>
          <a:blip r:embed="rId2"/>
          <a:stretch/>
        </p:blipFill>
        <p:spPr>
          <a:xfrm>
            <a:off x="755640" y="3645000"/>
            <a:ext cx="7696080" cy="12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Товарищество Передвижных Художественных Выставок"/>
          <p:cNvPicPr/>
          <p:nvPr/>
        </p:nvPicPr>
        <p:blipFill>
          <a:blip r:embed="rId2"/>
          <a:stretch/>
        </p:blipFill>
        <p:spPr>
          <a:xfrm>
            <a:off x="539640" y="620640"/>
            <a:ext cx="8267760" cy="526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Карл Иванович Рабус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учитель Саврасова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карл иваныч рабус28001857"/>
          <p:cNvPicPr/>
          <p:nvPr/>
        </p:nvPicPr>
        <p:blipFill>
          <a:blip r:embed="rId2"/>
          <a:stretch/>
        </p:blipFill>
        <p:spPr>
          <a:xfrm>
            <a:off x="5580000" y="2060640"/>
            <a:ext cx="3241800" cy="45370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-250560" y="3899880"/>
            <a:ext cx="336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24000" y="4049280"/>
            <a:ext cx="49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то время пейзаж так и назывался -"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видописани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"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468360" y="21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Самое важное дл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йзажиста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меть «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видеть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» природу.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Вид московского Кремля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Picture 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1557360"/>
            <a:ext cx="7354800" cy="4935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1:52:10Z</dcterms:created>
  <dc:creator>Катерина</dc:creator>
  <dc:description/>
  <dc:language>en-US</dc:language>
  <cp:lastModifiedBy>Serg</cp:lastModifiedBy>
  <dcterms:modified xsi:type="dcterms:W3CDTF">2013-02-28T12:07:19Z</dcterms:modified>
  <cp:revision>50</cp:revision>
  <dc:subject/>
  <dc:title>Алексей Кондратьевич Саврасов</dc:title>
</cp:coreProperties>
</file>