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255-AEA7-4259-BA49-9A40101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F77-D388-4116-8D98-906D292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908-591C-4171-A990-9CA96F14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43B-4358-4A33-9F25-BBFE0B07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8FF-6FA4-4DA4-8F81-CC98CF22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429F-CC99-4FEA-8B7E-85D1C38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1EE-EDC1-4292-99A2-948B44C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5F02-7400-4CAA-91B0-D6F8CD29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B7D-5D32-44EC-AB32-49528FFC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6A6D-3436-4B0D-A12D-0923B0C1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EE19-63DB-42A0-8F32-A490148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FE1-1ADA-4C48-8483-D1F323BA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FE6D-4CF5-4B37-8B49-4993140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E48-DCEC-4F56-B164-5C1C364F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AE9-2C2E-4C58-999F-7027875E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54EB-6A0A-4139-AE6D-D46927DF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F5D9-940C-4608-97CD-DEC76E77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D80-76F3-4518-8B95-8FCEE1F9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224-4D93-4870-8491-E172F3B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A19-6526-407F-8024-2FE37A69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4E6-F9C6-4C4F-8A21-F3050D74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E52-F459-4101-A396-41CDD66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336-0950-451E-B714-98E2157F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AA7-2ADF-42AA-BC13-8D72773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A5D-27A0-4D64-8BFB-F4BEF63D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167-38A8-4D22-802B-8EEFF513E7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llerix.ru/fullpic/6ebb37e715fa40b4b641fe5d0381012c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следовательский проект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«Душа Родной земли- Саврасов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Изображение 1622"/>
          <p:cNvPicPr/>
          <p:nvPr/>
        </p:nvPicPr>
        <p:blipFill>
          <a:blip r:embed="rId2"/>
          <a:stretch/>
        </p:blipFill>
        <p:spPr>
          <a:xfrm>
            <a:off x="4284720" y="301608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250920" y="0"/>
            <a:ext cx="2482920" cy="24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59280" y="14130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Автор исследова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лкина Екатерина Кирил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219640" y="206064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обанова Наталия Евген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-92880" y="249228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тросян Тигран Арутю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526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рман Владимир Леонид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106560" y="3213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бидзе Гиоргий Владими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-75240" y="357336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банова Диана Сунда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0920" y="4022640"/>
            <a:ext cx="377964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05272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Сухарева башня. 187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д на Московский Кремл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сна, 187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москва2"/>
          <p:cNvPicPr/>
          <p:nvPr/>
        </p:nvPicPr>
        <p:blipFill>
          <a:blip r:embed="rId2"/>
          <a:stretch/>
        </p:blipFill>
        <p:spPr>
          <a:xfrm>
            <a:off x="324000" y="1628640"/>
            <a:ext cx="3771720" cy="504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москва1"/>
          <p:cNvPicPr/>
          <p:nvPr/>
        </p:nvPicPr>
        <p:blipFill>
          <a:blip r:embed="rId3"/>
          <a:stretch/>
        </p:blipFill>
        <p:spPr>
          <a:xfrm>
            <a:off x="4856040" y="2060640"/>
            <a:ext cx="36435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5414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ид на Москву от Мазилова,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1861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8" descr="Вид на Москву"/>
          <p:cNvPicPr/>
          <p:nvPr/>
        </p:nvPicPr>
        <p:blipFill>
          <a:blip r:embed="rId2"/>
          <a:stretch/>
        </p:blipFill>
        <p:spPr>
          <a:xfrm>
            <a:off x="755640" y="765000"/>
            <a:ext cx="2303640" cy="1559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1521360" y="2419920"/>
            <a:ext cx="44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синый остров в Сокольниках. 186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1" descr="Сокольники"/>
          <p:cNvPicPr/>
          <p:nvPr/>
        </p:nvPicPr>
        <p:blipFill>
          <a:blip r:embed="rId3"/>
          <a:stretch/>
        </p:blipFill>
        <p:spPr>
          <a:xfrm>
            <a:off x="6084720" y="1557360"/>
            <a:ext cx="2743200" cy="504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507672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 иконы. Богомольцы. Конец 1870-х - начало 1880-х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Picture 6" descr="москва4"/>
          <p:cNvPicPr/>
          <p:nvPr/>
        </p:nvPicPr>
        <p:blipFill>
          <a:blip r:embed="rId2"/>
          <a:stretch/>
        </p:blipFill>
        <p:spPr>
          <a:xfrm>
            <a:off x="0" y="3068640"/>
            <a:ext cx="4726080" cy="334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08520" y="234936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Новодевичий монастырь(189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У иконы"/>
          <p:cNvPicPr/>
          <p:nvPr/>
        </p:nvPicPr>
        <p:blipFill>
          <a:blip r:embed="rId3"/>
          <a:stretch/>
        </p:blipFill>
        <p:spPr>
          <a:xfrm>
            <a:off x="4932360" y="1484280"/>
            <a:ext cx="377208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ерег моря. Сумерки (1854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графика2"/>
          <p:cNvPicPr/>
          <p:nvPr/>
        </p:nvPicPr>
        <p:blipFill>
          <a:blip r:embed="rId2"/>
          <a:stretch/>
        </p:blipFill>
        <p:spPr>
          <a:xfrm>
            <a:off x="468360" y="1628640"/>
            <a:ext cx="8351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ело Волынское (1887)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графика1"/>
          <p:cNvPicPr/>
          <p:nvPr/>
        </p:nvPicPr>
        <p:blipFill>
          <a:blip r:embed="rId2"/>
          <a:stretch/>
        </p:blipFill>
        <p:spPr>
          <a:xfrm>
            <a:off x="468360" y="155736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йзаж с мельницей (1861)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граф4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ченики Саврас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аак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Левита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Сергей и Константи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Коровин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хаил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Нестер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i?id=244185947-29-72"/>
          <p:cNvPicPr/>
          <p:nvPr/>
        </p:nvPicPr>
        <p:blipFill>
          <a:blip r:embed="rId2"/>
          <a:stretch/>
        </p:blipFill>
        <p:spPr>
          <a:xfrm>
            <a:off x="250920" y="189000"/>
            <a:ext cx="149040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-256-01"/>
          <p:cNvPicPr/>
          <p:nvPr/>
        </p:nvPicPr>
        <p:blipFill>
          <a:blip r:embed="rId3"/>
          <a:stretch/>
        </p:blipFill>
        <p:spPr>
          <a:xfrm>
            <a:off x="6227640" y="2924280"/>
            <a:ext cx="2473560" cy="321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8657"/>
          <p:cNvPicPr/>
          <p:nvPr/>
        </p:nvPicPr>
        <p:blipFill>
          <a:blip r:embed="rId4"/>
          <a:stretch/>
        </p:blipFill>
        <p:spPr>
          <a:xfrm>
            <a:off x="2627280" y="3860640"/>
            <a:ext cx="17924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писок музе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нетагильский художественны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мская художественная галере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ганрогская картинная галере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тайский музей изобразительных искусств, Барнау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адимиро-Суздальский музей-заповед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есский Государственный историко-архитектурный и художественный музей-заповед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ратов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рослав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ронеж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Исторический музей, Моск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Литературный музей, Моск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ое музыкальное объединение "Художественная культура Русского Севера", Архангель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музей Республики Татарстан, Казан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музей искусств Республики Казахстан, Алм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музей-заповедник Ростовский Крем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театральный музей имени А.А. Бахруши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художественный музей им. М.В. Нестерова, Уф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сударственный художественный музей искусств Узбекистана, Ташк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катеринбургски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вановское объединение художественных музее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луж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ес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енбургский областно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нзенская областная картинная галерея имени К. А. Савицк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сковский музей-заповед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овский областной музей изобразительных искус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язан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вастополь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рпуховский художественно-исторически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ульский областно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льяновский художественный му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860.1897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Picture 4" descr="фото3"/>
          <p:cNvPicPr/>
          <p:nvPr/>
        </p:nvPicPr>
        <p:blipFill>
          <a:blip r:embed="rId2"/>
          <a:stretch/>
        </p:blipFill>
        <p:spPr>
          <a:xfrm>
            <a:off x="900000" y="1484280"/>
            <a:ext cx="3284640" cy="48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фото4"/>
          <p:cNvPicPr/>
          <p:nvPr/>
        </p:nvPicPr>
        <p:blipFill>
          <a:blip r:embed="rId3"/>
          <a:stretch/>
        </p:blipFill>
        <p:spPr>
          <a:xfrm>
            <a:off x="4356000" y="1413000"/>
            <a:ext cx="4157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870. 1860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4" descr="фото1"/>
          <p:cNvPicPr/>
          <p:nvPr/>
        </p:nvPicPr>
        <p:blipFill>
          <a:blip r:embed="rId2"/>
          <a:stretch/>
        </p:blipFill>
        <p:spPr>
          <a:xfrm>
            <a:off x="971640" y="1557360"/>
            <a:ext cx="3425760" cy="468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фото2"/>
          <p:cNvPicPr/>
          <p:nvPr/>
        </p:nvPicPr>
        <p:blipFill>
          <a:blip r:embed="rId3"/>
          <a:stretch/>
        </p:blipFill>
        <p:spPr>
          <a:xfrm>
            <a:off x="4716360" y="1557360"/>
            <a:ext cx="36306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асть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йвазовский Иван Константинович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2424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л Иванович Рабус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карл иваныч рабус28001857"/>
          <p:cNvPicPr/>
          <p:nvPr/>
        </p:nvPicPr>
        <p:blipFill>
          <a:blip r:embed="rId2"/>
          <a:stretch/>
        </p:blipFill>
        <p:spPr>
          <a:xfrm>
            <a:off x="5221440" y="1557360"/>
            <a:ext cx="3600360" cy="5040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-250560" y="389988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4000" y="45979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6836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 Самое важное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йзажиста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ть «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виде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 прир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ов Василий Григорьевич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Rectangle 3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17052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26956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82360" cy="72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"Пейзаж с рекой и рыбаком".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81048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мень в лесу у «Разлива»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1850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20108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ид на Кремль в ненастную погоду (185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7" name="Picture 4" descr="вид на кремль"/>
          <p:cNvPicPr/>
          <p:nvPr/>
        </p:nvPicPr>
        <p:blipFill>
          <a:blip r:embed="rId2"/>
          <a:stretch/>
        </p:blipFill>
        <p:spPr>
          <a:xfrm>
            <a:off x="1332000" y="1844640"/>
            <a:ext cx="6408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рачи прилетели.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1871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9" name="" descr="грачи"/>
          <p:cNvPicPr/>
          <p:nvPr/>
        </p:nvPicPr>
        <p:blipFill>
          <a:blip r:embed="rId2"/>
          <a:stretch/>
        </p:blipFill>
        <p:spPr>
          <a:xfrm>
            <a:off x="2496960" y="1484280"/>
            <a:ext cx="41245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есна. Грачи прилетели.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187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весна"/>
          <p:cNvPicPr/>
          <p:nvPr/>
        </p:nvPicPr>
        <p:blipFill>
          <a:blip r:embed="rId2"/>
          <a:stretch/>
        </p:blipFill>
        <p:spPr>
          <a:xfrm>
            <a:off x="250920" y="1700280"/>
            <a:ext cx="867564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рачи прилетели.(1879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4" name="Picture 4" descr="грачи2"/>
          <p:cNvPicPr/>
          <p:nvPr/>
        </p:nvPicPr>
        <p:blipFill>
          <a:blip r:embed="rId2"/>
          <a:stretch/>
        </p:blipFill>
        <p:spPr>
          <a:xfrm>
            <a:off x="2484360" y="1413000"/>
            <a:ext cx="39276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ahoma"/>
              </a:rPr>
              <a:t>Изучение творчества художни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ние периодов жизни А.К.Саврасова, чтобы понять какое влияние на творчество художника оказали люди его окружающие, политические события происходящие в стране, семья и его величество случа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чение картин художника о Москве,  мой город в 19 веке глазами великого пейзажис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крытие богатства его творчества, особенно мало известных направлен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чение роли А.К.Саврасова как учителя и наставни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равнение разных источников информации и нахождение новых малоизвестных материало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 полного представление о деятельности художника и его наследи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зор художественных музеев и картинных галерей, в которых можно увидеть работы А.К.Саврасов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194400" indent="-1944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крытие Саврасова как графи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рачи прилетели (1880). Повеяло весной(1890)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6" name="Picture 4" descr="грачи5"/>
          <p:cNvPicPr/>
          <p:nvPr/>
        </p:nvPicPr>
        <p:blipFill>
          <a:blip r:embed="rId2"/>
          <a:stretch/>
        </p:blipFill>
        <p:spPr>
          <a:xfrm>
            <a:off x="1116000" y="1628640"/>
            <a:ext cx="2735280" cy="4537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грачи4"/>
          <p:cNvPicPr/>
          <p:nvPr/>
        </p:nvPicPr>
        <p:blipFill>
          <a:blip r:embed="rId3"/>
          <a:stretch/>
        </p:blipFill>
        <p:spPr>
          <a:xfrm>
            <a:off x="5207040" y="1628640"/>
            <a:ext cx="33274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лексей Кондратьевич Саврасов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830-1897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565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Земля ведь рай, и жизнь на ней - тайна, прекрасная тайна. Прославляйте жизнь. Художник - тот же поэт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Сав"/>
          <p:cNvPicPr/>
          <p:nvPr/>
        </p:nvPicPr>
        <p:blipFill>
          <a:blip r:embed="rId2"/>
          <a:stretch/>
        </p:blipFill>
        <p:spPr>
          <a:xfrm>
            <a:off x="5724360" y="1989000"/>
            <a:ext cx="32274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760" y="-17136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Хронология жиз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3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12 (24) мая - родился в семье московского мещанина Кондратия Артемьевича Саврасова (до середины 1850-х годов подписывал свои картины как А. Соврасовъ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4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А. Саврасов поступает в московское Училище живописи и ваяни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48-185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вновь учится в Московском училище живописи и ваяния (МУЖВ) по классу пейзажной живописи у К.И. Рабус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5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удостоен звания неклассного художника за "Вид Московского Кремля при луне"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5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ишет картины на основе впечатлений от поездок на юг России: "Степь днем", "Рассвет в степи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57-188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руководит пейзажным классом в Московском училище живописи, ваяния и зодче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осещает Францию, Швейцарию и Германию. Пишет картину "Вид в швейцарских Альпах близ Интерлакена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6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олучает звание надворного советника. Посещает Швейцар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7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оездка во Францию на Всемирную выставку в Париже. Катина "Сельский вид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Награжден орденом Святой Анны 3-й степе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6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Картина "Лосиный остров в Сокольниках". Участвует в создании Товарищества передвижных художественных выставо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7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Пишет картину "Грачи прилетели". Участие на первой выставке Товарищества передвижных художественных выставо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8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Уволен из Московского училища живописи, ваяния и зодчества. 1882 - Разрыв семейных отношений. Саврасов ведет скитальческую жизнь, терпя нищету и болез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ahoma"/>
              </a:rPr>
              <a:t>1897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26 сентября (8 октября) - умер в Москве, во 2-й городской больнице, в отделении для бедн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Товарищество Передвижных Художественных Выставок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является ключевой вехой в развитии русского искусства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Picture 5" descr="banner"/>
          <p:cNvPicPr/>
          <p:nvPr/>
        </p:nvPicPr>
        <p:blipFill>
          <a:blip r:embed="rId2"/>
          <a:stretch/>
        </p:blipFill>
        <p:spPr>
          <a:xfrm>
            <a:off x="755640" y="3645000"/>
            <a:ext cx="769608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оварищество Передвижных Художественных Выставок"/>
          <p:cNvPicPr/>
          <p:nvPr/>
        </p:nvPicPr>
        <p:blipFill>
          <a:blip r:embed="rId2"/>
          <a:stretch/>
        </p:blipFill>
        <p:spPr>
          <a:xfrm>
            <a:off x="539640" y="620640"/>
            <a:ext cx="82677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арл Иванович Рабус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читель Саврасов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карл иваныч рабус28001857"/>
          <p:cNvPicPr/>
          <p:nvPr/>
        </p:nvPicPr>
        <p:blipFill>
          <a:blip r:embed="rId2"/>
          <a:stretch/>
        </p:blipFill>
        <p:spPr>
          <a:xfrm>
            <a:off x="5580000" y="2060640"/>
            <a:ext cx="3241800" cy="4537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-250560" y="3899880"/>
            <a:ext cx="33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4000" y="40492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то время пейзаж так и назывался -"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идопис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68360" y="21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Самое важное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йзажиста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меть «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виде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 природу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ид московского Кремля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557360"/>
            <a:ext cx="7354800" cy="493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52:10Z</dcterms:created>
  <dc:creator>Катерина</dc:creator>
  <dc:description/>
  <dc:language>en-US</dc:language>
  <cp:lastModifiedBy>Serg</cp:lastModifiedBy>
  <dcterms:modified xsi:type="dcterms:W3CDTF">2013-02-28T12:07:19Z</dcterms:modified>
  <cp:revision>50</cp:revision>
  <dc:subject/>
  <dc:title>Алексей Кондратьевич Саврасов</dc:title>
</cp:coreProperties>
</file>