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588250" cy="5356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02B-653B-4391-B350-A822627F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682956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9080" y="3097800"/>
            <a:ext cx="682956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473-F0EA-41D7-99F6-E5E795CB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7864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E1B-7C1E-46DE-B630-4DC277C5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88120" y="12510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7520" y="12510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9080" y="30978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88120" y="30978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7520" y="3097800"/>
            <a:ext cx="2198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D57-DFC1-4F1D-852F-1DBFE3B0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9080" y="1251000"/>
            <a:ext cx="6829560" cy="35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0AB-D83C-45BB-95AE-31525CD8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682956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24B-17E6-46E0-9E10-4CFC77F6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07E-B52D-4EE8-B108-D4726E2A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48F-87DF-4FA7-91FA-AFA2904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080" y="213840"/>
            <a:ext cx="682956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C31-EDCD-42A2-8F61-BB6D4D14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908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29C-D417-4E03-B8C0-925432A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8640" y="30978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484-8E22-4121-A11A-F2C1B1B1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908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78640" y="1251000"/>
            <a:ext cx="33325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9080" y="3097800"/>
            <a:ext cx="682956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80D-DAB6-4806-8B43-9BEA35B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9080" y="213840"/>
            <a:ext cx="68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9080" y="1251000"/>
            <a:ext cx="682956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9080" y="4878360"/>
            <a:ext cx="177012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2360" y="4878360"/>
            <a:ext cx="240336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4878360"/>
            <a:ext cx="177012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025-B1A7-4CC0-82F0-C4C080FB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" descr=""/>
          <p:cNvPicPr/>
          <p:nvPr/>
        </p:nvPicPr>
        <p:blipFill>
          <a:blip r:embed="rId1"/>
          <a:stretch/>
        </p:blipFill>
        <p:spPr>
          <a:xfrm>
            <a:off x="0" y="1382760"/>
            <a:ext cx="3433680" cy="2376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2" name="picture" descr=""/>
          <p:cNvPicPr/>
          <p:nvPr/>
        </p:nvPicPr>
        <p:blipFill>
          <a:blip r:embed="rId2"/>
          <a:stretch/>
        </p:blipFill>
        <p:spPr>
          <a:xfrm>
            <a:off x="3794040" y="158760"/>
            <a:ext cx="2851200" cy="223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3" name="picture" descr=""/>
          <p:cNvPicPr/>
          <p:nvPr/>
        </p:nvPicPr>
        <p:blipFill>
          <a:blip r:embed="rId3"/>
          <a:stretch/>
        </p:blipFill>
        <p:spPr>
          <a:xfrm>
            <a:off x="3794040" y="2535120"/>
            <a:ext cx="3768840" cy="244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122400" y="1598760"/>
            <a:ext cx="3338280" cy="207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5" name="picture" descr=""/>
          <p:cNvPicPr/>
          <p:nvPr/>
        </p:nvPicPr>
        <p:blipFill>
          <a:blip r:embed="rId2"/>
          <a:stretch/>
        </p:blipFill>
        <p:spPr>
          <a:xfrm>
            <a:off x="3649680" y="0"/>
            <a:ext cx="3744720" cy="2319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6" name="picture" descr=""/>
          <p:cNvPicPr/>
          <p:nvPr/>
        </p:nvPicPr>
        <p:blipFill>
          <a:blip r:embed="rId3"/>
          <a:stretch/>
        </p:blipFill>
        <p:spPr>
          <a:xfrm>
            <a:off x="3578400" y="2895480"/>
            <a:ext cx="4009680" cy="2087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0" y="1670040"/>
            <a:ext cx="3649680" cy="24145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8" name="picture" descr=""/>
          <p:cNvPicPr/>
          <p:nvPr/>
        </p:nvPicPr>
        <p:blipFill>
          <a:blip r:embed="rId2"/>
          <a:stretch/>
        </p:blipFill>
        <p:spPr>
          <a:xfrm>
            <a:off x="3556080" y="2822400"/>
            <a:ext cx="4032000" cy="2305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70360" y="1251000"/>
            <a:ext cx="3338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2:27Z</dcterms:created>
  <dc:creator>User5</dc:creator>
  <dc:description/>
  <dc:language>en-US</dc:language>
  <cp:lastModifiedBy>User5</cp:lastModifiedBy>
  <dcterms:modified xsi:type="dcterms:W3CDTF">2008-11-18T08:04:12Z</dcterms:modified>
  <cp:revision>3</cp:revision>
  <dc:subject/>
  <dc:title>Слайд 1</dc:title>
</cp:coreProperties>
</file>