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588250" cy="5356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911-7657-4624-8CB0-B9534F0C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682956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9080" y="3097800"/>
            <a:ext cx="682956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CE1-F043-4B7F-85AD-214922B7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7864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30978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78640" y="30978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007-8427-4635-88D5-8A646339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88120" y="12510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97520" y="12510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9080" y="30978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88120" y="30978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97520" y="30978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D0D-FBFC-4B9F-B57F-A4B123CC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9080" y="1251000"/>
            <a:ext cx="6829560" cy="35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8E6-4AB7-430B-947C-E6806F48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682956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6EA-9FAC-4C16-9B10-D3E7ECB8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33325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78640" y="1251000"/>
            <a:ext cx="33325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00A-6883-416B-98CD-76114480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E39-D688-43A1-A81B-28E868B3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080" y="213840"/>
            <a:ext cx="682956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1B2-3BAA-4E4D-94A0-3A318BB8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78640" y="1251000"/>
            <a:ext cx="33325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9080" y="30978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5C0-2F1E-48E8-8687-E29D2641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33325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7864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8640" y="30978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645-DCE2-4CC3-85E0-23BCAD6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7864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9080" y="3097800"/>
            <a:ext cx="682956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BFE-BD6A-4479-8DD3-7CF28F00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9080" y="1251000"/>
            <a:ext cx="682956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9080" y="4878360"/>
            <a:ext cx="177012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2360" y="4878360"/>
            <a:ext cx="240336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520" y="4878360"/>
            <a:ext cx="177012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24E0-20E8-479A-A80E-9A575D5A5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" descr=""/>
          <p:cNvPicPr/>
          <p:nvPr/>
        </p:nvPicPr>
        <p:blipFill>
          <a:blip r:embed="rId1"/>
          <a:stretch/>
        </p:blipFill>
        <p:spPr>
          <a:xfrm>
            <a:off x="0" y="1382760"/>
            <a:ext cx="3433680" cy="2376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2" name="picture" descr=""/>
          <p:cNvPicPr/>
          <p:nvPr/>
        </p:nvPicPr>
        <p:blipFill>
          <a:blip r:embed="rId2"/>
          <a:stretch/>
        </p:blipFill>
        <p:spPr>
          <a:xfrm>
            <a:off x="3794040" y="158760"/>
            <a:ext cx="2851200" cy="223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3" name="picture" descr=""/>
          <p:cNvPicPr/>
          <p:nvPr/>
        </p:nvPicPr>
        <p:blipFill>
          <a:blip r:embed="rId3"/>
          <a:stretch/>
        </p:blipFill>
        <p:spPr>
          <a:xfrm>
            <a:off x="3794040" y="2535120"/>
            <a:ext cx="3768840" cy="244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" descr=""/>
          <p:cNvPicPr/>
          <p:nvPr/>
        </p:nvPicPr>
        <p:blipFill>
          <a:blip r:embed="rId1"/>
          <a:stretch/>
        </p:blipFill>
        <p:spPr>
          <a:xfrm>
            <a:off x="122400" y="1598760"/>
            <a:ext cx="3338280" cy="207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5" name="picture" descr=""/>
          <p:cNvPicPr/>
          <p:nvPr/>
        </p:nvPicPr>
        <p:blipFill>
          <a:blip r:embed="rId2"/>
          <a:stretch/>
        </p:blipFill>
        <p:spPr>
          <a:xfrm>
            <a:off x="3649680" y="0"/>
            <a:ext cx="3744720" cy="2319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6" name="picture" descr=""/>
          <p:cNvPicPr/>
          <p:nvPr/>
        </p:nvPicPr>
        <p:blipFill>
          <a:blip r:embed="rId3"/>
          <a:stretch/>
        </p:blipFill>
        <p:spPr>
          <a:xfrm>
            <a:off x="3578400" y="2895480"/>
            <a:ext cx="4009680" cy="2087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" descr=""/>
          <p:cNvPicPr/>
          <p:nvPr/>
        </p:nvPicPr>
        <p:blipFill>
          <a:blip r:embed="rId1"/>
          <a:stretch/>
        </p:blipFill>
        <p:spPr>
          <a:xfrm>
            <a:off x="0" y="1670040"/>
            <a:ext cx="3649680" cy="24145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8" name="picture" descr=""/>
          <p:cNvPicPr/>
          <p:nvPr/>
        </p:nvPicPr>
        <p:blipFill>
          <a:blip r:embed="rId2"/>
          <a:stretch/>
        </p:blipFill>
        <p:spPr>
          <a:xfrm>
            <a:off x="3556080" y="2822400"/>
            <a:ext cx="4032000" cy="230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70360" y="1251000"/>
            <a:ext cx="3338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2:27Z</dcterms:created>
  <dc:creator>User5</dc:creator>
  <dc:description/>
  <dc:language>en-US</dc:language>
  <cp:lastModifiedBy>User5</cp:lastModifiedBy>
  <dcterms:modified xsi:type="dcterms:W3CDTF">2008-11-18T08:04:12Z</dcterms:modified>
  <cp:revision>3</cp:revision>
  <dc:subject/>
  <dc:title>Слайд 1</dc:title>
</cp:coreProperties>
</file>