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F004-6332-41A8-90F3-8E9E53704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CDC6-AF24-4BB8-971A-A1572ADC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C96E-A8F7-4051-8A41-45D9CC283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E33B-9B0D-4876-A97C-FA6B997C3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E4B0-99BD-4F21-964E-606B8740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D9CF-2239-40B2-8804-34453151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4CD4-1C83-405D-95C9-5AB64B8A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EC01-0DD5-4C9B-A187-9644DF20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2C0B-75DA-435C-8959-9F91971F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4288-0626-4360-9E58-8CD957A4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ADF7-6770-46C0-A615-4ED486FE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D6C4-6AD2-4C4C-AC2A-E0A0382C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01C3-D06A-4BAE-AC3D-8FCA72D39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лексей Кондратьевич Савра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32000" y="1844640"/>
            <a:ext cx="6897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30-18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Сав"/>
          <p:cNvPicPr/>
          <p:nvPr/>
        </p:nvPicPr>
        <p:blipFill>
          <a:blip r:embed="rId1"/>
          <a:stretch/>
        </p:blipFill>
        <p:spPr>
          <a:xfrm>
            <a:off x="5148360" y="1700280"/>
            <a:ext cx="322740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нняя весна (1880-1890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3887640" cy="4543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292720" y="1557360"/>
            <a:ext cx="34322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рачи прилетели (1894). Весенний пейзаж(1890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3311640" cy="45435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508720" y="1557360"/>
            <a:ext cx="315900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68360" y="260280"/>
            <a:ext cx="486756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ид на Московский Кремль. (1873). Сухарева башня(1872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3990960" cy="5048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076720" y="1628640"/>
            <a:ext cx="377208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ид Москвы с Воробьиных гор (1850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оводевичий монастырь(1890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66756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Манер живописи много, а хороших картин мало. А дело не в манере, а в умении видеть красоту, болеть ею, страдать ею и стремиться выразить невыразимое. Надо быть влюбленным в природу и творчество, тогда только можно писать. Только любя и боготворя природу, учась у нее, можно найти себя в искусстве.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врасов А.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ело Волынское(1887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ерег моря. Сумерки(185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35164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асский затон на Волге (1853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5164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Хронология жи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830, 12 (24) мая - родился в семье московского мещанина Кондратия Артемьевича Саврасова (до середины 1850-х годов подписывал свои картины как А. Соврасовъ)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844 - А. Саврасов поступает в московское Училище живописи и ваяния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848-1850 - вновь учится в Московском училище живописи и ваяния (МУЖВ) по классу пейзажной живописи у К.И. Рабуса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850 - удостоен звания неклассного художника за "Вид Московского Кремля при луне". Пишет картину "Камень в лесу у разлива".1851 - "Вид на Кремль от Крымского моста в ненастную погоду"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852 - пишет картины на основе впечатлений от поездок на юг России: "Степь днем", "Рассвет в степи"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857 - женитьба на Софье Карловне Герц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857-1882 - руководит пейзажным классом в Московском училище живописи, ваяния и зодчества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858 - Пейзажи "Вид в окрестностях Ораниенбаума", "Пейзаж с рекой и рыбаком"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860 - принимает участие в первой выставке, организованной Московским обществом любителей художеств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861 - поездка в Петербург по поручению МОЛХа для доставки в Москву картины Александра Иванова "Явление Христа народу". 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862 - поездка на Всемирную выставку в Лондон. Посещает Францию, Швейцарию и Германию. Пишет картину "Вид в швейцарских Альпах близ Интерлакена"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865 - По заказу графа А.С. Уварова, председателя Общества любителей художеств, исполняет шесть декоративных панно с видами Греции, Кавказа, Крыма, Малороссии и Великороссии для новогоднего праздника в здании Благородного собрания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866 - Получает звание надворного советника. Посещает Швейцарию. 1867 - поездка во Францию на Всемирную выставку в Париже. Катина "Сельский вид"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868 - Награжден орденом Святой Анны 3-й степен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869 - Картина "Лосиный остров в Сокольниках". Участвует в создании Товарищества передвижных художественных выставок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870-1880 - Картины "Домик в провинции. Весна", "Зимний пейзаж. Иней", "Дворик. Зима"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871 - Пишет картину "Грачи прилетели". Участие на первой выставке Товарищества передвижных художественных выставок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872-1874 - Картины: "Волга под Юрьевцем", "Печерский монастырь под Нижним Новгородом", "Разлив Волги под Ярославлем", "Бурлаки на Волге", "Проселок","Могила на Волге", "Окрестности Ярославля"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875 - На 4-ой выставке картин Товарищества передвижных художественных выставок представлены полотна Саврасова "Вечер. Перелет птиц" и "Жатва". Картины получили негативные отзывы, после чего художник отказывается от выставления своих работ в Петербурге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875-1881 - Картины "Радуга","Рожь", "Пейзаж с радугой"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882 - Уволен из Московского училища живописи, ваяния и зодчества. 1882 - Разрыв семейных отношений. Саврасов ведет скитальческую жизнь, терпя нищету и болезн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885 - 1886 - Саврасов выполняет рисунки для журналов "Радуга" и "Эпоха"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893 - Картина "Весна. Огороды"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897, 26 сентября (8 октября) - умер в Москве, во 2-й городской больнице, в отделении для бедных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йзаж с мельницей (1861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сны у болота (1882). Лунная ночь над рекой(1885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3075120" cy="4464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356000" y="1628640"/>
            <a:ext cx="3343320" cy="447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сна(1854). Деревья у озера (1868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3382920" cy="4543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43280" y="1557360"/>
            <a:ext cx="352908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йзаж с церковью и руинами (1861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нняя весна (1873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оза (1856)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770400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ни (1854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тографии Саврасова А.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лексей Саврасов жил и работал в то романтичное время, когда каждая фотография была редким явлением и самостоятельным произведением искусства. Сохранилось не много фотографий художн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870. 1860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3425760" cy="4680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716360" y="1557360"/>
            <a:ext cx="36306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860.1897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3284640" cy="4824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356000" y="1413000"/>
            <a:ext cx="415764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л Иванович Рабус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1800-1857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 Самое важное дл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йзажиста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еть « видеть» прир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.И Раб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435640" y="1773360"/>
            <a:ext cx="3241800" cy="4537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-250560" y="3899880"/>
            <a:ext cx="336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3470760"/>
            <a:ext cx="4968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то время пейзаж так и назывался -"видописание"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ставки и экспозиции.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1871—1875 годах, живя и работая по большей части в Москве, Саврасов участвует в экспозициях Товарищества передвижных художественных выставок, в 1873−1878 — в академических выставках. Его картины также появляются на всемирных выставках — венской 1873 года и парижской 1878 года, а также на всероссийской выставке в Москве в 188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Художник и его картин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ССР существовали марка с известной картиной А.К. Саврасова «Грачи прилетели» и его портре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443px-Stamp_of_USSR_1899"/>
          <p:cNvPicPr/>
          <p:nvPr/>
        </p:nvPicPr>
        <p:blipFill>
          <a:blip r:embed="rId1"/>
          <a:stretch/>
        </p:blipFill>
        <p:spPr>
          <a:xfrm>
            <a:off x="1042920" y="3141720"/>
            <a:ext cx="2343240" cy="3166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430px-Stamp_of_USSR_1908"/>
          <p:cNvPicPr/>
          <p:nvPr/>
        </p:nvPicPr>
        <p:blipFill>
          <a:blip r:embed="rId2"/>
          <a:stretch/>
        </p:blipFill>
        <p:spPr>
          <a:xfrm>
            <a:off x="5219640" y="3141720"/>
            <a:ext cx="2266920" cy="31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 столетию со дня смерти художни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997 году, к 100-летию со дня смерти А.К Саврасова Центральным банком России была выпущена памятная монета из серебра номиналом в 2 рубля, на которой был изображён портрет художника и фрагмент его картины «Грачи прилетел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9" descr="RR5110-0020R"/>
          <p:cNvPicPr/>
          <p:nvPr/>
        </p:nvPicPr>
        <p:blipFill>
          <a:blip r:embed="rId1"/>
          <a:stretch/>
        </p:blipFill>
        <p:spPr>
          <a:xfrm>
            <a:off x="4349880" y="1647720"/>
            <a:ext cx="4271760" cy="441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мень в лесу у «Разлива»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185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6840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ид на Кремль в ненастную погоду (185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408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Грачи прилетели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Земля ведь рай, и жизнь на ней - тайна, прекрасная тайна. Прославляйте жизнь. Художник - тот же поэт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3213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врасов А.К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сна.Грачи прилетели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187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28036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рачи прилетели (1880). Повеяло весной(1890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2735280" cy="4537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207040" y="1628640"/>
            <a:ext cx="33274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ачи прилетели.(187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627280" y="1557360"/>
            <a:ext cx="33606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11:52:10Z</dcterms:created>
  <dc:creator>Катерина</dc:creator>
  <dc:description/>
  <dc:language>en-US</dc:language>
  <cp:lastModifiedBy>Катерина</cp:lastModifiedBy>
  <dcterms:modified xsi:type="dcterms:W3CDTF">2013-01-14T10:39:15Z</dcterms:modified>
  <cp:revision>8</cp:revision>
  <dc:subject/>
  <dc:title>Алексей Кондратьевич Саврасов</dc:title>
</cp:coreProperties>
</file>