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A94-0513-40D5-AF8A-9A34026E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86F-9B5D-401D-A3B3-D3CDF76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044-6EF2-4E63-9B2F-B61F98D7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41C-9E43-42BA-BE36-C7CFA46C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C25-8A8E-4829-A1ED-746D80E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126-1F09-49C2-8E48-D7A5F78F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3B6-3902-42DB-954B-7A74309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A12-3AD4-4F19-B061-6CD75D3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D8D-03B9-42D0-AD88-516E7D54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63A-1A4B-420A-9455-2B57CD8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0EE-8600-4AD1-8E7D-2D2E129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67F-2C1C-467F-AF2C-1596F98D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F05C-294C-499E-B8CC-6B7360FDE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ексей Кондратьевич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6897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-18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ав"/>
          <p:cNvPicPr/>
          <p:nvPr/>
        </p:nvPicPr>
        <p:blipFill>
          <a:blip r:embed="rId1"/>
          <a:stretch/>
        </p:blipFill>
        <p:spPr>
          <a:xfrm>
            <a:off x="5148360" y="1700280"/>
            <a:ext cx="32274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няя весна (1880-189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543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чи прилетели (1894). Весенний пейзаж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11640" cy="4543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159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67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на Московский Кремль. (1873). Сухарева башня(187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990960" cy="504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772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Москвы с Воробьиных гор (185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одевичий монастырь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675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нер живописи много, а хороших картин мало. А дело не в манере, а в умении видеть красоту, болеть ею, страдать ею и стремиться выразить невыразимое. Надо быть влюбленным в природу и творчество, тогда только можно писать. Только любя и боготворя природу, учась у нее, можно найти себя в искусстве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асов А.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о Волынское(1887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ег моря. Сумерки(18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сский затон на Волге (185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нология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30, 12 (24) мая - родился в семье московского мещанина Кондратия Артемьевича Саврасова (до середины 1850-х годов подписывал свои картины как А. Соврасовъ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44 - А. Саврасов поступает в московское Училище живописи и ваяния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48-1850 - вновь учится в Московском училище живописи и ваяния (МУЖВ) по классу пейзажной живописи у К.И. Рабус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0 - удостоен звания неклассного художника за "Вид Московского Кремля при луне". Пишет картину "Камень в лесу у разлива".1851 - "Вид на Кремль от Крымского моста в ненастную погоду"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2 - пишет картины на основе впечатлений от поездок на юг России: "Степь днем", "Рассвет в степи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7 - женитьба на Софье Карловне Герц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7-1882 - руководит пейзажным классом в Московском училище живописи, ваяния и зодчества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58 - Пейзажи "Вид в окрестностях Ораниенбаума", "Пейзаж с рекой и рыбаком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0 - принимает участие в первой выставке, организованной Московским обществом любителей художеств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1 - поездка в Петербург по поручению МОЛХа для доставки в Москву картины Александра Иванова "Явление Христа народу".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2 - поездка на Всемирную выставку в Лондон. Посещает Францию, Швейцарию и Германию. Пишет картину "Вид в швейцарских Альпах близ Интерлакена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5 - По заказу графа А.С. Уварова, председателя Общества любителей художеств, исполняет шесть декоративных панно с видами Греции, Кавказа, Крыма, Малороссии и Великороссии для новогоднего праздника в здании Благородного собра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6 - Получает звание надворного советника. Посещает Швейцарию. 1867 - поездка во Францию на Всемирную выставку в Париже. Катина "Сельский вид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8 - Награжден орденом Святой Анны 3-й степен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69 - Картина "Лосиный остров в Сокольниках". Участвует в создании Товарищества передвижных художественных выставок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0-1880 - Картины "Домик в провинции. Весна", "Зимний пейзаж. Иней", "Дворик. Зима"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1 - Пишет картину "Грачи прилетели". Участие на первой выставке Товарищества передвижных художественных выставок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2-1874 - Картины: "Волга под Юрьевцем", "Печерский монастырь под Нижним Новгородом", "Разлив Волги под Ярославлем", "Бурлаки на Волге", "Проселок","Могила на Волге", "Окрестности Ярославля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5 - На 4-ой выставке картин Товарищества передвижных художественных выставок представлены полотна Саврасова "Вечер. Перелет птиц" и "Жатва". Картины получили негативные отзывы, после чего художник отказывается от выставления своих работ в Петербурге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75-1881 - Картины "Радуга","Рожь", "Пейзаж с радугой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82 - Уволен из Московского училища живописи, ваяния и зодчества. 1882 - Разрыв семейных отношений. Саврасов ведет скитальческую жизнь, терпя нищету и болезн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85 - 1886 - Саврасов выполняет рисунки для журналов "Радуга" и "Эпоха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93 - Картина "Весна. Огороды"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897, 26 сентября (8 октября) - умер в Москве, во 2-й городской больнице, в отделении для бедны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 с мельницей (186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ны у болота (1882). Лунная ночь над рекой(1885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75120" cy="446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3433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на(1854). Деревья у озера (1868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382920" cy="454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5290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йзаж с церковью и руинами (1861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нняя весна (1873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оза (1856)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ни (1854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графии Саврасова А.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й Саврасов жил и работал в то романтичное время, когда каждая фотография была редким явлением и самостоятельным произведением искусства. Сохранилось не много фотографий худож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70. 186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425760" cy="468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630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0.189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284640" cy="482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157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л Иванович Рабу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00-185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амое важное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зажис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 « видеть»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И Ра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4180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470760"/>
            <a:ext cx="496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о время пейзаж так и назывался -"видописание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ставки и экспозиции.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871—1875 годах, живя и работая по большей части в Москве, Саврасов участвует в экспозициях Товарищества передвижных художественных выставок, в 1873−1878 — в академических выставках. Его картины также появляются на всемирных выставках — венской 1873 года и парижской 1878 года, а также на всероссийской выставке в Москве в 188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удожник и его карт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ССР существовали марка с известной картиной А.К. Саврасова «Грачи прилетели» и его портр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443px-Stamp_of_USSR_1899"/>
          <p:cNvPicPr/>
          <p:nvPr/>
        </p:nvPicPr>
        <p:blipFill>
          <a:blip r:embed="rId1"/>
          <a:stretch/>
        </p:blipFill>
        <p:spPr>
          <a:xfrm>
            <a:off x="1042920" y="3141720"/>
            <a:ext cx="2343240" cy="316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30px-Stamp_of_USSR_1908"/>
          <p:cNvPicPr/>
          <p:nvPr/>
        </p:nvPicPr>
        <p:blipFill>
          <a:blip r:embed="rId2"/>
          <a:stretch/>
        </p:blipFill>
        <p:spPr>
          <a:xfrm>
            <a:off x="521964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столетию со дня смерти худож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7 году, к 100-летию со дня смерти А.К Саврасова Центральным банком России была выпущена памятная монета из серебра номиналом в 2 рубля, на которой был изображён портрет художника и фрагмент его картины «Грачи прилете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RR5110-0020R"/>
          <p:cNvPicPr/>
          <p:nvPr/>
        </p:nvPicPr>
        <p:blipFill>
          <a:blip r:embed="rId1"/>
          <a:stretch/>
        </p:blipFill>
        <p:spPr>
          <a:xfrm>
            <a:off x="4349880" y="1647720"/>
            <a:ext cx="4271760" cy="44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мень в лесу у «Разлива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8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на Кремль в ненастную погоду (185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Грачи прилетел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Земля ведь рай, и жизнь на ней - тайна, прекрасная тайна. Прославляйте жизнь. Художник - тот же поэт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213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асов А.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.Грачи прилетел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7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чи прилетели (1880). Повеяло весной(189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07040" y="1628640"/>
            <a:ext cx="3327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чи прилетели.(187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360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52:10Z</dcterms:created>
  <dc:creator>Катерина</dc:creator>
  <dc:description/>
  <dc:language>en-US</dc:language>
  <cp:lastModifiedBy>Катерина</cp:lastModifiedBy>
  <dcterms:modified xsi:type="dcterms:W3CDTF">2013-01-14T10:39:15Z</dcterms:modified>
  <cp:revision>8</cp:revision>
  <dc:subject/>
  <dc:title>Алексей Кондратьевич Саврасов</dc:title>
</cp:coreProperties>
</file>