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C12-602A-42F1-815B-740C8739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207-1601-46DA-9439-15C144E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E6E-2599-4CA5-9546-755FB800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11C-D519-42E4-BFC6-D05A075B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93E-EE9D-489A-A502-4ABC8407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19B9-40C8-4943-84BE-279F61F0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897-2EC7-4FAD-9438-BEE05CB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99E1-121D-442E-BB59-F8BBFE3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1CF1-F642-4399-ADF5-5C0DD4A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7048-192C-4451-BF6E-BC6CFB8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BB51-F1AE-42E6-8697-5439082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90A-D821-43F7-ADF5-F7654D3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AC6-F46D-4253-848A-67D903D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556-1BF1-4824-9494-9B5F21E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6E93-A439-4589-A6AA-E44CB04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216D-CD65-4CD4-B5EE-8C822A83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17F9-8FE3-4B93-9031-6E40B792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4D5-0EF0-4C34-9EC4-E340902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E55-1995-417D-BB70-9D3C42B7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419-7A4A-4088-8F94-59BF1E4E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A0A-8774-4FD6-9978-CB1408D7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5CC-823E-4644-A009-AEE1E66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80D-A2CC-4C55-BAF2-98C02226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D7F-F8E1-4E76-89F9-1672EA1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ABC5-88CE-406E-A109-3F320CF36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01" name="Picture 210"/>
          <p:cNvSpPr/>
          <p:nvPr/>
        </p:nvSpPr>
        <p:spPr>
          <a:xfrm>
            <a:off x="4437000" y="3363840"/>
            <a:ext cx="2937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2EA5-CA4D-4803-BE25-FF4A74D2BB41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176"/>
                </a:solidFill>
                <a:latin typeface="Times New Roman"/>
              </a:rPr>
              <a:t>BATH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by Kate Lavrent’yeva, 6</a:t>
            </a:r>
            <a:r>
              <a:rPr b="1" lang="en-US" sz="3200" spc="-1" strike="noStrike" u="sng" baseline="30000">
                <a:solidFill>
                  <a:srgbClr val="8383ad"/>
                </a:solidFill>
                <a:uFillTx/>
                <a:latin typeface="Times New Roman"/>
              </a:rPr>
              <a:t>th</a:t>
            </a:r>
            <a:r>
              <a:rPr b="1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 form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83ad"/>
                </a:solidFill>
                <a:uFillTx/>
                <a:latin typeface="Times New Roman"/>
              </a:rPr>
              <a:t>November 201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94800"/>
            <a:ext cx="7772400" cy="105732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Snap ITC"/>
              </a:rPr>
              <a:t>Тhe museum of costume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6" name="Picture 22" descr="6a137c0af793a31b6640ecccb6c60f5e"/>
          <p:cNvPicPr/>
          <p:nvPr/>
        </p:nvPicPr>
        <p:blipFill>
          <a:blip r:embed="rId1"/>
          <a:stretch/>
        </p:blipFill>
        <p:spPr>
          <a:xfrm>
            <a:off x="901800" y="2006640"/>
            <a:ext cx="3436920" cy="1994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3" descr="museum-of-costume-at-nuoro"/>
          <p:cNvPicPr/>
          <p:nvPr/>
        </p:nvPicPr>
        <p:blipFill>
          <a:blip r:embed="rId2"/>
          <a:stretch/>
        </p:blipFill>
        <p:spPr>
          <a:xfrm>
            <a:off x="1201680" y="4110120"/>
            <a:ext cx="2774880" cy="1985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carnival-costumes-at-the-museum-of-costume-in-nuoro-in-sardinia"/>
          <p:cNvPicPr/>
          <p:nvPr/>
        </p:nvPicPr>
        <p:blipFill>
          <a:blip r:embed="rId3"/>
          <a:stretch/>
        </p:blipFill>
        <p:spPr>
          <a:xfrm>
            <a:off x="5364000" y="2133720"/>
            <a:ext cx="2794320" cy="4062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Snap ITC"/>
              </a:rPr>
              <a:t>The Roman Baths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0" name="Picture 18" descr="roman baths ext portrait"/>
          <p:cNvPicPr/>
          <p:nvPr/>
        </p:nvPicPr>
        <p:blipFill>
          <a:blip r:embed="rId1"/>
          <a:stretch/>
        </p:blipFill>
        <p:spPr>
          <a:xfrm>
            <a:off x="1692360" y="170028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9" descr="b8e62bc0fd0ff4ce10fcfbde481e6e68"/>
          <p:cNvPicPr/>
          <p:nvPr/>
        </p:nvPicPr>
        <p:blipFill>
          <a:blip r:embed="rId2"/>
          <a:stretch/>
        </p:blipFill>
        <p:spPr>
          <a:xfrm>
            <a:off x="4140360" y="4365720"/>
            <a:ext cx="3297240" cy="2268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0" descr="dgs"/>
          <p:cNvPicPr/>
          <p:nvPr/>
        </p:nvPicPr>
        <p:blipFill>
          <a:blip r:embed="rId3"/>
          <a:stretch/>
        </p:blipFill>
        <p:spPr>
          <a:xfrm>
            <a:off x="755640" y="4365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1" descr="BathRomanBaths"/>
          <p:cNvPicPr/>
          <p:nvPr/>
        </p:nvPicPr>
        <p:blipFill>
          <a:blip r:embed="rId4"/>
          <a:stretch/>
        </p:blipFill>
        <p:spPr>
          <a:xfrm>
            <a:off x="5076720" y="1628640"/>
            <a:ext cx="3600720" cy="2573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Snap ITC"/>
              </a:rPr>
              <a:t>Sally Lunn's Hous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5" name="Picture 7" descr="sally-lunns-i5"/>
          <p:cNvPicPr/>
          <p:nvPr/>
        </p:nvPicPr>
        <p:blipFill>
          <a:blip r:embed="rId1"/>
          <a:stretch/>
        </p:blipFill>
        <p:spPr>
          <a:xfrm>
            <a:off x="179280" y="2276640"/>
            <a:ext cx="4321440" cy="3098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showimage"/>
          <p:cNvPicPr/>
          <p:nvPr/>
        </p:nvPicPr>
        <p:blipFill>
          <a:blip r:embed="rId2"/>
          <a:stretch/>
        </p:blipFill>
        <p:spPr>
          <a:xfrm>
            <a:off x="5435640" y="1628640"/>
            <a:ext cx="3168720" cy="46818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Snap ITC"/>
              </a:rPr>
              <a:t>Bath Postal Museum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Picture 11" descr="Postshopfrnt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85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Snap ITC"/>
              </a:rPr>
              <a:t>The Bath Boating Station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0" name="Picture 6" descr="skiffs"/>
          <p:cNvPicPr/>
          <p:nvPr/>
        </p:nvPicPr>
        <p:blipFill>
          <a:blip r:embed="rId1"/>
          <a:stretch/>
        </p:blipFill>
        <p:spPr>
          <a:xfrm>
            <a:off x="1763640" y="1989000"/>
            <a:ext cx="5689800" cy="4073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800" spc="-1" strike="noStrike">
                <a:solidFill>
                  <a:srgbClr val="996633"/>
                </a:solidFill>
                <a:latin typeface="Snap ITC"/>
              </a:rPr>
              <a:t>The end.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85800" y="5084280"/>
            <a:ext cx="7772400" cy="5763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2:21:50Z</dcterms:created>
  <dc:creator>Владелец</dc:creator>
  <dc:description/>
  <dc:language>en-US</dc:language>
  <cp:lastModifiedBy>Юлия</cp:lastModifiedBy>
  <dcterms:modified xsi:type="dcterms:W3CDTF">2013-02-28T16:28:16Z</dcterms:modified>
  <cp:revision>8</cp:revision>
  <dc:subject/>
  <dc:title>Тhe museum of costume</dc:title>
</cp:coreProperties>
</file>