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3C7-9587-4D21-A295-4DB548DE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6A7-3ED0-4A0D-BB14-870238D8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E07-01A5-41A8-97DE-72693DCB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342-B551-4210-BC1E-8C858A2B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CD6D-F435-450F-A22C-53A27129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19CF-867D-48A9-8C26-C91A1FAE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4219-0C4B-4F11-9BF0-89AE35AE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6117-E8DE-4DD0-B0D4-F164E407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D774-364A-48A0-8749-B4E06073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1A02-4A88-4B01-93E2-6B742D5D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C5F8-595D-4AA8-B1D9-FD6EF616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34B-0CCD-48EE-B19F-EBF88C97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7F1A-C920-477D-9E7D-FA0EA65A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569D-9CEE-487A-9604-A47C7AFD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8F22-3E8F-4566-AC8C-3AFC0E59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A9C0-CA42-4BA5-ABA9-3C0BBE91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CE15-BF4A-49CD-ADDA-AD71C64D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178-D89B-4842-A1BB-FEFF28BC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7D6-A475-4030-BE09-F1D13DFE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5F0-FA76-456C-8080-1C9DD26B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F58-A802-47E1-B4B9-7C21DBA4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BBF-A783-41C7-9261-5D50AB0F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FD0-D93B-45F8-853B-203FC541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E2D-E8B3-44F2-A49A-4E0A77DF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A315-2634-4DA8-881E-CA080CAC8B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01" name="Picture 210"/>
          <p:cNvSpPr/>
          <p:nvPr/>
        </p:nvSpPr>
        <p:spPr>
          <a:xfrm>
            <a:off x="4437000" y="3363840"/>
            <a:ext cx="2937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B6EB-63C6-4BD3-A910-09815FCABCD3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176"/>
                </a:solidFill>
                <a:latin typeface="Times New Roman"/>
              </a:rPr>
              <a:t>BATH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by Kate Lavrent’yeva, 6</a:t>
            </a:r>
            <a:r>
              <a:rPr b="1" lang="en-US" sz="3200" spc="-1" strike="noStrike" u="sng" baseline="30000">
                <a:solidFill>
                  <a:srgbClr val="8383ad"/>
                </a:solidFill>
                <a:uFillTx/>
                <a:latin typeface="Times New Roman"/>
              </a:rPr>
              <a:t>th</a:t>
            </a:r>
            <a:r>
              <a:rPr b="1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 form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November 2012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94800"/>
            <a:ext cx="7772400" cy="105732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Snap ITC"/>
              </a:rPr>
              <a:t>Тhe museum of costume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6" name="Picture 22" descr="6a137c0af793a31b6640ecccb6c60f5e"/>
          <p:cNvPicPr/>
          <p:nvPr/>
        </p:nvPicPr>
        <p:blipFill>
          <a:blip r:embed="rId1"/>
          <a:stretch/>
        </p:blipFill>
        <p:spPr>
          <a:xfrm>
            <a:off x="901800" y="2006640"/>
            <a:ext cx="3436920" cy="1994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3" descr="museum-of-costume-at-nuoro"/>
          <p:cNvPicPr/>
          <p:nvPr/>
        </p:nvPicPr>
        <p:blipFill>
          <a:blip r:embed="rId2"/>
          <a:stretch/>
        </p:blipFill>
        <p:spPr>
          <a:xfrm>
            <a:off x="1201680" y="4110120"/>
            <a:ext cx="2774880" cy="1985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carnival-costumes-at-the-museum-of-costume-in-nuoro-in-sardinia"/>
          <p:cNvPicPr/>
          <p:nvPr/>
        </p:nvPicPr>
        <p:blipFill>
          <a:blip r:embed="rId3"/>
          <a:stretch/>
        </p:blipFill>
        <p:spPr>
          <a:xfrm>
            <a:off x="5364000" y="2133720"/>
            <a:ext cx="2794320" cy="4062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Snap ITC"/>
              </a:rPr>
              <a:t>The Roman Baths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0" name="Picture 18" descr="roman baths ext portrait"/>
          <p:cNvPicPr/>
          <p:nvPr/>
        </p:nvPicPr>
        <p:blipFill>
          <a:blip r:embed="rId1"/>
          <a:stretch/>
        </p:blipFill>
        <p:spPr>
          <a:xfrm>
            <a:off x="1692360" y="1700280"/>
            <a:ext cx="2736720" cy="2448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9" descr="b8e62bc0fd0ff4ce10fcfbde481e6e68"/>
          <p:cNvPicPr/>
          <p:nvPr/>
        </p:nvPicPr>
        <p:blipFill>
          <a:blip r:embed="rId2"/>
          <a:stretch/>
        </p:blipFill>
        <p:spPr>
          <a:xfrm>
            <a:off x="4140360" y="4365720"/>
            <a:ext cx="3297240" cy="2268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0" descr="dgs"/>
          <p:cNvPicPr/>
          <p:nvPr/>
        </p:nvPicPr>
        <p:blipFill>
          <a:blip r:embed="rId3"/>
          <a:stretch/>
        </p:blipFill>
        <p:spPr>
          <a:xfrm>
            <a:off x="755640" y="4365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1" descr="BathRomanBaths"/>
          <p:cNvPicPr/>
          <p:nvPr/>
        </p:nvPicPr>
        <p:blipFill>
          <a:blip r:embed="rId4"/>
          <a:stretch/>
        </p:blipFill>
        <p:spPr>
          <a:xfrm>
            <a:off x="5076720" y="1628640"/>
            <a:ext cx="3600720" cy="2573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Snap ITC"/>
              </a:rPr>
              <a:t>Sally Lunn's Hous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5" name="Picture 7" descr="sally-lunns-i5"/>
          <p:cNvPicPr/>
          <p:nvPr/>
        </p:nvPicPr>
        <p:blipFill>
          <a:blip r:embed="rId1"/>
          <a:stretch/>
        </p:blipFill>
        <p:spPr>
          <a:xfrm>
            <a:off x="179280" y="2276640"/>
            <a:ext cx="4321440" cy="3098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showimage"/>
          <p:cNvPicPr/>
          <p:nvPr/>
        </p:nvPicPr>
        <p:blipFill>
          <a:blip r:embed="rId2"/>
          <a:stretch/>
        </p:blipFill>
        <p:spPr>
          <a:xfrm>
            <a:off x="5435640" y="1628640"/>
            <a:ext cx="3168720" cy="46818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Snap ITC"/>
              </a:rPr>
              <a:t>Bath Postal Museum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8" name="Picture 11" descr="Postshopfrnt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85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Snap ITC"/>
              </a:rPr>
              <a:t>The Bath Boating Station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0" name="Picture 6" descr="skiffs"/>
          <p:cNvPicPr/>
          <p:nvPr/>
        </p:nvPicPr>
        <p:blipFill>
          <a:blip r:embed="rId1"/>
          <a:stretch/>
        </p:blipFill>
        <p:spPr>
          <a:xfrm>
            <a:off x="1763640" y="1989000"/>
            <a:ext cx="5689800" cy="4073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38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800" spc="-1" strike="noStrike">
                <a:solidFill>
                  <a:srgbClr val="996633"/>
                </a:solidFill>
                <a:latin typeface="Snap ITC"/>
              </a:rPr>
              <a:t>The end.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85800" y="5084280"/>
            <a:ext cx="7772400" cy="57636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2:21:50Z</dcterms:created>
  <dc:creator>Владелец</dc:creator>
  <dc:description/>
  <dc:language>en-US</dc:language>
  <cp:lastModifiedBy>Юлия</cp:lastModifiedBy>
  <dcterms:modified xsi:type="dcterms:W3CDTF">2013-02-28T16:28:16Z</dcterms:modified>
  <cp:revision>8</cp:revision>
  <dc:subject/>
  <dc:title>Тhe museum of costume</dc:title>
</cp:coreProperties>
</file>