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E92-7CAD-44E8-95C3-6A54E84C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341-C5D7-4CEF-B032-AE4A84BD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2EE-96F5-4C0D-AF30-D461586A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628-90FD-4C30-AA67-03B967B4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EC69-74C3-400D-96BD-EDF94AD3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19A3E-4182-4780-976F-F502E0FE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FF280-E48D-4270-A642-3102BF2A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594E2-A355-47FA-B03D-21EED40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7CBF-F2E6-4DA0-BD54-267457C5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86BF-A940-497B-9365-3AD2357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0C03-4731-4F58-8999-2FC2338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7A2-48C3-49AF-8101-232E5005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9905C-3F7F-485F-A1A5-678B804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DC530-D89C-4E11-B215-967D7E0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13FAB-34BD-4080-97FD-70A290B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F4ACE-A739-4C77-A850-1C220B61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98AD7-0B62-4713-B0BB-131EA6C2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FA0-E30C-43F0-ACAF-985ED0B2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D17-8C98-4391-AA0F-3788EA6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53D-5190-44E9-A9A8-256AF70C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9A7-8A92-4C09-8757-C3E3BE0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5E6-69A9-49F5-9CBA-FDDCA2F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440-C0C0-44B7-8CA4-A962194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1B3-45BF-420C-8E70-95D0ADB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C61-0FD3-4196-8536-69D76CCCF3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B41-293E-4AE1-906B-078DE247D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&#1052;&#1086;&#1080;%20&#1076;&#1086;&#1082;&#1091;&#1084;&#1077;&#1085;&#1090;&#1099;/&#1052;&#1086;&#1080;%20&#1088;&#1080;&#1089;&#1091;&#1085;&#1082;&#1080;/iceberg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038480" cy="46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90920" y="304920"/>
            <a:ext cx="5848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родяги море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брика  айсберг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абли обходят айсберги стороной, ученые их изучают, а любители необычного устремляются к ледяным гиган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913680" y="6858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697320" y="5029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7086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тановка в пути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едко ледяные горы преграждают путь пингвинам, мигрирующим с одного арктического острова на другой. Уставшие птицы устраивают на айсберге перевалочный пун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се краски ль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и плавающие горы всегда представляют опасность для судов. Но их краса влечет искателей приключ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рытая угроз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ая часть ледяного гиганта скрыта под водой. Верхушка – это всего одна шестая айсбе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8813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пасно для су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зервуары пресной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год океан принимает 3500 кубических километров 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za</cp:lastModifiedBy>
  <dcterms:modified xsi:type="dcterms:W3CDTF">2010-01-29T18:41:5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