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950-D2D4-43B1-BFBE-04A4EAC7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05C-2F01-48DC-A76A-B1DC5B64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CFE-F0C2-4597-ADC0-62AE3B68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F54-9BEA-4122-9770-448F5765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1733B-FAF6-4446-A15F-CD14E461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E39DF-EA4A-4EC5-90F9-D67A7E34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FBC60-FEE3-41A9-9026-0FDE79D8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0D58A-044F-4DB5-8DB3-DD949DC8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19C7D-D745-4D84-B294-320E5EF6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B8392-F605-483A-A969-441B68F3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09630-394F-452C-AE0F-BD7EC5D2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95C-7830-48A8-9984-137149C3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3BBC1-D4AC-4BBA-B8CA-91C0B62A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B6FE3-348B-44DC-8BF6-CB9FBB2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3478D-DB20-49FE-8F3B-394B3787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A362C-89B3-46EF-B83E-A15AFBF3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92EFF-41EB-46DD-B6FB-86CB733A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5C8-2D58-474F-B506-B614AF3D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7E1-B7C7-4BC3-8CD7-BA19E1C7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209-536D-42B1-B642-D2BDDF5C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2DF-813E-4E80-B329-2A022E48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9DE-F009-4980-A59C-9A0ED72F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A8E-DC64-4010-8D82-E90BFE5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60B-24DF-439C-93AE-4586DE89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BF3F-92C7-474B-8C0C-B3562B699F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E02A-230C-465A-87D6-CB61D6C0A1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&#1052;&#1086;&#1080;%20&#1076;&#1086;&#1082;&#1091;&#1084;&#1077;&#1085;&#1090;&#1099;/&#1052;&#1086;&#1080;%20&#1088;&#1080;&#1089;&#1091;&#1085;&#1082;&#1080;/iceberg2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038480" cy="464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4038480" cy="495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590920" y="304920"/>
            <a:ext cx="58482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родяги море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абрика  айсберг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абли обходят айсберги стороной, ученые их изучают, а любители необычного устремляются к ледяным гиган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913680" y="6858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697320" y="5029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70866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тановка в пути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редко ледяные горы преграждают путь пингвинам, мигрирующим с одного арктического острова на другой. Уставшие птицы устраивают на айсберге перевалочный пунк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се краски ль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и плавающие горы всегда представляют опасность для судов. Но их краса влечет искателей приключ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крытая угроз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новная часть ледяного гиганта скрыта под водой. Верхушка – это всего одна шестая айсбе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88138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асно для суд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зервуары пресной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 год океан принимает 3500 кубических километров ль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za</cp:lastModifiedBy>
  <dcterms:modified xsi:type="dcterms:W3CDTF">2010-01-29T18:41:5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