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1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3.wmf" ContentType="image/x-wmf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D4B7-3E30-45E3-B939-C7D27EBA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9C26-52F6-4540-81E6-1AA7E2B4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7D9A-5BEE-4214-9A82-098BBDCD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74E2-2F12-421B-9BEE-73ED83F6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0B96-EDEC-47BD-99BC-BAC2F76A4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2E16-4970-4F9C-8D2B-6AF16E56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0B32-D9A0-4758-A554-BBD79DC6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C58A-7CF3-4DFA-9F8A-8F73A051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81D0-C0B1-4B0A-BA01-753D929A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6FC2-156C-45C3-A663-65D323B4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6286-D744-4273-8FE9-7A5E06D8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E2D0-5A10-4830-8BA3-17C4155E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66A0-BF98-4109-A4B6-409BB438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FEDA-7B7A-4F8E-91B2-8C64E55D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42DB-9548-4883-8788-CCB76E5D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F86E-ED5E-4DEE-858D-9EF57F22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7A7C-49BE-45E5-BDF5-F7BAC037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B131-150D-44BF-9015-61325470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631F-7FB1-4EFC-8F53-1CDDD5BF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77BF-68C7-45CD-A5CB-C5B19BBB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816-078D-4951-B1C5-46F786AE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8B05-EE96-4B47-BB2D-1A32A07C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1D6D-7ABD-46E2-B537-D89C0A7A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A80C-2C4C-4CCD-82B7-CDE6331D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D3B2-B67B-43EA-83C4-FEE1C21E198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88BB-BE40-49CC-BCC4-44D8BB3B9A1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allerix.ru/pic/_EX/1124979808/596060180.jpe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llpainters.ru/images/stories/paintings/barge-haulers-on-the-volga-1871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Исследовательский проект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941c"/>
                </a:solidFill>
                <a:latin typeface="Arial"/>
              </a:rPr>
              <a:t>«Душа Родной земли- Саврасов»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Picture 4" descr="Изображение 1622"/>
          <p:cNvPicPr/>
          <p:nvPr/>
        </p:nvPicPr>
        <p:blipFill>
          <a:blip r:embed="rId2"/>
          <a:stretch/>
        </p:blipFill>
        <p:spPr>
          <a:xfrm>
            <a:off x="4284720" y="3016080"/>
            <a:ext cx="4859280" cy="3643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3"/>
          <a:stretch/>
        </p:blipFill>
        <p:spPr>
          <a:xfrm>
            <a:off x="250920" y="0"/>
            <a:ext cx="2482920" cy="24685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3059280" y="1413000"/>
            <a:ext cx="457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Arial"/>
              </a:rPr>
              <a:t>Автор исследовани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Белкина Екатерина Кирилл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5219640" y="2060640"/>
            <a:ext cx="457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  <a:ea typeface="Arial"/>
              </a:rPr>
              <a:t>Научный руководит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Колобанова Наталия Евген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-92880" y="2492280"/>
            <a:ext cx="35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Петросян Тигран Арутю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2852640"/>
            <a:ext cx="35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Берман Владимир Леонид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-106560" y="3213000"/>
            <a:ext cx="38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Табидзе Гиоргий Владими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-75240" y="3573360"/>
            <a:ext cx="35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Шабанова Диана Сунда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50920" y="4022640"/>
            <a:ext cx="3779640" cy="28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Сосны у болота (1882). Лунная ночь над рекой(1885)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Picture 5" descr="граф5"/>
          <p:cNvPicPr/>
          <p:nvPr/>
        </p:nvPicPr>
        <p:blipFill>
          <a:blip r:embed="rId2"/>
          <a:stretch/>
        </p:blipFill>
        <p:spPr>
          <a:xfrm>
            <a:off x="900000" y="1628640"/>
            <a:ext cx="3075120" cy="446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граф6"/>
          <p:cNvPicPr/>
          <p:nvPr/>
        </p:nvPicPr>
        <p:blipFill>
          <a:blip r:embed="rId3"/>
          <a:stretch/>
        </p:blipFill>
        <p:spPr>
          <a:xfrm>
            <a:off x="4356000" y="1628640"/>
            <a:ext cx="3343320" cy="447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Пейзаж с церковью и руинами (1861)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Picture 5" descr="граф9"/>
          <p:cNvPicPr/>
          <p:nvPr/>
        </p:nvPicPr>
        <p:blipFill>
          <a:blip r:embed="rId2"/>
          <a:stretch/>
        </p:blipFill>
        <p:spPr>
          <a:xfrm>
            <a:off x="468360" y="1989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анняя весна (1873)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8" name="Picture 5" descr="граф11"/>
          <p:cNvPicPr/>
          <p:nvPr/>
        </p:nvPicPr>
        <p:blipFill>
          <a:blip r:embed="rId2"/>
          <a:stretch/>
        </p:blipFill>
        <p:spPr>
          <a:xfrm>
            <a:off x="468360" y="1773360"/>
            <a:ext cx="820728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ни (1854)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0" name="Picture 5" descr="граф14"/>
          <p:cNvPicPr/>
          <p:nvPr/>
        </p:nvPicPr>
        <p:blipFill>
          <a:blip r:embed="rId2"/>
          <a:stretch/>
        </p:blipFill>
        <p:spPr>
          <a:xfrm>
            <a:off x="395280" y="1701720"/>
            <a:ext cx="82803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Жатв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85723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-2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ейзаж с радуго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4" name="" descr="Пейзаж с радугой. 1881. Саврасов Алексей Кондратьевич (1830 - 1897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1143000"/>
            <a:ext cx="73911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Весна. Огороды, </a:t>
            </a:r>
            <a:r>
              <a:rPr b="0" lang="en-US" sz="4000" spc="-1" strike="noStrike">
                <a:solidFill>
                  <a:srgbClr val="ee941c"/>
                </a:solidFill>
                <a:latin typeface="Arial"/>
              </a:rPr>
              <a:t>1893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6" name="" descr="Огороды"/>
          <p:cNvPicPr/>
          <p:nvPr/>
        </p:nvPicPr>
        <p:blipFill>
          <a:blip r:embed="rId2"/>
          <a:stretch/>
        </p:blipFill>
        <p:spPr>
          <a:xfrm>
            <a:off x="1042920" y="1700280"/>
            <a:ext cx="707076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Художник и его картин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ССР существовали марка с известной картиной А.К. Саврасова «Грачи прилетели» и его портрет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443px-Stamp_of_USSR_1899"/>
          <p:cNvPicPr/>
          <p:nvPr/>
        </p:nvPicPr>
        <p:blipFill>
          <a:blip r:embed="rId2"/>
          <a:stretch/>
        </p:blipFill>
        <p:spPr>
          <a:xfrm>
            <a:off x="1042920" y="3141720"/>
            <a:ext cx="2343240" cy="3166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430px-Stamp_of_USSR_1908"/>
          <p:cNvPicPr/>
          <p:nvPr/>
        </p:nvPicPr>
        <p:blipFill>
          <a:blip r:embed="rId3"/>
          <a:stretch/>
        </p:blipFill>
        <p:spPr>
          <a:xfrm>
            <a:off x="5219640" y="3141720"/>
            <a:ext cx="226692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К столетию со дня смерти художника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997 году, к 100-летию со дня смерти А.К Саврасова Центральным банком России была выпущена памятная монета из серебра номиналом в 2 рубля, на которой был изображён портрет художника и фрагмент его картины «Грачи прилетел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19" descr="RR5110-0020R"/>
          <p:cNvPicPr/>
          <p:nvPr/>
        </p:nvPicPr>
        <p:blipFill>
          <a:blip r:embed="rId2"/>
          <a:stretch/>
        </p:blipFill>
        <p:spPr>
          <a:xfrm>
            <a:off x="4341960" y="1722600"/>
            <a:ext cx="4432320" cy="43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941c"/>
                </a:solidFill>
                <a:latin typeface="Arial"/>
              </a:rPr>
              <a:t>Граф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Манер живописи много, а хороших картин мало. А дело не в манере, а в умении видеть красоту, болеть ею, страдать ею и стремиться выразить невыразимое. Надо быть влюбленным в природу и творчество, тогда только можно писать. Только любя и боготворя природу, учась у нее, можно найти себя в искусстве.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аврасов А.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Часть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Гроза (1856) 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7" name="Picture 5" descr="граф12"/>
          <p:cNvPicPr/>
          <p:nvPr/>
        </p:nvPicPr>
        <p:blipFill>
          <a:blip r:embed="rId2"/>
          <a:stretch/>
        </p:blipFill>
        <p:spPr>
          <a:xfrm>
            <a:off x="684360" y="1628640"/>
            <a:ext cx="770400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анняя весна (1880-1890)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5" name="Picture 4" descr="грачи7"/>
          <p:cNvPicPr/>
          <p:nvPr/>
        </p:nvPicPr>
        <p:blipFill>
          <a:blip r:embed="rId2"/>
          <a:stretch/>
        </p:blipFill>
        <p:spPr>
          <a:xfrm>
            <a:off x="468360" y="1916280"/>
            <a:ext cx="4005360" cy="468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грачи6"/>
          <p:cNvPicPr/>
          <p:nvPr/>
        </p:nvPicPr>
        <p:blipFill>
          <a:blip r:embed="rId3"/>
          <a:stretch/>
        </p:blipFill>
        <p:spPr>
          <a:xfrm>
            <a:off x="5219640" y="1916280"/>
            <a:ext cx="343224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Грачи прилетели (1894). Весенний пейзаж(1890)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Picture 4" descr="грачи12"/>
          <p:cNvPicPr/>
          <p:nvPr/>
        </p:nvPicPr>
        <p:blipFill>
          <a:blip r:embed="rId2"/>
          <a:stretch/>
        </p:blipFill>
        <p:spPr>
          <a:xfrm>
            <a:off x="395280" y="1773360"/>
            <a:ext cx="3468600" cy="4759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грачи11"/>
          <p:cNvPicPr/>
          <p:nvPr/>
        </p:nvPicPr>
        <p:blipFill>
          <a:blip r:embed="rId3"/>
          <a:stretch/>
        </p:blipFill>
        <p:spPr>
          <a:xfrm>
            <a:off x="5451480" y="1773360"/>
            <a:ext cx="3359160" cy="48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Весна. Грачи прилетели. </a:t>
            </a:r>
            <a:r>
              <a:rPr b="0" lang="en-US" sz="4000" spc="-1" strike="noStrike">
                <a:solidFill>
                  <a:srgbClr val="ee941c"/>
                </a:solidFill>
                <a:latin typeface="Arial"/>
              </a:rPr>
              <a:t>1872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весна"/>
          <p:cNvPicPr/>
          <p:nvPr/>
        </p:nvPicPr>
        <p:blipFill>
          <a:blip r:embed="rId2"/>
          <a:stretch/>
        </p:blipFill>
        <p:spPr>
          <a:xfrm>
            <a:off x="250920" y="1700280"/>
            <a:ext cx="8675640" cy="49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483920"/>
            <a:ext cx="35388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Вид в Швейцарских Альпах </a:t>
            </a:r>
            <a:br>
              <a:rPr sz="3600"/>
            </a:b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(Гора Малый Рухен)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" descr="Саврасов. Вид в Швейцарских Альпах (гора Малый Рухен)"/>
          <p:cNvPicPr/>
          <p:nvPr/>
        </p:nvPicPr>
        <p:blipFill>
          <a:blip r:embed="rId2"/>
          <a:stretch/>
        </p:blipFill>
        <p:spPr>
          <a:xfrm>
            <a:off x="4067280" y="333360"/>
            <a:ext cx="4895640" cy="60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рачи прилетели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941c"/>
                </a:solidFill>
                <a:latin typeface="Arial"/>
              </a:rPr>
              <a:t>187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грачи1"/>
          <p:cNvPicPr/>
          <p:nvPr/>
        </p:nvPicPr>
        <p:blipFill>
          <a:blip r:embed="rId2"/>
          <a:stretch/>
        </p:blipFill>
        <p:spPr>
          <a:xfrm>
            <a:off x="3851280" y="333360"/>
            <a:ext cx="486720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-2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Бурлаки на Волге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Бурлаки на Волге - Алексей Саврасов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981000"/>
            <a:ext cx="8369280" cy="559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Сасский затон на Волге (1853)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1" name="Picture 4" descr="граф3"/>
          <p:cNvPicPr/>
          <p:nvPr/>
        </p:nvPicPr>
        <p:blipFill>
          <a:blip r:embed="rId2"/>
          <a:stretch/>
        </p:blipFill>
        <p:spPr>
          <a:xfrm>
            <a:off x="468360" y="1773360"/>
            <a:ext cx="8351640" cy="453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2:05:57Z</dcterms:created>
  <dc:creator>Serg</dc:creator>
  <dc:description/>
  <dc:language>en-US</dc:language>
  <cp:lastModifiedBy>Serg</cp:lastModifiedBy>
  <dcterms:modified xsi:type="dcterms:W3CDTF">2013-02-28T12:06:37Z</dcterms:modified>
  <cp:revision>1</cp:revision>
  <dc:subject/>
  <dc:title>  Исследовательский проект   «Душа Родной земли- Саврасов»</dc:title>
</cp:coreProperties>
</file>