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3D3-B127-40D1-8306-DF30AD5F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425-229F-45C4-88D3-0229B635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400-AA74-4265-A79A-60948097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BB4-C082-46FC-8873-1508C10A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E895-8457-497B-BAE1-88A7565B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AA36-3593-4B7B-9E68-ADE4CCF8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53BF-B21E-4E9F-BE44-FFC4399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8B9F-A144-41CD-8158-601EAF74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733A-5FF3-475A-A8A0-48E2F7C6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7B9F-A2C2-4C04-A375-9C7861B7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630B-CF9F-41D8-9E9D-A3A8C458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994-1385-4378-953E-420333B9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BE63-150F-4174-91C3-1BB2AD3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B4B5-EC53-4C59-884A-2F4793A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4BF3-46BF-4B29-B63D-75ABBF00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3BD2-DCD0-481E-84C0-535FCA4C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59D9-B68F-427D-9441-9459E0A6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79534-303F-4DFC-9144-CE371ABD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00904-601E-49F0-81B6-C84F520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DBE7F-FA77-4DC5-AC99-FC90BFD2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408FE-FFE5-477B-B62E-3B7273DB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E646A-8C16-4BA1-A6D1-4C12B2F0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206-61C7-4A71-8CB7-250EB08E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D01F2-D5BD-487E-AAC0-2B0BAEC0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B1DE2-BF23-4AFE-B7EE-42F24F5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F2EC0-D8DE-428A-A336-39FFFD9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24C7F-8644-4623-99AB-FD5095E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8AD56-7C60-4CD9-8C24-E13380FE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ADCD4-D486-403E-B554-5BB09304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002BB-D545-449F-BAC6-1E114C67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BD81-3F66-41B8-AAA5-F1EB5B91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18D3-5537-4D71-AB9C-806CF18D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B1D2-146B-48F3-8B0C-E8D8260C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C16-E014-4D89-8110-BC7D771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D8FC-AD0A-49C9-874B-EDB20E95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A76C-265F-42C8-A400-B83A0DD2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9330-A04A-4BAE-BBA6-FA17A96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ADDF0-9BD4-4280-9BE9-6FBDD193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21B2-3EE4-4D30-8F98-01BE414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D89C-4E33-4291-951E-7CF9B37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5AE0-4310-46D5-AB55-DFCEA31D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6384-57BD-4FAB-8614-9D08BDF1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9B8C-D5DA-4508-9DD3-6B9BFAC6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C76-72A3-4865-BA12-6576050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725-5E86-4B0A-B6E1-111BD4CF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471-2E68-43AA-9E09-0BFE068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A9D-9075-4617-B735-5B5CFD1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AF1-675B-478D-B961-3863FDB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5ab8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d80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5ab8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d80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d80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E632-B603-4685-A3EE-296557161D8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dd80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dd80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dd80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5ab8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d80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5ab8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d80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d80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B790-A7D0-4387-BAAA-3B68ED982CC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5ab8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d80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5ab8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d80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d80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966F-054E-435B-95EB-5F66925482F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d80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5ab8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d80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5ab8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d80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d80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8AB6-5A21-4128-9F4D-0437E5F2FA4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0200" y="2401560"/>
            <a:ext cx="6415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ДЕКАДАНС</a:t>
            </a:r>
            <a:endParaRPr b="0" lang="en-US" sz="6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1155600" y="5670720"/>
            <a:ext cx="69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«Бельская СОШ» Тверской области Усачё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Артюр Рембо.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38" name="Picture 2" descr="I:\новый реализм\стихи рембо.jpg"/>
          <p:cNvPicPr/>
          <p:nvPr/>
        </p:nvPicPr>
        <p:blipFill>
          <a:blip r:embed="rId1"/>
          <a:stretch/>
        </p:blipFill>
        <p:spPr>
          <a:xfrm>
            <a:off x="5000760" y="1428840"/>
            <a:ext cx="3335040" cy="5086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I:\новый реализм\артюр рембо.jpg"/>
          <p:cNvPicPr/>
          <p:nvPr/>
        </p:nvPicPr>
        <p:blipFill>
          <a:blip r:embed="rId2"/>
          <a:stretch/>
        </p:blipFill>
        <p:spPr>
          <a:xfrm>
            <a:off x="714240" y="1785960"/>
            <a:ext cx="3429000" cy="484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Trebuchet MS"/>
              </a:rPr>
              <a:t>Верлибр (свободный стих)</a:t>
            </a:r>
            <a:endParaRPr b="0" lang="en-US" sz="28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А» чёрный, белый «Е», «И» красный, «У» зелёный,                «О» - голубой –цвета причудливой загадк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«А» - чёрный полог мух, которым в полдень слад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Миазмы трупные и воздух воспалённы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Заливы млечной мглы, «Е» – белые палатк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Льды, белые цари, сад, небом окроплённый;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«И» - пламень пурпура, вкус яростно солёны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Вкус крови на губах, как после жаркой схват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У» -  трепетная гладь, божественное море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Покой бескрайних нив, покой в усталом взор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Алхимика, чей лоб морщины бороздят;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«О» - резкий горний горн, сигнал миров нетленных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Молчанье ангелов, безмолвие вселенных;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«О» - лечезарнейшей Омеги вечный взгляд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Гласные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Стефан Малларме (1842-1898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43" name="Picture 2" descr="I:\новый реализм\э мане портрет малларме.jpg"/>
          <p:cNvPicPr/>
          <p:nvPr/>
        </p:nvPicPr>
        <p:blipFill>
          <a:blip r:embed="rId1"/>
          <a:stretch/>
        </p:blipFill>
        <p:spPr>
          <a:xfrm>
            <a:off x="428760" y="1984320"/>
            <a:ext cx="4500360" cy="33703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5"/>
          <p:cNvSpPr/>
          <p:nvPr/>
        </p:nvSpPr>
        <p:spPr>
          <a:xfrm>
            <a:off x="444240" y="557208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. Мане. Портрет С. Малла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I:\новый реализм\стихи маларме.jpg"/>
          <p:cNvPicPr/>
          <p:nvPr/>
        </p:nvPicPr>
        <p:blipFill>
          <a:blip r:embed="rId2"/>
          <a:stretch/>
        </p:blipFill>
        <p:spPr>
          <a:xfrm>
            <a:off x="5286240" y="1946160"/>
            <a:ext cx="3214800" cy="4629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I:\новый реализм\стефан малларме.jpg"/>
          <p:cNvPicPr/>
          <p:nvPr/>
        </p:nvPicPr>
        <p:blipFill>
          <a:blip r:embed="rId3"/>
          <a:stretch/>
        </p:blipFill>
        <p:spPr>
          <a:xfrm>
            <a:off x="5143680" y="1928880"/>
            <a:ext cx="3473280" cy="4795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856800"/>
            <a:ext cx="73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0 стихотворе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Следовать Малларме – это безумие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7120" y="2571480"/>
            <a:ext cx="832968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нет «Лебедь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ебедь земерзает во льду озера, не сумев сложить песню. Белоснежные крылья не помогут ему: оперение  сковано льд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Trebuchet MS"/>
              </a:rPr>
              <a:t>Гийом Аполлинер (Вильгельм Аполлинарис Костровицкий) 1880-1918</a:t>
            </a:r>
            <a:endParaRPr b="0" lang="en-US" sz="36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50" name="Picture 3" descr="I:\новый реализм\Guillaume_Apollinaire_1914.jpg"/>
          <p:cNvPicPr/>
          <p:nvPr/>
        </p:nvPicPr>
        <p:blipFill>
          <a:blip r:embed="rId1"/>
          <a:stretch/>
        </p:blipFill>
        <p:spPr>
          <a:xfrm>
            <a:off x="861840" y="2249640"/>
            <a:ext cx="32292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:\новый реализм\апол стихи.jpg"/>
          <p:cNvPicPr/>
          <p:nvPr/>
        </p:nvPicPr>
        <p:blipFill>
          <a:blip r:embed="rId2"/>
          <a:stretch/>
        </p:blipFill>
        <p:spPr>
          <a:xfrm>
            <a:off x="5000760" y="2379600"/>
            <a:ext cx="3276360" cy="4192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«Каллиграммы»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53" name="Picture 2" descr="I:\новый реализм\Calligramme.jpg"/>
          <p:cNvPicPr/>
          <p:nvPr/>
        </p:nvPicPr>
        <p:blipFill>
          <a:blip r:embed="rId1"/>
          <a:stretch/>
        </p:blipFill>
        <p:spPr>
          <a:xfrm>
            <a:off x="681120" y="2249640"/>
            <a:ext cx="35910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I:\новый реализм\аполлинер.jpg"/>
          <p:cNvPicPr/>
          <p:nvPr/>
        </p:nvPicPr>
        <p:blipFill>
          <a:blip r:embed="rId2"/>
          <a:stretch/>
        </p:blipFill>
        <p:spPr>
          <a:xfrm>
            <a:off x="4714920" y="2278080"/>
            <a:ext cx="3821040" cy="4235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I:\новый реализм\калиграмма Эйфелева башня.JPG"/>
          <p:cNvPicPr/>
          <p:nvPr/>
        </p:nvPicPr>
        <p:blipFill>
          <a:blip r:embed="rId3"/>
          <a:stretch/>
        </p:blipFill>
        <p:spPr>
          <a:xfrm>
            <a:off x="571680" y="1643040"/>
            <a:ext cx="376848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I:\новый реализм\стихи апол.jpg"/>
          <p:cNvPicPr/>
          <p:nvPr/>
        </p:nvPicPr>
        <p:blipFill>
          <a:blip r:embed="rId1"/>
          <a:stretch/>
        </p:blipFill>
        <p:spPr>
          <a:xfrm>
            <a:off x="285840" y="1143000"/>
            <a:ext cx="3687840" cy="4925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I:\новый реализм\калиграмма на русском.gif"/>
          <p:cNvPicPr/>
          <p:nvPr/>
        </p:nvPicPr>
        <p:blipFill>
          <a:blip r:embed="rId2"/>
          <a:stretch/>
        </p:blipFill>
        <p:spPr>
          <a:xfrm>
            <a:off x="4357800" y="428760"/>
            <a:ext cx="4398840" cy="6291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5257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Эмиль Верхарн (1855-1916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59" name="Picture 2" descr="I:\новый реализм\415px-Emile_Verhaeren04.jpg"/>
          <p:cNvPicPr/>
          <p:nvPr/>
        </p:nvPicPr>
        <p:blipFill>
          <a:blip r:embed="rId1"/>
          <a:stretch/>
        </p:blipFill>
        <p:spPr>
          <a:xfrm>
            <a:off x="4929120" y="1000080"/>
            <a:ext cx="3759120" cy="542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Trebuchet MS"/>
              </a:rPr>
              <a:t>«Освобождённый стих»</a:t>
            </a:r>
            <a:endParaRPr b="0" lang="en-US" sz="28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ереп к огню наклон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Смерть сидит у огн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Пьёт за стаканом стакан и качаетс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Полузакрыв глаза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Улыбается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У Господа гром, а у Смерти коса!.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Морис Метерлинк (1862-1949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63" name="Picture 2" descr="I:\новый реализм\Maurice_Maeterlinck.jpg"/>
          <p:cNvPicPr/>
          <p:nvPr/>
        </p:nvPicPr>
        <p:blipFill>
          <a:blip r:embed="rId1"/>
          <a:stretch/>
        </p:blipFill>
        <p:spPr>
          <a:xfrm>
            <a:off x="1071720" y="2143080"/>
            <a:ext cx="287496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I:\новый реализм\Meterlink-420x547.jpg"/>
          <p:cNvPicPr/>
          <p:nvPr/>
        </p:nvPicPr>
        <p:blipFill>
          <a:blip r:embed="rId2"/>
          <a:stretch/>
        </p:blipFill>
        <p:spPr>
          <a:xfrm>
            <a:off x="4929120" y="2249640"/>
            <a:ext cx="34765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143000"/>
            <a:ext cx="403848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Декаданс (декадентство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 фр.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adence –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адок, разложение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Явление в культуре, бросающее вызов общепринятым нравственным и эстетическим ценностям.  Слово было введено французским поэтом 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Теофилем Готье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 анализе искусства римской античности, воспевающего утончённые наслаждения жиз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4" descr="I:\ljgНовая папка\363px-Auguste_de_Chatillon_-_Portrait_de_Théophile_Gautier.jpg"/>
          <p:cNvPicPr/>
          <p:nvPr/>
        </p:nvPicPr>
        <p:blipFill>
          <a:blip r:embed="rId1"/>
          <a:stretch/>
        </p:blipFill>
        <p:spPr>
          <a:xfrm>
            <a:off x="5286240" y="857160"/>
            <a:ext cx="2987640" cy="492912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4"/>
          <p:cNvSpPr/>
          <p:nvPr/>
        </p:nvSpPr>
        <p:spPr>
          <a:xfrm>
            <a:off x="5708160" y="58579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филь Го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  </a:t>
            </a: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Символизм.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правление в искусстве 1870-1910-х гг., представители которого стремились с помощью символа выразить интуитивно постигаемый смысл явлений материального и духовного мира, воплотить его вневременную идеальную сущ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Шарль Бодлер (1821-1867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22" name="Picture 2" descr="I:\ljgНовая папка\469px-Charles_BaudelaireDS.jpg"/>
          <p:cNvPicPr/>
          <p:nvPr/>
        </p:nvPicPr>
        <p:blipFill>
          <a:blip r:embed="rId1"/>
          <a:stretch/>
        </p:blipFill>
        <p:spPr>
          <a:xfrm>
            <a:off x="708120" y="2071800"/>
            <a:ext cx="3676680" cy="470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I:\ljgНовая папка\цветы зла бодлер.jpg"/>
          <p:cNvPicPr/>
          <p:nvPr/>
        </p:nvPicPr>
        <p:blipFill>
          <a:blip r:embed="rId2"/>
          <a:stretch/>
        </p:blipFill>
        <p:spPr>
          <a:xfrm>
            <a:off x="5214960" y="1951200"/>
            <a:ext cx="3000240" cy="4789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3568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уистлевшая, она, раскинув ноги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Подобно девке площадной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Бесстыдно, брюхом вверх лежала у дороги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Зловонный выделяя гной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 вспомните: и вы, заразу источа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Вы трупом ляжете гнилым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Вы, солнце глаз моих, звезда моя жива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Вы, лучезарный серафи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Падаль». 1857 год. «Цветы зл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Поль Верлен (1844-1896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26" name="Picture 2" descr="I:\новый реализм\поль мари верлен.png"/>
          <p:cNvPicPr/>
          <p:nvPr/>
        </p:nvPicPr>
        <p:blipFill>
          <a:blip r:embed="rId1"/>
          <a:stretch/>
        </p:blipFill>
        <p:spPr>
          <a:xfrm>
            <a:off x="714240" y="2324160"/>
            <a:ext cx="3143520" cy="417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I:\новый реализм\книга верлена.jpg"/>
          <p:cNvPicPr/>
          <p:nvPr/>
        </p:nvPicPr>
        <p:blipFill>
          <a:blip r:embed="rId2"/>
          <a:stretch/>
        </p:blipFill>
        <p:spPr>
          <a:xfrm>
            <a:off x="5072040" y="2335320"/>
            <a:ext cx="3071880" cy="4130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Г. Курбе. Портрет Поля Варлена.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29" name="Picture 2" descr="I:\новый реализм\Г курбе поль верлен портрет.jpg"/>
          <p:cNvPicPr/>
          <p:nvPr/>
        </p:nvPicPr>
        <p:blipFill>
          <a:blip r:embed="rId1"/>
          <a:stretch/>
        </p:blipFill>
        <p:spPr>
          <a:xfrm>
            <a:off x="708120" y="2249640"/>
            <a:ext cx="353700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I:\новый реализм\верлен книга.jpg"/>
          <p:cNvPicPr/>
          <p:nvPr/>
        </p:nvPicPr>
        <p:blipFill>
          <a:blip r:embed="rId2"/>
          <a:stretch/>
        </p:blipFill>
        <p:spPr>
          <a:xfrm>
            <a:off x="4929120" y="2347920"/>
            <a:ext cx="310536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Trebuchet MS"/>
              </a:rPr>
              <a:t>Самый музыкальный поэт европейской литературы.</a:t>
            </a:r>
            <a:endParaRPr b="0" lang="en-US" sz="2400" spc="-1" strike="noStrike">
              <a:solidFill>
                <a:srgbClr val="775f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 музыки же вновь и вновь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Пускай в твоём стихе с разгон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Блеснут в дали преображён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Другое небо и любовь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Пускай он выболтает сдур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Всё, что впотьмах, чудо творя               Наворожит ему заря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Всё прочее – литерату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Искусство поэзии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Артюр Рембо (1854-1891)</a:t>
            </a:r>
            <a:endParaRPr b="0" lang="en-US" sz="4000" spc="-1" strike="noStrike">
              <a:solidFill>
                <a:srgbClr val="775f55"/>
              </a:solidFill>
              <a:latin typeface="Trebuchet MS"/>
            </a:endParaRPr>
          </a:p>
        </p:txBody>
      </p:sp>
      <p:pic>
        <p:nvPicPr>
          <p:cNvPr id="234" name="Picture 2" descr="I:\новый реализм\а фантен-латур за столом верлен и рнмбо.jpg"/>
          <p:cNvPicPr/>
          <p:nvPr/>
        </p:nvPicPr>
        <p:blipFill>
          <a:blip r:embed="rId1"/>
          <a:stretch/>
        </p:blipFill>
        <p:spPr>
          <a:xfrm>
            <a:off x="285840" y="2143080"/>
            <a:ext cx="4527360" cy="32860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6"/>
          <p:cNvSpPr/>
          <p:nvPr/>
        </p:nvSpPr>
        <p:spPr>
          <a:xfrm>
            <a:off x="796320" y="5715000"/>
            <a:ext cx="32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Фантен-Латур.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I:\новый реализм\Artyur_Rembo__Artyur_Rembo_Stihi.jpg"/>
          <p:cNvPicPr/>
          <p:nvPr/>
        </p:nvPicPr>
        <p:blipFill>
          <a:blip r:embed="rId2"/>
          <a:stretch/>
        </p:blipFill>
        <p:spPr>
          <a:xfrm>
            <a:off x="5072040" y="1857240"/>
            <a:ext cx="315432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ачева</cp:lastModifiedBy>
  <dcterms:modified xsi:type="dcterms:W3CDTF">2013-02-28T13:01:06Z</dcterms:modified>
  <cp:revision>19</cp:revision>
  <dc:subject/>
  <dc:title>Слайд 1</dc:title>
</cp:coreProperties>
</file>