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C0F-EDD1-4EDF-BAA9-73033CD9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3EF-FAFA-4BF3-9CA6-83E24402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A6C-81EB-4B34-A3C4-77A98B4B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92E-ED9C-4774-837E-87628B10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73D0-1091-40DD-90DD-714EAC07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511E-8E21-4A3F-8F23-89A58BDD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A84C-FCAE-4A6D-96C4-8C4F2FC5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80A4-780B-4CDA-AE11-BFB226AC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D9E6-B1E7-41E3-B841-A847256B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945C-CFE9-491F-9D63-6EE27A26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B874-80C5-4F7C-A073-D98A63D2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E9DB-EFD9-49F2-BD90-065EAE93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F1C3-3779-419A-91DA-A90F5CE5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CBB1-CF66-4BA2-944B-75137051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13CC-65DB-4B35-9332-7558B316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82EF-3B9C-4A42-8FC1-BF048A70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0B30-279D-4C84-95A9-4760A1F2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6DC2D-D27B-44AB-8CFA-23CB15C7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C176B-4285-4C00-8F04-11BC2DBE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25927-6DCB-4980-887E-69C92A52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8CE14-8153-420E-BD67-48EBBF3B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80D2C-CCC9-4A01-9F08-7B169C25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D59-60D1-4497-9982-6A14828B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5F1E8-7A0E-4FEA-A53D-1288079F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A0ED6-7EC7-4044-B7AC-E6EFEE1A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18627-1838-427B-8C34-8D2E472C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48339E-0978-45B6-B30A-D9940BE9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BE311-E34E-4FD5-A89C-DE862F7B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4B1947-945C-4261-8F73-7EFFD43A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D9144-972F-4815-8A32-6184C458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26FAD-A011-431B-8F54-C18284FE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8512E-A59A-443E-BE02-93124C94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209CD-5852-41FF-BDB7-70E49945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1E19-3BFB-4281-937E-CCB643AE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82A24-37ED-4700-B82A-A8001883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A1AB9-9BEF-4BE7-8BC6-AE5AA528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56887-783F-4BC3-A6BD-1D6BEE95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F8134-3529-4D2B-B5BE-5EBE289E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EB3E2-207A-47B0-A759-3BC6ED06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AB50F-A5FF-42FC-876F-61BE91B8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0E4DA-0F0E-4C72-93E4-78F5F592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3B798-B31F-48B6-AC04-F08E8143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11D59-8FCF-4FD9-9086-E9FF7273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216B-C29B-405B-9EE3-E059A1D8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B6C1-3782-4FC4-9D4F-EC7E2CF0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0E41-B827-4B38-99F0-416F8DB5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D09A-8A3F-41EC-BF8C-F38F9695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806-F273-4134-9B4C-69A36457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dd80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dd80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5ab8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dd80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5ab8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dd80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d80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3A4E-E6FC-4BD1-AFA3-03673BD088D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dd80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dd80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dd804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dd80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dd80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5ab8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dd80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5ab8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dd80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d80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D808-4DE5-4C64-95E4-C979B5A09FE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dd80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dd80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5ab8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dd80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5ab8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dd80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d80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3060-2D15-4E9B-8109-48D10EB2B9C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dd80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dd80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5ab8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dd80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5ab8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dd80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d80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9D84-E07C-4B41-A2BE-B9A541E9E77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0200" y="2401560"/>
            <a:ext cx="6415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rebuchet MS"/>
              </a:rPr>
              <a:t>ДЕКАДАНС</a:t>
            </a:r>
            <a:endParaRPr b="0" lang="en-US" sz="6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1155600" y="5670720"/>
            <a:ext cx="69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ОУ «Бельская СОШ» Тверской области Усачё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Артюр Рембо.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pic>
        <p:nvPicPr>
          <p:cNvPr id="238" name="Picture 2" descr="I:\новый реализм\стихи рембо.jpg"/>
          <p:cNvPicPr/>
          <p:nvPr/>
        </p:nvPicPr>
        <p:blipFill>
          <a:blip r:embed="rId1"/>
          <a:stretch/>
        </p:blipFill>
        <p:spPr>
          <a:xfrm>
            <a:off x="5000760" y="1428840"/>
            <a:ext cx="3335040" cy="5086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I:\новый реализм\артюр рембо.jpg"/>
          <p:cNvPicPr/>
          <p:nvPr/>
        </p:nvPicPr>
        <p:blipFill>
          <a:blip r:embed="rId2"/>
          <a:stretch/>
        </p:blipFill>
        <p:spPr>
          <a:xfrm>
            <a:off x="714240" y="1785960"/>
            <a:ext cx="3429000" cy="4849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Trebuchet MS"/>
              </a:rPr>
              <a:t>Верлибр (свободный стих)</a:t>
            </a:r>
            <a:endParaRPr b="0" lang="en-US" sz="28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4268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«А» чёрный, белый «Е», «И» красный, «У» зелёный,                «О» - голубой –цвета причудливой загадк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«А» - чёрный полог мух, которым в полдень сладк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Миазмы трупные и воздух воспалённый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Заливы млечной мглы, «Е» – белые палатк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Льды, белые цари, сад, небом окроплённый;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«И» - пламень пурпура, вкус яростно солёный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Вкус крови на губах, как после жаркой схват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«У» -  трепетная гладь, божественное море,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       Покой бескрайних нив, покой в усталом взоре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  Алхимика, чей лоб морщины бороздят;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«О» - резкий горний горн, сигнал миров нетленных,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Молчанье ангелов, безмолвие вселенных;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           «О» - лечезарнейшей Омеги вечный взгляд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«Гласные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Стефан Малларме (1842-1898)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pic>
        <p:nvPicPr>
          <p:cNvPr id="243" name="Picture 2" descr="I:\новый реализм\э мане портрет малларме.jpg"/>
          <p:cNvPicPr/>
          <p:nvPr/>
        </p:nvPicPr>
        <p:blipFill>
          <a:blip r:embed="rId1"/>
          <a:stretch/>
        </p:blipFill>
        <p:spPr>
          <a:xfrm>
            <a:off x="428760" y="1984320"/>
            <a:ext cx="4500360" cy="337032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5"/>
          <p:cNvSpPr/>
          <p:nvPr/>
        </p:nvSpPr>
        <p:spPr>
          <a:xfrm>
            <a:off x="444240" y="5572080"/>
            <a:ext cx="35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. Мане. Портрет С. Малла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I:\новый реализм\стихи маларме.jpg"/>
          <p:cNvPicPr/>
          <p:nvPr/>
        </p:nvPicPr>
        <p:blipFill>
          <a:blip r:embed="rId2"/>
          <a:stretch/>
        </p:blipFill>
        <p:spPr>
          <a:xfrm>
            <a:off x="5286240" y="1946160"/>
            <a:ext cx="3214800" cy="4629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I:\новый реализм\стефан малларме.jpg"/>
          <p:cNvPicPr/>
          <p:nvPr/>
        </p:nvPicPr>
        <p:blipFill>
          <a:blip r:embed="rId3"/>
          <a:stretch/>
        </p:blipFill>
        <p:spPr>
          <a:xfrm>
            <a:off x="5143680" y="1928880"/>
            <a:ext cx="3473280" cy="4795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856800"/>
            <a:ext cx="73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60 стихотворен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Следовать Малларме – это безумие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57120" y="2571480"/>
            <a:ext cx="832968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нет «Лебедь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ебедь земерзает во льду озера, не сумев сложить песню. Белоснежные крылья не помогут ему: оперение  сковано льд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75f55"/>
                </a:solidFill>
                <a:latin typeface="Trebuchet MS"/>
              </a:rPr>
              <a:t>Гийом Аполлинер (Вильгельм Аполлинарис Костровицкий) 1880-1918</a:t>
            </a:r>
            <a:endParaRPr b="0" lang="en-US" sz="3600" spc="-1" strike="noStrike">
              <a:solidFill>
                <a:srgbClr val="775f55"/>
              </a:solidFill>
              <a:latin typeface="Trebuchet MS"/>
            </a:endParaRPr>
          </a:p>
        </p:txBody>
      </p:sp>
      <p:pic>
        <p:nvPicPr>
          <p:cNvPr id="250" name="Picture 3" descr="I:\новый реализм\Guillaume_Apollinaire_1914.jpg"/>
          <p:cNvPicPr/>
          <p:nvPr/>
        </p:nvPicPr>
        <p:blipFill>
          <a:blip r:embed="rId1"/>
          <a:stretch/>
        </p:blipFill>
        <p:spPr>
          <a:xfrm>
            <a:off x="861840" y="2249640"/>
            <a:ext cx="3229200" cy="4525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I:\новый реализм\апол стихи.jpg"/>
          <p:cNvPicPr/>
          <p:nvPr/>
        </p:nvPicPr>
        <p:blipFill>
          <a:blip r:embed="rId2"/>
          <a:stretch/>
        </p:blipFill>
        <p:spPr>
          <a:xfrm>
            <a:off x="5000760" y="2379600"/>
            <a:ext cx="3276360" cy="4192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«Каллиграммы»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pic>
        <p:nvPicPr>
          <p:cNvPr id="253" name="Picture 2" descr="I:\новый реализм\Calligramme.jpg"/>
          <p:cNvPicPr/>
          <p:nvPr/>
        </p:nvPicPr>
        <p:blipFill>
          <a:blip r:embed="rId1"/>
          <a:stretch/>
        </p:blipFill>
        <p:spPr>
          <a:xfrm>
            <a:off x="681120" y="2249640"/>
            <a:ext cx="3591000" cy="452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I:\новый реализм\аполлинер.jpg"/>
          <p:cNvPicPr/>
          <p:nvPr/>
        </p:nvPicPr>
        <p:blipFill>
          <a:blip r:embed="rId2"/>
          <a:stretch/>
        </p:blipFill>
        <p:spPr>
          <a:xfrm>
            <a:off x="4714920" y="2278080"/>
            <a:ext cx="3821040" cy="4235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I:\новый реализм\калиграмма Эйфелева башня.JPG"/>
          <p:cNvPicPr/>
          <p:nvPr/>
        </p:nvPicPr>
        <p:blipFill>
          <a:blip r:embed="rId3"/>
          <a:stretch/>
        </p:blipFill>
        <p:spPr>
          <a:xfrm>
            <a:off x="571680" y="1643040"/>
            <a:ext cx="3768480" cy="50720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I:\новый реализм\стихи апол.jpg"/>
          <p:cNvPicPr/>
          <p:nvPr/>
        </p:nvPicPr>
        <p:blipFill>
          <a:blip r:embed="rId1"/>
          <a:stretch/>
        </p:blipFill>
        <p:spPr>
          <a:xfrm>
            <a:off x="285840" y="1143000"/>
            <a:ext cx="3687840" cy="4925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I:\новый реализм\калиграмма на русском.gif"/>
          <p:cNvPicPr/>
          <p:nvPr/>
        </p:nvPicPr>
        <p:blipFill>
          <a:blip r:embed="rId2"/>
          <a:stretch/>
        </p:blipFill>
        <p:spPr>
          <a:xfrm>
            <a:off x="4357800" y="428760"/>
            <a:ext cx="4398840" cy="6291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52578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Эмиль Верхарн (1855-1916)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pic>
        <p:nvPicPr>
          <p:cNvPr id="259" name="Picture 2" descr="I:\новый реализм\415px-Emile_Verhaeren04.jpg"/>
          <p:cNvPicPr/>
          <p:nvPr/>
        </p:nvPicPr>
        <p:blipFill>
          <a:blip r:embed="rId1"/>
          <a:stretch/>
        </p:blipFill>
        <p:spPr>
          <a:xfrm>
            <a:off x="4929120" y="1000080"/>
            <a:ext cx="3759120" cy="5426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Trebuchet MS"/>
              </a:rPr>
              <a:t>«Освобождённый стих»</a:t>
            </a:r>
            <a:endParaRPr b="0" lang="en-US" sz="28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ереп к огню наклоня,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 Смерть сидит у огня,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Пьёт за стаканом стакан и качается,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Полузакрыв глаза,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Улыбается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У Господа гром, а у Смерти коса!.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Морис Метерлинк (1862-1949)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pic>
        <p:nvPicPr>
          <p:cNvPr id="263" name="Picture 2" descr="I:\новый реализм\Maurice_Maeterlinck.jpg"/>
          <p:cNvPicPr/>
          <p:nvPr/>
        </p:nvPicPr>
        <p:blipFill>
          <a:blip r:embed="rId1"/>
          <a:stretch/>
        </p:blipFill>
        <p:spPr>
          <a:xfrm>
            <a:off x="1071720" y="2143080"/>
            <a:ext cx="287496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I:\новый реализм\Meterlink-420x547.jpg"/>
          <p:cNvPicPr/>
          <p:nvPr/>
        </p:nvPicPr>
        <p:blipFill>
          <a:blip r:embed="rId2"/>
          <a:stretch/>
        </p:blipFill>
        <p:spPr>
          <a:xfrm>
            <a:off x="4929120" y="2249640"/>
            <a:ext cx="347652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143000"/>
            <a:ext cx="4038480" cy="56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Georgia"/>
              </a:rPr>
              <a:t>Декаданс (декадентство)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т фр.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adence –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падок, разложение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Явление в культуре, бросающее вызов общепринятым нравственным и эстетическим ценностям.  Слово было введено французским поэтом </a:t>
            </a:r>
            <a:r>
              <a:rPr b="0" lang="ru-RU" sz="2000" spc="-1" strike="noStrike">
                <a:solidFill>
                  <a:srgbClr val="ff0000"/>
                </a:solidFill>
                <a:latin typeface="Georgia"/>
              </a:rPr>
              <a:t>Теофилем Готье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 анализе искусства римской античности, воспевающего утончённые наслаждения жизн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7" name="Picture 4" descr="I:\ljgНовая папка\363px-Auguste_de_Chatillon_-_Portrait_de_Théophile_Gautier.jpg"/>
          <p:cNvPicPr/>
          <p:nvPr/>
        </p:nvPicPr>
        <p:blipFill>
          <a:blip r:embed="rId1"/>
          <a:stretch/>
        </p:blipFill>
        <p:spPr>
          <a:xfrm>
            <a:off x="5286240" y="857160"/>
            <a:ext cx="2987640" cy="492912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4"/>
          <p:cNvSpPr/>
          <p:nvPr/>
        </p:nvSpPr>
        <p:spPr>
          <a:xfrm>
            <a:off x="5708160" y="585792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филь Гот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  </a:t>
            </a: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Символизм.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правление в искусстве 1870-1910-х гг., представители которого стремились с помощью символа выразить интуитивно постигаемый смысл явлений материального и духовного мира, воплотить его вневременную идеальную сущнос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Шарль Бодлер (1821-1867)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pic>
        <p:nvPicPr>
          <p:cNvPr id="222" name="Picture 2" descr="I:\ljgНовая папка\469px-Charles_BaudelaireDS.jpg"/>
          <p:cNvPicPr/>
          <p:nvPr/>
        </p:nvPicPr>
        <p:blipFill>
          <a:blip r:embed="rId1"/>
          <a:stretch/>
        </p:blipFill>
        <p:spPr>
          <a:xfrm>
            <a:off x="708120" y="2071800"/>
            <a:ext cx="3676680" cy="4703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I:\ljgНовая папка\цветы зла бодлер.jpg"/>
          <p:cNvPicPr/>
          <p:nvPr/>
        </p:nvPicPr>
        <p:blipFill>
          <a:blip r:embed="rId2"/>
          <a:stretch/>
        </p:blipFill>
        <p:spPr>
          <a:xfrm>
            <a:off x="5214960" y="1951200"/>
            <a:ext cx="3000240" cy="4789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135684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луистлевшая, она, раскинув ноги,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Подобно девке площадной,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Бесстыдно, брюхом вверх лежала у дороги,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Зловонный выделяя гной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 вспомните: и вы, заразу источая,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Вы трупом ляжете гнилым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Вы, солнце глаз моих, звезда моя живая,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Вы, лучезарный серафи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Падаль». 1857 год. «Цветы зла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Поль Верлен (1844-1896)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pic>
        <p:nvPicPr>
          <p:cNvPr id="226" name="Picture 2" descr="I:\новый реализм\поль мари верлен.png"/>
          <p:cNvPicPr/>
          <p:nvPr/>
        </p:nvPicPr>
        <p:blipFill>
          <a:blip r:embed="rId1"/>
          <a:stretch/>
        </p:blipFill>
        <p:spPr>
          <a:xfrm>
            <a:off x="714240" y="2324160"/>
            <a:ext cx="3143520" cy="4174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I:\новый реализм\книга верлена.jpg"/>
          <p:cNvPicPr/>
          <p:nvPr/>
        </p:nvPicPr>
        <p:blipFill>
          <a:blip r:embed="rId2"/>
          <a:stretch/>
        </p:blipFill>
        <p:spPr>
          <a:xfrm>
            <a:off x="5072040" y="2335320"/>
            <a:ext cx="3071880" cy="4130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Г. Курбе. Портрет Поля Варлена.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pic>
        <p:nvPicPr>
          <p:cNvPr id="229" name="Picture 2" descr="I:\новый реализм\Г курбе поль верлен портрет.jpg"/>
          <p:cNvPicPr/>
          <p:nvPr/>
        </p:nvPicPr>
        <p:blipFill>
          <a:blip r:embed="rId1"/>
          <a:stretch/>
        </p:blipFill>
        <p:spPr>
          <a:xfrm>
            <a:off x="708120" y="2249640"/>
            <a:ext cx="3537000" cy="4525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:\новый реализм\верлен книга.jpg"/>
          <p:cNvPicPr/>
          <p:nvPr/>
        </p:nvPicPr>
        <p:blipFill>
          <a:blip r:embed="rId2"/>
          <a:stretch/>
        </p:blipFill>
        <p:spPr>
          <a:xfrm>
            <a:off x="4929120" y="2347920"/>
            <a:ext cx="3105360" cy="38671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Trebuchet MS"/>
              </a:rPr>
              <a:t>Самый музыкальный поэт европейской литературы.</a:t>
            </a:r>
            <a:endParaRPr b="0" lang="en-US" sz="24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ак музыки же вновь и вновь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Пускай в твоём стихе с разгону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Блеснут в дали преображённой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Другое небо и любовь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Пускай он выболтает сдуру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Всё, что впотьмах, чудо творя               Наворожит ему заря…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Всё прочее – литератур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Искусство поэзии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Артюр Рембо (1854-1891)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pic>
        <p:nvPicPr>
          <p:cNvPr id="234" name="Picture 2" descr="I:\новый реализм\а фантен-латур за столом верлен и рнмбо.jpg"/>
          <p:cNvPicPr/>
          <p:nvPr/>
        </p:nvPicPr>
        <p:blipFill>
          <a:blip r:embed="rId1"/>
          <a:stretch/>
        </p:blipFill>
        <p:spPr>
          <a:xfrm>
            <a:off x="285840" y="2143080"/>
            <a:ext cx="4527360" cy="328608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6"/>
          <p:cNvSpPr/>
          <p:nvPr/>
        </p:nvSpPr>
        <p:spPr>
          <a:xfrm>
            <a:off x="796320" y="5715000"/>
            <a:ext cx="32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Фантен-Латур. За сто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I:\новый реализм\Artyur_Rembo__Artyur_Rembo_Stihi.jpg"/>
          <p:cNvPicPr/>
          <p:nvPr/>
        </p:nvPicPr>
        <p:blipFill>
          <a:blip r:embed="rId2"/>
          <a:stretch/>
        </p:blipFill>
        <p:spPr>
          <a:xfrm>
            <a:off x="5072040" y="1857240"/>
            <a:ext cx="315432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сачева</cp:lastModifiedBy>
  <dcterms:modified xsi:type="dcterms:W3CDTF">2013-02-28T13:01:06Z</dcterms:modified>
  <cp:revision>19</cp:revision>
  <dc:subject/>
  <dc:title>Слайд 1</dc:title>
</cp:coreProperties>
</file>