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FD01B-8156-4E12-9BDA-17395456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1E8F3-D0E1-407C-BFDD-09063B60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B96C8-AC19-4CBF-B5A2-82CFD28C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4EA0-1952-4874-A01D-E14F12E7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C62C-379E-4909-B035-2ACE1A42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A9E5-FC65-47F3-AF2B-4D3E0670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A3CF-68B7-4CF5-A332-DDED655E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6FDD-8E84-4AFE-B219-E86ED2AC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EE53-1147-4AA9-A9D5-43FC03B9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927E-B74A-4F03-961A-09D50769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1D00-FE9A-4D2F-A8F9-F776D21C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D4B32-9BB1-4E4C-ABCC-54A87ED3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6A67-C523-4BE4-8DBA-B6E517B4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A982-A3AD-4896-AC78-4EDBE79D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6347-32E4-4587-995A-B3C46F7E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B56B-A763-40C3-8674-09CCB27D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5A7F-5E08-4D9D-863D-B8CBD982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91DBD-9E18-4F1B-9999-AFA12292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4BBC8-D45B-4CA2-9DDF-981A011D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3405-723D-4F8D-8D50-576B5606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44F2-3F28-4B1A-89CB-2992CDE7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1EB4E-3AC4-4AB8-B3DF-C390D5A4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E3962-6372-4278-B2B9-42AE6B74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1694F-B297-4816-894C-C7436389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3AB2-8F3C-4D18-ACB0-1F0CCF0212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81FE-35DA-41A7-AC3D-19EF4DD2680E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69564"/>
                </a:solidFill>
                <a:latin typeface="Garamond"/>
              </a:rPr>
              <a:t>Экспрессионизм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831960" y="5791320"/>
            <a:ext cx="73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Учитель МОУ «Бельская СОШ» Тверской области Усачёва Н.В.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Эдвард Мунк. Мадонна. 1894 г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24" name="Picture 6" descr="img236"/>
          <p:cNvPicPr/>
          <p:nvPr/>
        </p:nvPicPr>
        <p:blipFill>
          <a:blip r:embed="rId1"/>
          <a:stretch/>
        </p:blipFill>
        <p:spPr>
          <a:xfrm>
            <a:off x="2590920" y="1523880"/>
            <a:ext cx="3828960" cy="5181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«Мост» 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8769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(Дрезден, 1905 год)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Эрнст Людвиг Кирхнер, Эмиль Нольде, Эрих Хеккель, Карл Шмидт-Ротлуфф и другие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27" name="Picture 4" descr="I:\эксп\кирхнер художники моста.jpg"/>
          <p:cNvPicPr/>
          <p:nvPr/>
        </p:nvPicPr>
        <p:blipFill>
          <a:blip r:embed="rId1"/>
          <a:stretch/>
        </p:blipFill>
        <p:spPr>
          <a:xfrm>
            <a:off x="5334120" y="1371600"/>
            <a:ext cx="3504960" cy="48466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6"/>
          <p:cNvSpPr/>
          <p:nvPr/>
        </p:nvSpPr>
        <p:spPr>
          <a:xfrm>
            <a:off x="3221640" y="6324480"/>
            <a:ext cx="61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Эрнст Людвиг Кирхнер. Художники руппы «Мост».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1736640"/>
            <a:ext cx="518148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69564"/>
                </a:solidFill>
                <a:latin typeface="Garamond"/>
              </a:rPr>
              <a:t>Эрнст Людвиг Кирхнер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3505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1880-1936 гг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31" name="Picture 6" descr="I:\эксп\эрнст кирхнер.jpg"/>
          <p:cNvPicPr/>
          <p:nvPr/>
        </p:nvPicPr>
        <p:blipFill>
          <a:blip r:embed="rId1"/>
          <a:stretch/>
        </p:blipFill>
        <p:spPr>
          <a:xfrm>
            <a:off x="5867280" y="838080"/>
            <a:ext cx="3100680" cy="4372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6252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Эрнст Кирхнер. Фрэнци в резном кресле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33" name="Picture 7" descr="I:\эксп\фрэнци в резном кресле.jpeg"/>
          <p:cNvPicPr/>
          <p:nvPr/>
        </p:nvPicPr>
        <p:blipFill>
          <a:blip r:embed="rId1"/>
          <a:stretch/>
        </p:blipFill>
        <p:spPr>
          <a:xfrm>
            <a:off x="4800600" y="533520"/>
            <a:ext cx="4071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Эрнст Кирхнер. Автопортрет в солдатской форме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35" name="Picture 6" descr="img239"/>
          <p:cNvPicPr/>
          <p:nvPr/>
        </p:nvPicPr>
        <p:blipFill>
          <a:blip r:embed="rId1"/>
          <a:stretch/>
        </p:blipFill>
        <p:spPr>
          <a:xfrm>
            <a:off x="2625840" y="1600200"/>
            <a:ext cx="3882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Эрнст Кирхнер. Улица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37" name="Picture 6" descr="img241"/>
          <p:cNvPicPr/>
          <p:nvPr/>
        </p:nvPicPr>
        <p:blipFill>
          <a:blip r:embed="rId1"/>
          <a:stretch/>
        </p:blipFill>
        <p:spPr>
          <a:xfrm>
            <a:off x="990720" y="1676520"/>
            <a:ext cx="71625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Эрнст Кирхнер. Красная башня в Хале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39" name="Picture 6" descr="img242"/>
          <p:cNvPicPr/>
          <p:nvPr/>
        </p:nvPicPr>
        <p:blipFill>
          <a:blip r:embed="rId1"/>
          <a:stretch/>
        </p:blipFill>
        <p:spPr>
          <a:xfrm>
            <a:off x="2666880" y="1600200"/>
            <a:ext cx="3996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Франц Марк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«Нам совершенно безразлично, «понимают» нас или нет, мы внимаем лишь себе, не времени…»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3733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69564"/>
                </a:solidFill>
                <a:latin typeface="Garamond"/>
              </a:rPr>
              <a:t>Эмиль Ханзен (Нольде)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2438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1867-1956 гг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44" name="Picture 6" descr="I:\эксп\emil-nolde-autoportrait-1917.1171066756.jpg"/>
          <p:cNvPicPr/>
          <p:nvPr/>
        </p:nvPicPr>
        <p:blipFill>
          <a:blip r:embed="rId1"/>
          <a:stretch/>
        </p:blipFill>
        <p:spPr>
          <a:xfrm>
            <a:off x="4038480" y="228600"/>
            <a:ext cx="4953240" cy="6162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Эмиль Нольде. Пляска вокруг золотого тельца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46" name="Picture 7" descr="I:\эксп\нольде пляска вокруг.jpg"/>
          <p:cNvPicPr/>
          <p:nvPr/>
        </p:nvPicPr>
        <p:blipFill>
          <a:blip r:embed="rId1"/>
          <a:stretch/>
        </p:blipFill>
        <p:spPr>
          <a:xfrm>
            <a:off x="1523880" y="1566720"/>
            <a:ext cx="6096240" cy="496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Expressio</a:t>
            </a: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 (лат.) – выражение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Это течение в изобразительном искусстве объединяет прежде всего творчество художников, работавших в Германии перед Первой мировой войной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Экспрессионизм –это попытка показать внутренний мир человека, его переживания, как правило, в момент предельного духовного напряжения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69564"/>
                </a:solidFill>
                <a:latin typeface="Garamond"/>
              </a:rPr>
              <a:t>«Мой прекрасный, мой трагический мир».</a:t>
            </a:r>
            <a:endParaRPr b="1" lang="en-US" sz="5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(Эмиль Нольде)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Эмиль Нольде. Мельница на севере 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50" name="Picture 6" descr="img244"/>
          <p:cNvPicPr/>
          <p:nvPr/>
        </p:nvPicPr>
        <p:blipFill>
          <a:blip r:embed="rId1"/>
          <a:stretch/>
        </p:blipFill>
        <p:spPr>
          <a:xfrm>
            <a:off x="1295280" y="1523880"/>
            <a:ext cx="6705720" cy="514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736640"/>
            <a:ext cx="403848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69564"/>
                </a:solidFill>
                <a:latin typeface="Garamond"/>
              </a:rPr>
              <a:t>Оскар Кокошка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3047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1886-1980 гг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53" name="Picture 6" descr="I:\эксп\кокошка.jpg"/>
          <p:cNvPicPr/>
          <p:nvPr/>
        </p:nvPicPr>
        <p:blipFill>
          <a:blip r:embed="rId1"/>
          <a:stretch/>
        </p:blipFill>
        <p:spPr>
          <a:xfrm>
            <a:off x="4800600" y="3049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О. Кокошка. Портрет девушки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55" name="Picture 2" descr="I:\эксп\17641652_Oskar_Kokoshka_Portret_devochki_1913_szh.JPG"/>
          <p:cNvPicPr/>
          <p:nvPr/>
        </p:nvPicPr>
        <p:blipFill>
          <a:blip r:embed="rId1"/>
          <a:stretch/>
        </p:blipFill>
        <p:spPr>
          <a:xfrm>
            <a:off x="2514600" y="1284120"/>
            <a:ext cx="4191120" cy="539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О. Кокошка. Портрет Адольфа Лооса. 1909 г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57" name="Picture 2" descr="I:\эксп\портрет лооса кокошка.jpg"/>
          <p:cNvPicPr/>
          <p:nvPr/>
        </p:nvPicPr>
        <p:blipFill>
          <a:blip r:embed="rId1"/>
          <a:stretch/>
        </p:blipFill>
        <p:spPr>
          <a:xfrm>
            <a:off x="1371600" y="1600200"/>
            <a:ext cx="6205680" cy="493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О. Кокошка. Женевское озеро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59" name="Picture 2" descr="I:\эксп\кокошка женевское озеро.jpg"/>
          <p:cNvPicPr/>
          <p:nvPr/>
        </p:nvPicPr>
        <p:blipFill>
          <a:blip r:embed="rId1"/>
          <a:stretch/>
        </p:blipFill>
        <p:spPr>
          <a:xfrm>
            <a:off x="1371600" y="1523880"/>
            <a:ext cx="6477120" cy="4764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Оскар Кокошка. Благовещение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61" name="Picture 6" descr="img245"/>
          <p:cNvPicPr/>
          <p:nvPr/>
        </p:nvPicPr>
        <p:blipFill>
          <a:blip r:embed="rId1"/>
          <a:stretch/>
        </p:blipFill>
        <p:spPr>
          <a:xfrm>
            <a:off x="1219320" y="1673280"/>
            <a:ext cx="6781680" cy="499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736640"/>
            <a:ext cx="4343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69564"/>
                </a:solidFill>
                <a:latin typeface="Garamond"/>
              </a:rPr>
              <a:t>Отто Дикс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3200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1891-1969 гг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64" name="Picture 6" descr="I:\эксп\Otto_Dix.jpg"/>
          <p:cNvPicPr/>
          <p:nvPr/>
        </p:nvPicPr>
        <p:blipFill>
          <a:blip r:embed="rId1"/>
          <a:stretch/>
        </p:blipFill>
        <p:spPr>
          <a:xfrm>
            <a:off x="5334120" y="609480"/>
            <a:ext cx="3414600" cy="4148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Отто Дикс. Большой город (триптих)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66" name="Picture 6" descr="img246"/>
          <p:cNvPicPr/>
          <p:nvPr/>
        </p:nvPicPr>
        <p:blipFill>
          <a:blip r:embed="rId1"/>
          <a:stretch/>
        </p:blipFill>
        <p:spPr>
          <a:xfrm>
            <a:off x="457200" y="1886040"/>
            <a:ext cx="8229600" cy="395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О. Дикс. Война. Триптих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68" name="Picture 2" descr="I:\эксп\дикс война.jpg"/>
          <p:cNvPicPr/>
          <p:nvPr/>
        </p:nvPicPr>
        <p:blipFill>
          <a:blip r:embed="rId1"/>
          <a:stretch/>
        </p:blipFill>
        <p:spPr>
          <a:xfrm>
            <a:off x="685800" y="1600200"/>
            <a:ext cx="7543800" cy="5011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Эдвард Мунк. (1863-1944 гг.) Норвегия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5486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«Болезнь, безумие и смерть – чёрные ангелы, которые стояли на страже моей колыбели и сопровождали меня всю жизнь». 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(Из дневника Э. Мунка).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06" name="Picture 4" descr="I:\эксп\EdvardMunch.jpg"/>
          <p:cNvPicPr/>
          <p:nvPr/>
        </p:nvPicPr>
        <p:blipFill>
          <a:blip r:embed="rId1"/>
          <a:stretch/>
        </p:blipFill>
        <p:spPr>
          <a:xfrm>
            <a:off x="6019920" y="2057400"/>
            <a:ext cx="2689200" cy="3479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358164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Отто Дикс. Семь смертных грехов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70" name="Picture 7" descr="I:\эксп\дикс семь смертных грехов.jpg"/>
          <p:cNvPicPr/>
          <p:nvPr/>
        </p:nvPicPr>
        <p:blipFill>
          <a:blip r:embed="rId1"/>
          <a:stretch/>
        </p:blipFill>
        <p:spPr>
          <a:xfrm>
            <a:off x="4267080" y="152280"/>
            <a:ext cx="4343400" cy="645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Эдвард Мунк. Больная девочка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08" name="Picture 6" descr="img233"/>
          <p:cNvPicPr/>
          <p:nvPr/>
        </p:nvPicPr>
        <p:blipFill>
          <a:blip r:embed="rId1"/>
          <a:stretch/>
        </p:blipFill>
        <p:spPr>
          <a:xfrm>
            <a:off x="1981080" y="1447920"/>
            <a:ext cx="5257800" cy="5270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Эдвард Мунк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«Я прогуливался с двумя друзьями вдоль улицы – солнце зашло, небо окрасилось в кроваво-красный цвет, - и меня охватило чувство меланхолии. Я остановился, обессиленный до смерти, и оперся на парапет. Над городом и над чёрно-голубым фьордом, как кровь и языки огня, висят тучи. Мои друзья продолжили свою дорогу, а я стоял, пригвождённый к месту, дрожа от страха. Я услышал ужасающий, нескончаемый крик природы»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Эдвард Мунк. Крик. 1893 г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12" name="Picture 6" descr="img238"/>
          <p:cNvPicPr/>
          <p:nvPr/>
        </p:nvPicPr>
        <p:blipFill>
          <a:blip r:embed="rId1"/>
          <a:stretch/>
        </p:blipFill>
        <p:spPr>
          <a:xfrm>
            <a:off x="2484360" y="1600200"/>
            <a:ext cx="4075200" cy="5105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23920" y="274320"/>
            <a:ext cx="396252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Эдвард Мунк. Отроковица (Половая зрелость)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14" name="Picture 7" descr="I:\эксп\половая зрелость отроковица.jpg"/>
          <p:cNvPicPr/>
          <p:nvPr/>
        </p:nvPicPr>
        <p:blipFill>
          <a:blip r:embed="rId1"/>
          <a:stretch/>
        </p:blipFill>
        <p:spPr>
          <a:xfrm>
            <a:off x="136440" y="457200"/>
            <a:ext cx="4415040" cy="6019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Эдвард Мунк. Девушки на мосту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16" name="Picture 6" descr="img235"/>
          <p:cNvPicPr/>
          <p:nvPr/>
        </p:nvPicPr>
        <p:blipFill>
          <a:blip r:embed="rId1"/>
          <a:stretch/>
        </p:blipFill>
        <p:spPr>
          <a:xfrm>
            <a:off x="304920" y="1828800"/>
            <a:ext cx="4070160" cy="472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I:\эксп\девушки на мосту.jpg"/>
          <p:cNvPicPr/>
          <p:nvPr/>
        </p:nvPicPr>
        <p:blipFill>
          <a:blip r:embed="rId2"/>
          <a:stretch/>
        </p:blipFill>
        <p:spPr>
          <a:xfrm>
            <a:off x="4572000" y="182880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«Фризы жизни»  - «это поэма жизни, любви и смерти»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19" name="Picture 2" descr="I:\эксп\мунк вампир.jpg"/>
          <p:cNvPicPr/>
          <p:nvPr/>
        </p:nvPicPr>
        <p:blipFill>
          <a:blip r:embed="rId1"/>
          <a:stretch/>
        </p:blipFill>
        <p:spPr>
          <a:xfrm>
            <a:off x="209520" y="1752480"/>
            <a:ext cx="445788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1621440" y="594360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Вампир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21" name="Picture 3" descr="I:\эксп\мунк поцелуй.jpg"/>
          <p:cNvPicPr/>
          <p:nvPr/>
        </p:nvPicPr>
        <p:blipFill>
          <a:blip r:embed="rId2"/>
          <a:stretch/>
        </p:blipFill>
        <p:spPr>
          <a:xfrm>
            <a:off x="4894200" y="1600200"/>
            <a:ext cx="354636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9"/>
          <p:cNvSpPr/>
          <p:nvPr/>
        </p:nvSpPr>
        <p:spPr>
          <a:xfrm>
            <a:off x="5812560" y="624852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Поцелуй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сачева</cp:lastModifiedBy>
  <dcterms:modified xsi:type="dcterms:W3CDTF">2013-02-28T12:50:4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