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F9379-B524-46D1-BBB4-5975DA6BC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47005-2BBF-4877-A274-7EE8EB2E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1C202-FB57-4C57-A139-D16B5987C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7C4A1-3907-464D-9C43-85EFCA619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0E95-71ED-4F62-974F-E370A5EA7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C291-689B-4B52-BB4F-012ECBC7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012F-D858-4384-BBCA-F23DD34F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99E10-A0E6-4AD6-9694-FB5A919A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FF7A4-70AE-4DC0-A17B-97B719C5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8D6B-666B-4B31-87B1-24B318F2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842A9-7B5A-4237-BBB8-D18D1C6A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4C59F-DF1A-41C7-BB38-A96DAA94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08F8-7146-4F51-8CC1-CE3BD4D6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7B3B-81B3-48F6-AAB5-B488CC4B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C160-6DBB-4A5F-931E-263FFB77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271DA-D1B3-4DA9-A475-8B141B879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BCD2-8724-48B5-8DE0-462A41088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D8DF4-98B2-46B8-A17D-2440ED05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EDF94-AAC5-409C-A09C-DBC94B28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97F9A-458B-40BB-800F-0C2E962B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C958B-CE7C-4040-9102-0823CF72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DA8A3-8143-4CF0-A28B-7C1E756C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6EE99-6848-466A-A5AB-B37F7290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9BD26-7A5D-4450-A6AB-5819ADFE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0477-AEA7-485F-8879-3CD1999501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948F-269A-4736-805D-3CB2CE11E98A}" type="slidenum">
              <a:rPr b="0" lang="ru-RU" sz="1200" spc="-1" strike="noStrike">
                <a:solidFill>
                  <a:srgbClr val="4b25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69564"/>
                </a:solidFill>
                <a:latin typeface="Garamond"/>
              </a:rPr>
              <a:t>Экспрессионизм</a:t>
            </a:r>
            <a:endParaRPr b="1" lang="en-US" sz="6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1" name="TextBox 1"/>
          <p:cNvSpPr/>
          <p:nvPr/>
        </p:nvSpPr>
        <p:spPr>
          <a:xfrm>
            <a:off x="831960" y="5791320"/>
            <a:ext cx="733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Garamond"/>
              </a:rPr>
              <a:t>Учитель МОУ «Бельская СОШ» Тверской области Усачёва Н.В.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Эдвард Мунк. Мадонна. 1894 г.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24" name="Picture 6" descr="img236"/>
          <p:cNvPicPr/>
          <p:nvPr/>
        </p:nvPicPr>
        <p:blipFill>
          <a:blip r:embed="rId1"/>
          <a:stretch/>
        </p:blipFill>
        <p:spPr>
          <a:xfrm>
            <a:off x="2590920" y="1523880"/>
            <a:ext cx="3828960" cy="51818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«Мост» :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8769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(Дрезден, 1905 год)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Эрнст Людвиг Кирхнер, Эмиль Нольде, Эрих Хеккель, Карл Шмидт-Ротлуфф и другие.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27" name="Picture 4" descr="I:\эксп\кирхнер художники моста.jpg"/>
          <p:cNvPicPr/>
          <p:nvPr/>
        </p:nvPicPr>
        <p:blipFill>
          <a:blip r:embed="rId1"/>
          <a:stretch/>
        </p:blipFill>
        <p:spPr>
          <a:xfrm>
            <a:off x="5334120" y="1371600"/>
            <a:ext cx="3504960" cy="484668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6"/>
          <p:cNvSpPr/>
          <p:nvPr/>
        </p:nvSpPr>
        <p:spPr>
          <a:xfrm>
            <a:off x="3221640" y="6324480"/>
            <a:ext cx="610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Garamond"/>
              </a:rPr>
              <a:t>Эрнст Людвиг Кирхнер. Художники руппы «Мост».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1736640"/>
            <a:ext cx="518148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69564"/>
                </a:solidFill>
                <a:latin typeface="Garamond"/>
              </a:rPr>
              <a:t>Эрнст Людвиг Кирхнер</a:t>
            </a:r>
            <a:endParaRPr b="1" lang="en-US" sz="6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3505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1880-1936 гг.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31" name="Picture 6" descr="I:\эксп\эрнст кирхнер.jpg"/>
          <p:cNvPicPr/>
          <p:nvPr/>
        </p:nvPicPr>
        <p:blipFill>
          <a:blip r:embed="rId1"/>
          <a:stretch/>
        </p:blipFill>
        <p:spPr>
          <a:xfrm>
            <a:off x="5867280" y="838080"/>
            <a:ext cx="3100680" cy="43722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962520" cy="36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69564"/>
                </a:solidFill>
                <a:latin typeface="Garamond"/>
              </a:rPr>
              <a:t>Эрнст Кирхнер. Фрэнци в резном кресле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33" name="Picture 7" descr="I:\эксп\фрэнци в резном кресле.jpeg"/>
          <p:cNvPicPr/>
          <p:nvPr/>
        </p:nvPicPr>
        <p:blipFill>
          <a:blip r:embed="rId1"/>
          <a:stretch/>
        </p:blipFill>
        <p:spPr>
          <a:xfrm>
            <a:off x="4800600" y="533520"/>
            <a:ext cx="40719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69564"/>
                </a:solidFill>
                <a:latin typeface="Garamond"/>
              </a:rPr>
              <a:t>Эрнст Кирхнер. Автопортрет в солдатской форме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35" name="Picture 6" descr="img239"/>
          <p:cNvPicPr/>
          <p:nvPr/>
        </p:nvPicPr>
        <p:blipFill>
          <a:blip r:embed="rId1"/>
          <a:stretch/>
        </p:blipFill>
        <p:spPr>
          <a:xfrm>
            <a:off x="2625840" y="1600200"/>
            <a:ext cx="38829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Эрнст Кирхнер. Улица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37" name="Picture 6" descr="img241"/>
          <p:cNvPicPr/>
          <p:nvPr/>
        </p:nvPicPr>
        <p:blipFill>
          <a:blip r:embed="rId1"/>
          <a:stretch/>
        </p:blipFill>
        <p:spPr>
          <a:xfrm>
            <a:off x="990720" y="1676520"/>
            <a:ext cx="716256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69564"/>
                </a:solidFill>
                <a:latin typeface="Garamond"/>
              </a:rPr>
              <a:t>Эрнст Кирхнер. Красная башня в Хале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39" name="Picture 6" descr="img242"/>
          <p:cNvPicPr/>
          <p:nvPr/>
        </p:nvPicPr>
        <p:blipFill>
          <a:blip r:embed="rId1"/>
          <a:stretch/>
        </p:blipFill>
        <p:spPr>
          <a:xfrm>
            <a:off x="2666880" y="1600200"/>
            <a:ext cx="3996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Франц Марк: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«Нам совершенно безразлично, «понимают» нас или нет, мы внимаем лишь себе, не времени…».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373392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69564"/>
                </a:solidFill>
                <a:latin typeface="Garamond"/>
              </a:rPr>
              <a:t>Эмиль Ханзен (Нольде)</a:t>
            </a:r>
            <a:endParaRPr b="1" lang="en-US" sz="6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2438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1867-1956 гг.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44" name="Picture 6" descr="I:\эксп\emil-nolde-autoportrait-1917.1171066756.jpg"/>
          <p:cNvPicPr/>
          <p:nvPr/>
        </p:nvPicPr>
        <p:blipFill>
          <a:blip r:embed="rId1"/>
          <a:stretch/>
        </p:blipFill>
        <p:spPr>
          <a:xfrm>
            <a:off x="4038480" y="228600"/>
            <a:ext cx="4953240" cy="6162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69564"/>
                </a:solidFill>
                <a:latin typeface="Garamond"/>
              </a:rPr>
              <a:t>Эмиль Нольде. Пляска вокруг золотого тельца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46" name="Picture 7" descr="I:\эксп\нольде пляска вокруг.jpg"/>
          <p:cNvPicPr/>
          <p:nvPr/>
        </p:nvPicPr>
        <p:blipFill>
          <a:blip r:embed="rId1"/>
          <a:stretch/>
        </p:blipFill>
        <p:spPr>
          <a:xfrm>
            <a:off x="1523880" y="1566720"/>
            <a:ext cx="6096240" cy="4962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Expressio</a:t>
            </a: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 (лат.) – выражение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Это течение в изобразительном искусстве объединяет прежде всего творчество художников, работавших в Германии перед Первой мировой войной.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Экспрессионизм –это попытка показать внутренний мир человека, его переживания, как правило, в момент предельного духовного напряжения.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69564"/>
                </a:solidFill>
                <a:latin typeface="Garamond"/>
              </a:rPr>
              <a:t>«Мой прекрасный, мой трагический мир».</a:t>
            </a:r>
            <a:endParaRPr b="1" lang="en-US" sz="5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(Эмиль Нольде)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69564"/>
                </a:solidFill>
                <a:latin typeface="Garamond"/>
              </a:rPr>
              <a:t>Эмиль Нольде. Мельница на севере 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50" name="Picture 6" descr="img244"/>
          <p:cNvPicPr/>
          <p:nvPr/>
        </p:nvPicPr>
        <p:blipFill>
          <a:blip r:embed="rId1"/>
          <a:stretch/>
        </p:blipFill>
        <p:spPr>
          <a:xfrm>
            <a:off x="1295280" y="1523880"/>
            <a:ext cx="6705720" cy="514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736640"/>
            <a:ext cx="403848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69564"/>
                </a:solidFill>
                <a:latin typeface="Garamond"/>
              </a:rPr>
              <a:t>Оскар Кокошка</a:t>
            </a:r>
            <a:endParaRPr b="1" lang="en-US" sz="6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3047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1886-1980 гг.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53" name="Picture 6" descr="I:\эксп\кокошка.jpg"/>
          <p:cNvPicPr/>
          <p:nvPr/>
        </p:nvPicPr>
        <p:blipFill>
          <a:blip r:embed="rId1"/>
          <a:stretch/>
        </p:blipFill>
        <p:spPr>
          <a:xfrm>
            <a:off x="4800600" y="3049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О. Кокошка. Портрет девушки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55" name="Picture 2" descr="I:\эксп\17641652_Oskar_Kokoshka_Portret_devochki_1913_szh.JPG"/>
          <p:cNvPicPr/>
          <p:nvPr/>
        </p:nvPicPr>
        <p:blipFill>
          <a:blip r:embed="rId1"/>
          <a:stretch/>
        </p:blipFill>
        <p:spPr>
          <a:xfrm>
            <a:off x="2514600" y="1284120"/>
            <a:ext cx="4191120" cy="5399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О. Кокошка. Портрет Адольфа Лооса. 1909 г.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57" name="Picture 2" descr="I:\эксп\портрет лооса кокошка.jpg"/>
          <p:cNvPicPr/>
          <p:nvPr/>
        </p:nvPicPr>
        <p:blipFill>
          <a:blip r:embed="rId1"/>
          <a:stretch/>
        </p:blipFill>
        <p:spPr>
          <a:xfrm>
            <a:off x="1371600" y="1600200"/>
            <a:ext cx="6205680" cy="4930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О. Кокошка. Женевское озеро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59" name="Picture 2" descr="I:\эксп\кокошка женевское озеро.jpg"/>
          <p:cNvPicPr/>
          <p:nvPr/>
        </p:nvPicPr>
        <p:blipFill>
          <a:blip r:embed="rId1"/>
          <a:stretch/>
        </p:blipFill>
        <p:spPr>
          <a:xfrm>
            <a:off x="1371600" y="1523880"/>
            <a:ext cx="6477120" cy="4764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69564"/>
                </a:solidFill>
                <a:latin typeface="Garamond"/>
              </a:rPr>
              <a:t>Оскар Кокошка. Благовещение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61" name="Picture 6" descr="img245"/>
          <p:cNvPicPr/>
          <p:nvPr/>
        </p:nvPicPr>
        <p:blipFill>
          <a:blip r:embed="rId1"/>
          <a:stretch/>
        </p:blipFill>
        <p:spPr>
          <a:xfrm>
            <a:off x="1219320" y="1673280"/>
            <a:ext cx="6781680" cy="4995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736640"/>
            <a:ext cx="4343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69564"/>
                </a:solidFill>
                <a:latin typeface="Garamond"/>
              </a:rPr>
              <a:t>Отто Дикс</a:t>
            </a:r>
            <a:endParaRPr b="1" lang="en-US" sz="6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3200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1891-1969 гг.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64" name="Picture 6" descr="I:\эксп\Otto_Dix.jpg"/>
          <p:cNvPicPr/>
          <p:nvPr/>
        </p:nvPicPr>
        <p:blipFill>
          <a:blip r:embed="rId1"/>
          <a:stretch/>
        </p:blipFill>
        <p:spPr>
          <a:xfrm>
            <a:off x="5334120" y="609480"/>
            <a:ext cx="3414600" cy="4148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69564"/>
                </a:solidFill>
                <a:latin typeface="Garamond"/>
              </a:rPr>
              <a:t>Отто Дикс. Большой город (триптих)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66" name="Picture 6" descr="img246"/>
          <p:cNvPicPr/>
          <p:nvPr/>
        </p:nvPicPr>
        <p:blipFill>
          <a:blip r:embed="rId1"/>
          <a:stretch/>
        </p:blipFill>
        <p:spPr>
          <a:xfrm>
            <a:off x="457200" y="1886040"/>
            <a:ext cx="8229600" cy="3951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98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О. Дикс. Война. Триптих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68" name="Picture 2" descr="I:\эксп\дикс война.jpg"/>
          <p:cNvPicPr/>
          <p:nvPr/>
        </p:nvPicPr>
        <p:blipFill>
          <a:blip r:embed="rId1"/>
          <a:stretch/>
        </p:blipFill>
        <p:spPr>
          <a:xfrm>
            <a:off x="685800" y="1600200"/>
            <a:ext cx="7543800" cy="5011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69564"/>
                </a:solidFill>
                <a:latin typeface="Garamond"/>
              </a:rPr>
              <a:t>Эдвард Мунк. (1863-1944 гг.) Норвегия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54864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  </a:t>
            </a: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«Болезнь, безумие и смерть – чёрные ангелы, которые стояли на страже моей колыбели и сопровождали меня всю жизнь». </a:t>
            </a: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(Из дневника Э. Мунка).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06" name="Picture 4" descr="I:\эксп\EdvardMunch.jpg"/>
          <p:cNvPicPr/>
          <p:nvPr/>
        </p:nvPicPr>
        <p:blipFill>
          <a:blip r:embed="rId1"/>
          <a:stretch/>
        </p:blipFill>
        <p:spPr>
          <a:xfrm>
            <a:off x="6019920" y="2057400"/>
            <a:ext cx="2689200" cy="3479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3581640" cy="36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69564"/>
                </a:solidFill>
                <a:latin typeface="Garamond"/>
              </a:rPr>
              <a:t>Отто Дикс. Семь смертных грехов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70" name="Picture 7" descr="I:\эксп\дикс семь смертных грехов.jpg"/>
          <p:cNvPicPr/>
          <p:nvPr/>
        </p:nvPicPr>
        <p:blipFill>
          <a:blip r:embed="rId1"/>
          <a:stretch/>
        </p:blipFill>
        <p:spPr>
          <a:xfrm>
            <a:off x="4267080" y="152280"/>
            <a:ext cx="4343400" cy="6454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98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Эдвард Мунк. Больная девочка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08" name="Picture 6" descr="img233"/>
          <p:cNvPicPr/>
          <p:nvPr/>
        </p:nvPicPr>
        <p:blipFill>
          <a:blip r:embed="rId1"/>
          <a:stretch/>
        </p:blipFill>
        <p:spPr>
          <a:xfrm>
            <a:off x="1981080" y="1447920"/>
            <a:ext cx="5257800" cy="5270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Эдвард Мунк: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   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«Я прогуливался с двумя друзьями вдоль улицы – солнце зашло, небо окрасилось в кроваво-красный цвет, - и меня охватило чувство меланхолии. Я остановился, обессиленный до смерти, и оперся на парапет. Над городом и над чёрно-голубым фьордом, как кровь и языки огня, висят тучи. Мои друзья продолжили свою дорогу, а я стоял, пригвождённый к месту, дрожа от страха. Я услышал ужасающий, нескончаемый крик природы»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Эдвард Мунк. Крик. 1893 г.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12" name="Picture 6" descr="img238"/>
          <p:cNvPicPr/>
          <p:nvPr/>
        </p:nvPicPr>
        <p:blipFill>
          <a:blip r:embed="rId1"/>
          <a:stretch/>
        </p:blipFill>
        <p:spPr>
          <a:xfrm>
            <a:off x="2484360" y="1600200"/>
            <a:ext cx="4075200" cy="51055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723920" y="274320"/>
            <a:ext cx="3962520" cy="30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Эдвард Мунк. Отроковица (Половая зрелость)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14" name="Picture 7" descr="I:\эксп\половая зрелость отроковица.jpg"/>
          <p:cNvPicPr/>
          <p:nvPr/>
        </p:nvPicPr>
        <p:blipFill>
          <a:blip r:embed="rId1"/>
          <a:stretch/>
        </p:blipFill>
        <p:spPr>
          <a:xfrm>
            <a:off x="136440" y="457200"/>
            <a:ext cx="4415040" cy="6019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69564"/>
                </a:solidFill>
                <a:latin typeface="Garamond"/>
              </a:rPr>
              <a:t>Эдвард Мунк. Девушки на мосту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16" name="Picture 6" descr="img235"/>
          <p:cNvPicPr/>
          <p:nvPr/>
        </p:nvPicPr>
        <p:blipFill>
          <a:blip r:embed="rId1"/>
          <a:stretch/>
        </p:blipFill>
        <p:spPr>
          <a:xfrm>
            <a:off x="304920" y="1828800"/>
            <a:ext cx="4070160" cy="4724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I:\эксп\девушки на мосту.jpg"/>
          <p:cNvPicPr/>
          <p:nvPr/>
        </p:nvPicPr>
        <p:blipFill>
          <a:blip r:embed="rId2"/>
          <a:stretch/>
        </p:blipFill>
        <p:spPr>
          <a:xfrm>
            <a:off x="4572000" y="182880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«Фризы жизни»  - «это поэма жизни, любви и смерти»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19" name="Picture 2" descr="I:\эксп\мунк вампир.jpg"/>
          <p:cNvPicPr/>
          <p:nvPr/>
        </p:nvPicPr>
        <p:blipFill>
          <a:blip r:embed="rId1"/>
          <a:stretch/>
        </p:blipFill>
        <p:spPr>
          <a:xfrm>
            <a:off x="209520" y="1752480"/>
            <a:ext cx="4457880" cy="411480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7"/>
          <p:cNvSpPr/>
          <p:nvPr/>
        </p:nvSpPr>
        <p:spPr>
          <a:xfrm>
            <a:off x="1621440" y="5943600"/>
            <a:ext cx="16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Вампир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21" name="Picture 3" descr="I:\эксп\мунк поцелуй.jpg"/>
          <p:cNvPicPr/>
          <p:nvPr/>
        </p:nvPicPr>
        <p:blipFill>
          <a:blip r:embed="rId2"/>
          <a:stretch/>
        </p:blipFill>
        <p:spPr>
          <a:xfrm>
            <a:off x="4894200" y="1600200"/>
            <a:ext cx="3546360" cy="452592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9"/>
          <p:cNvSpPr/>
          <p:nvPr/>
        </p:nvSpPr>
        <p:spPr>
          <a:xfrm>
            <a:off x="5812560" y="6248520"/>
            <a:ext cx="18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Поцелуй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сачева</cp:lastModifiedBy>
  <dcterms:modified xsi:type="dcterms:W3CDTF">2013-02-28T12:50:42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