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3.gif" ContentType="image/gif"/>
  <Override PartName="/ppt/media/image16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7.wmf" ContentType="image/x-wmf"/>
  <Override PartName="/ppt/media/image8.png" ContentType="image/png"/>
  <Override PartName="/ppt/media/image20.png" ContentType="image/png"/>
  <Override PartName="/ppt/media/image19.png" ContentType="image/png"/>
  <Override PartName="/ppt/media/image18.gif" ContentType="image/gif"/>
  <Override PartName="/ppt/media/image4.png" ContentType="image/png"/>
  <Override PartName="/ppt/media/image15.png" ContentType="image/png"/>
  <Override PartName="/ppt/media/image14.gif" ContentType="image/gif"/>
  <Override PartName="/ppt/media/image2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3.png" ContentType="image/png"/>
  <Override PartName="/ppt/media/image11.wmf" ContentType="image/x-wmf"/>
  <Override PartName="/ppt/media/image1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41ABC-5C7B-41AA-806B-4D383F1B25A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0BADF-5DA8-4CB8-A9E0-55E6CEDBB4E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3A70-3267-4C4E-9944-FC8A45D77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396D-98FC-49CD-805A-0286E4E48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11AA-E5E6-4FA9-B141-87A9E93C8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4301-9AEC-4823-A7CA-AAADA8C8A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E0F15-E64D-437E-A597-4F2DD28A2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3A97A-A1B3-45B8-A441-EBEE97D8C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928F1-E2A0-47EB-BF21-445C51C17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4A675-9F3C-4132-BA2F-05A6CB4F5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40708-8047-4F0D-B511-1F99E4879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E96A9-61D7-488E-AFF2-24C2C5D7F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E22CB-640E-4688-82EC-20B32D06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F120-AAE0-4A7C-9527-CD3B9B723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F5F95-DBC5-46AA-8D5D-EEF8CA33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7ACB9-7CB9-40A0-BC1B-99682933B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AB03E-906E-4735-A2C6-80A001F64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8A4A3-316B-455B-9633-6558D1746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5A372-2D73-48B6-9BCC-6DF1086B3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BE92E-2A77-4D78-B9EE-FCC3A1582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A06E4-9770-433C-AF42-112CBFAC8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712DE-F127-458C-811D-BDBF130AF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D9505-6E32-4F95-B4A7-411FBFE2F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F31AC-352A-4B79-B41B-C68857CF5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1702-8A1D-48C9-A87E-0B2B20219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A7072-92EF-43AA-AD37-B288BEECC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D6EEB-455F-4BF3-9EAE-24C2F42C7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38E42-1850-4B74-A766-DCF2F6F8A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8587A-3F78-4F89-AA9D-2DFF8017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23199-03AA-4B69-A36C-2B8E5FB47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244A8-BCA2-4449-A8C7-3D54DED02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78BF6-E82F-485F-8CC7-ED8022A08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EEDB4-E193-4529-8F7B-D6BF95291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2DBDB-056D-4735-97DE-22595E576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2C41F-C4C2-44A9-8A50-E6F181509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88D8-CB5C-4AA7-BE0B-F32B1CCCB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9F46D-4320-47D4-B47C-ECFF815E5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7A30A-F108-482F-A5DB-49C84AAAB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E48D6-3D1A-4A03-81CA-83D245AE5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50D4E-52F0-4AAA-AD49-710E47EA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1AE55-2DB5-4E04-96C0-7DD336B63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B7D08-9EAE-4949-9084-9654D9E94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7FB64-2D7D-43AF-8B29-C528741D6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F976E-3E9E-4542-ABDC-408F2E7EC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C7FE6-FBDD-44AE-B566-77881AF8B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D05C8-D0A2-4B80-8D43-DE249EE48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E9D0-5BD6-401A-BBC8-94C8302AA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C252E5-3AE9-434E-B5BE-91E64E3F9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A7049-6890-4E0E-8663-6DEB9067C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E9071E-1125-4B68-95CA-C559AF0C8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EF513-B12A-4EEA-9ECB-331EC9A55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98C7C6-6D8B-4FC2-B007-FFF4682D1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CE5575-4C2C-42A5-B8AF-A8701A68D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AC381-34F2-4258-AF86-DD55FFC61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7BB50D-D9A1-4FD1-AAC6-2D3B9F611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2EA22-C630-4AAF-AF5F-CCB76D4D5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78C01-EE50-4A41-B143-89301EA6D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D20B-0293-43E1-8502-074D7AD04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D4F5A0-13E0-4B35-93A8-D5B58014E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896B9E-C8B7-46F5-84A6-D3A088921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66ACB6-F1F7-4A1F-B10C-7B8735EAC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441C9-D8C0-4CA2-8B49-BAB039B7E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4FD464-4461-4798-8CEB-E3B4FA29E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9112B2-AC4E-4768-9627-A99CBAFD5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21B7FC-3D30-4854-8EA5-2099AD48C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B0AF87-C643-46F2-A2E0-7631136EE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1B5229-CCBA-4633-AAA1-F16EFFCF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894C87-19A7-4132-901D-17EE66464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2259-8EF3-4073-BCCE-2569988CF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DC8181-C5BD-448F-BEAC-F1D67667B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162D18-06DA-4706-A787-C09BC56C3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C014A3-572C-4AD5-848A-9F8EF1C7A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E1EFC6-EF50-4068-9C90-E236F34AB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FFF220-7ACA-4FE8-94CC-49749EF61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A7DAC3-44D7-4DF4-AFB9-DA4FE17BB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112277-6E08-48BD-B8D9-FE15CB8EE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8D0583-0984-4107-A370-2F00A9132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CC0CAC-DDC7-4418-A82E-5604FB508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98CC0E-9ACF-4C76-970A-A553C99D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FCBD-7F03-4307-A48E-35ABD4BD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683045-9079-440A-A54B-67BFD043A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B36A2F-E875-47EA-997C-C7F8EDE6C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6B5633-5C5A-4EF1-AD5C-5B80E80C3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C9F442-54F4-4AAD-B2BF-FC5C40EF9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980FC8-B0A0-4C21-8BF0-8821BFA6C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E75E-87DB-4E07-8E62-341A08E8A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5F9A1-6C5E-4ED2-86DF-AC64EB0432E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E7A8F-8D92-401E-AA72-FB7B855D57B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DA455-12A9-4455-B561-97AD6F0B00E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2D178-2D2A-4965-976C-C6A4E26FEFD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EBE66-978D-4CAF-8410-4867FC047B9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70BE8-00C9-46FF-BE7B-727C316785F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460CB-5C5B-4AC0-B595-6DFDC80FD7D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image" Target="../media/image6.png"/><Relationship Id="rId4" Type="http://schemas.openxmlformats.org/officeDocument/2006/relationships/image" Target="../media/image18.gif"/><Relationship Id="rId5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10072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Verdana"/>
                <a:ea typeface="Verdana"/>
              </a:rPr>
              <a:t>ФГОС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 -  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928440" y="2642760"/>
            <a:ext cx="8001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Verdana"/>
                <a:ea typeface="Verdana"/>
              </a:rPr>
              <a:t>Специфика реализации ФГОС на уроках английского языка</a:t>
            </a:r>
            <a:endParaRPr b="0" lang="en-US" sz="41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7" name="Picture 6" descr=""/>
          <p:cNvPicPr/>
          <p:nvPr/>
        </p:nvPicPr>
        <p:blipFill>
          <a:blip r:embed="rId1"/>
          <a:stretch/>
        </p:blipFill>
        <p:spPr>
          <a:xfrm>
            <a:off x="2571840" y="428760"/>
            <a:ext cx="6572160" cy="185724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3" descr=""/>
          <p:cNvPicPr/>
          <p:nvPr/>
        </p:nvPicPr>
        <p:blipFill>
          <a:blip r:embed="rId2"/>
          <a:stretch/>
        </p:blipFill>
        <p:spPr>
          <a:xfrm>
            <a:off x="0" y="5505480"/>
            <a:ext cx="9144000" cy="13525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" descr="C:\Documents and Settings\Sveta\Мои документы\22.png"/>
          <p:cNvPicPr/>
          <p:nvPr/>
        </p:nvPicPr>
        <p:blipFill>
          <a:blip r:embed="rId3"/>
          <a:stretch/>
        </p:blipFill>
        <p:spPr>
          <a:xfrm>
            <a:off x="0" y="3143160"/>
            <a:ext cx="1928880" cy="2538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Diagram 23"/>
          <p:cNvGrpSpPr/>
          <p:nvPr/>
        </p:nvGrpSpPr>
        <p:grpSpPr>
          <a:xfrm>
            <a:off x="1143000" y="428760"/>
            <a:ext cx="7611840" cy="6214680"/>
            <a:chOff x="1143000" y="428760"/>
            <a:chExt cx="7611840" cy="6214680"/>
          </a:xfrm>
        </p:grpSpPr>
        <p:sp>
          <p:nvSpPr>
            <p:cNvPr id="376" name="AutoShape 24"/>
            <p:cNvSpPr/>
            <p:nvPr/>
          </p:nvSpPr>
          <p:spPr>
            <a:xfrm>
              <a:off x="1143000" y="428760"/>
              <a:ext cx="7611840" cy="6214680"/>
            </a:xfrm>
            <a:prstGeom prst="rect">
              <a:avLst/>
            </a:prstGeom>
            <a:noFill/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_s37913"/>
            <p:cNvSpPr/>
            <p:nvPr/>
          </p:nvSpPr>
          <p:spPr>
            <a:xfrm flipH="1" flipV="1">
              <a:off x="3673080" y="2292120"/>
              <a:ext cx="753480" cy="732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_s37914"/>
            <p:cNvSpPr/>
            <p:nvPr/>
          </p:nvSpPr>
          <p:spPr>
            <a:xfrm>
              <a:off x="2338560" y="1116000"/>
              <a:ext cx="1632960" cy="133272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ae4278"/>
                  </a:solidFill>
                  <a:latin typeface="Arial"/>
                </a:rPr>
                <a:t>Творческая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ae4278"/>
                  </a:solidFill>
                  <a:latin typeface="Arial"/>
                </a:rPr>
                <a:t>мастерска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_s37915"/>
            <p:cNvSpPr/>
            <p:nvPr/>
          </p:nvSpPr>
          <p:spPr>
            <a:xfrm flipH="1" flipV="1">
              <a:off x="2993760" y="3253680"/>
              <a:ext cx="1155960" cy="164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_s37916"/>
            <p:cNvSpPr/>
            <p:nvPr/>
          </p:nvSpPr>
          <p:spPr>
            <a:xfrm>
              <a:off x="1380240" y="2468520"/>
              <a:ext cx="1906560" cy="133272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ae4278"/>
                  </a:solidFill>
                  <a:latin typeface="Arial"/>
                </a:rPr>
                <a:t>Клуб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ae4278"/>
                  </a:solidFill>
                  <a:latin typeface="Arial"/>
                </a:rPr>
                <a:t>интернационально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ae4278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ae4278"/>
                  </a:solidFill>
                  <a:latin typeface="Arial"/>
                </a:rPr>
                <a:t>дружб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_s37917"/>
            <p:cNvSpPr/>
            <p:nvPr/>
          </p:nvSpPr>
          <p:spPr>
            <a:xfrm flipH="1">
              <a:off x="3231360" y="3866760"/>
              <a:ext cx="1014480" cy="4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_s37918"/>
            <p:cNvSpPr/>
            <p:nvPr/>
          </p:nvSpPr>
          <p:spPr>
            <a:xfrm>
              <a:off x="1710720" y="4008240"/>
              <a:ext cx="1789560" cy="133092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ae4278"/>
                  </a:solidFill>
                  <a:latin typeface="Arial"/>
                </a:rPr>
                <a:t>Драматизац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ae4278"/>
                  </a:solidFill>
                  <a:latin typeface="Arial"/>
                </a:rPr>
                <a:t>Театральны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ae4278"/>
                  </a:solidFill>
                  <a:latin typeface="Arial"/>
                </a:rPr>
                <a:t>постановк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_s37919"/>
            <p:cNvSpPr/>
            <p:nvPr/>
          </p:nvSpPr>
          <p:spPr>
            <a:xfrm flipH="1">
              <a:off x="4272480" y="4158000"/>
              <a:ext cx="398880" cy="90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_s37920"/>
            <p:cNvSpPr/>
            <p:nvPr/>
          </p:nvSpPr>
          <p:spPr>
            <a:xfrm>
              <a:off x="3175200" y="5015160"/>
              <a:ext cx="1632240" cy="133272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ae4278"/>
                  </a:solidFill>
                  <a:latin typeface="Arial"/>
                </a:rPr>
                <a:t>Предметная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ae4278"/>
                  </a:solidFill>
                  <a:latin typeface="Arial"/>
                </a:rPr>
                <a:t>неделя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ae4278"/>
                  </a:solidFill>
                  <a:latin typeface="Arial"/>
                </a:rPr>
                <a:t>декад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_s37921"/>
            <p:cNvSpPr/>
            <p:nvPr/>
          </p:nvSpPr>
          <p:spPr>
            <a:xfrm>
              <a:off x="5228640" y="4158000"/>
              <a:ext cx="402120" cy="897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_s37922"/>
            <p:cNvSpPr/>
            <p:nvPr/>
          </p:nvSpPr>
          <p:spPr>
            <a:xfrm>
              <a:off x="5090400" y="5017320"/>
              <a:ext cx="1632240" cy="133272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ae4278"/>
                  </a:solidFill>
                  <a:latin typeface="Arial"/>
                </a:rPr>
                <a:t>Конкурс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ae4278"/>
                  </a:solidFill>
                  <a:latin typeface="Arial"/>
                </a:rPr>
                <a:t>КВ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37923"/>
            <p:cNvSpPr/>
            <p:nvPr/>
          </p:nvSpPr>
          <p:spPr>
            <a:xfrm>
              <a:off x="5655240" y="3864600"/>
              <a:ext cx="1014480" cy="4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37924"/>
            <p:cNvSpPr/>
            <p:nvPr/>
          </p:nvSpPr>
          <p:spPr>
            <a:xfrm>
              <a:off x="6557400" y="4012560"/>
              <a:ext cx="1632960" cy="133272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ae4278"/>
                  </a:solidFill>
                  <a:latin typeface="Arial"/>
                </a:rPr>
                <a:t>Кружо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ae4278"/>
                  </a:solidFill>
                  <a:latin typeface="Arial"/>
                </a:rPr>
                <a:t>Секц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37925"/>
            <p:cNvSpPr/>
            <p:nvPr/>
          </p:nvSpPr>
          <p:spPr>
            <a:xfrm flipV="1">
              <a:off x="5750640" y="3251160"/>
              <a:ext cx="1153440" cy="164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37926"/>
            <p:cNvSpPr/>
            <p:nvPr/>
          </p:nvSpPr>
          <p:spPr>
            <a:xfrm>
              <a:off x="6890760" y="2473200"/>
              <a:ext cx="1632240" cy="133020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ae4278"/>
                  </a:solidFill>
                  <a:latin typeface="Arial"/>
                </a:rPr>
                <a:t>Праздник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ae4278"/>
                  </a:solidFill>
                  <a:latin typeface="Arial"/>
                </a:rPr>
                <a:t>Фестивал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37927"/>
            <p:cNvSpPr/>
            <p:nvPr/>
          </p:nvSpPr>
          <p:spPr>
            <a:xfrm flipV="1">
              <a:off x="5470920" y="2292120"/>
              <a:ext cx="753480" cy="732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_s37928"/>
            <p:cNvSpPr/>
            <p:nvPr/>
          </p:nvSpPr>
          <p:spPr>
            <a:xfrm>
              <a:off x="5934960" y="1117800"/>
              <a:ext cx="1632240" cy="133272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ae4278"/>
                  </a:solidFill>
                  <a:latin typeface="Arial"/>
                </a:rPr>
                <a:t>Клуб знатоков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ae4278"/>
                  </a:solidFill>
                  <a:latin typeface="Arial"/>
                </a:rPr>
                <a:t>англ. язы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_s37929"/>
            <p:cNvSpPr/>
            <p:nvPr/>
          </p:nvSpPr>
          <p:spPr>
            <a:xfrm flipV="1">
              <a:off x="4949280" y="1913760"/>
              <a:ext cx="0" cy="956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_s37930"/>
            <p:cNvSpPr/>
            <p:nvPr/>
          </p:nvSpPr>
          <p:spPr>
            <a:xfrm>
              <a:off x="4134240" y="583560"/>
              <a:ext cx="1632240" cy="133272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ae4278"/>
                  </a:solidFill>
                  <a:latin typeface="Arial"/>
                </a:rPr>
                <a:t>Литературный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ae4278"/>
                  </a:solidFill>
                  <a:latin typeface="Arial"/>
                </a:rPr>
                <a:t>вече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_s37931"/>
            <p:cNvSpPr/>
            <p:nvPr/>
          </p:nvSpPr>
          <p:spPr>
            <a:xfrm>
              <a:off x="4134240" y="2871000"/>
              <a:ext cx="1794960" cy="1332720"/>
            </a:xfrm>
            <a:prstGeom prst="ellipse">
              <a:avLst/>
            </a:prstGeom>
            <a:solidFill>
              <a:srgbClr val="92d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Прямоугольник 26"/>
          <p:cNvSpPr/>
          <p:nvPr/>
        </p:nvSpPr>
        <p:spPr>
          <a:xfrm>
            <a:off x="4121280" y="3143160"/>
            <a:ext cx="182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2d47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232d47"/>
                </a:solidFill>
                <a:latin typeface="Arial"/>
              </a:rPr>
              <a:t>Внеучеб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2d47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232d47"/>
                </a:solidFill>
                <a:latin typeface="Arial"/>
              </a:rPr>
              <a:t>де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7" name=""/>
          <p:cNvGraphicFramePr/>
          <p:nvPr/>
        </p:nvGraphicFramePr>
        <p:xfrm>
          <a:off x="928800" y="714240"/>
          <a:ext cx="8015040" cy="5491440"/>
        </p:xfrm>
        <a:graphic>
          <a:graphicData uri="http://schemas.openxmlformats.org/drawingml/2006/table">
            <a:tbl>
              <a:tblPr/>
              <a:tblGrid>
                <a:gridCol w="1942920"/>
                <a:gridCol w="2273400"/>
                <a:gridCol w="3798720"/>
              </a:tblGrid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Учебная дея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Внеучебная дея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Урочные фор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Внеурочные фор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Фор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530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835e01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35e01"/>
                          </a:solidFill>
                          <a:latin typeface="Corbe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835e01"/>
                          </a:solidFill>
                          <a:latin typeface="Corbel"/>
                        </a:rPr>
                        <a:t>Дискусс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835e01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35e01"/>
                          </a:solidFill>
                          <a:latin typeface="Corbe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835e01"/>
                          </a:solidFill>
                          <a:latin typeface="Corbel"/>
                        </a:rPr>
                        <a:t>Ролевая и учебная иг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835e01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35e01"/>
                          </a:solidFill>
                          <a:latin typeface="Corbe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835e01"/>
                          </a:solidFill>
                          <a:latin typeface="Corbel"/>
                        </a:rPr>
                        <a:t>Решение проблемных задач и обсуждение проблемных ситуац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835e01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35e01"/>
                          </a:solidFill>
                          <a:latin typeface="Corbel"/>
                        </a:rPr>
                        <a:t>  </a:t>
                      </a:r>
                      <a:r>
                        <a:rPr b="1" lang="ru-RU" sz="1800" spc="-1" strike="noStrike">
                          <a:solidFill>
                            <a:srgbClr val="835e01"/>
                          </a:solidFill>
                          <a:latin typeface="Corbel"/>
                        </a:rPr>
                        <a:t>Мини-проек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835e01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35e01"/>
                          </a:solidFill>
                          <a:latin typeface="Corbel"/>
                        </a:rPr>
                        <a:t>  </a:t>
                      </a:r>
                      <a:r>
                        <a:rPr b="1" lang="ru-RU" sz="1800" spc="-1" strike="noStrike">
                          <a:solidFill>
                            <a:srgbClr val="835e01"/>
                          </a:solidFill>
                          <a:latin typeface="Corbel"/>
                        </a:rPr>
                        <a:t>Мозговой штурм, «Дерево предложений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835e01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35e01"/>
                          </a:solidFill>
                          <a:latin typeface="Corbe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835e01"/>
                          </a:solidFill>
                          <a:latin typeface="Corbel"/>
                        </a:rPr>
                        <a:t>Скет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835e01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35e01"/>
                          </a:solidFill>
                          <a:latin typeface="Corbel"/>
                        </a:rPr>
                        <a:t>Инсерт, карта памят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c32d2e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32d2e"/>
                          </a:solidFill>
                          <a:latin typeface="Corbe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c32d2e"/>
                          </a:solidFill>
                          <a:latin typeface="Corbel"/>
                        </a:rPr>
                        <a:t>Виктор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c32d2e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32d2e"/>
                          </a:solidFill>
                          <a:latin typeface="Corbe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c32d2e"/>
                          </a:solidFill>
                          <a:latin typeface="Corbel"/>
                        </a:rPr>
                        <a:t>Олимпиа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c32d2e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32d2e"/>
                          </a:solidFill>
                          <a:latin typeface="Corbe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c32d2e"/>
                          </a:solidFill>
                          <a:latin typeface="Corbel"/>
                        </a:rPr>
                        <a:t>Конкурсы, КВН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c32d2e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32d2e"/>
                          </a:solidFill>
                          <a:latin typeface="Corbe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c32d2e"/>
                          </a:solidFill>
                          <a:latin typeface="Corbel"/>
                        </a:rPr>
                        <a:t>Предметная неделя, дека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c32d2e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32d2e"/>
                          </a:solidFill>
                          <a:latin typeface="Corbe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c32d2e"/>
                          </a:solidFill>
                          <a:latin typeface="Corbel"/>
                        </a:rPr>
                        <a:t>Научно-исследовательская дея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c32d2e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32d2e"/>
                          </a:solidFill>
                          <a:latin typeface="Corbe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c32d2e"/>
                          </a:solidFill>
                          <a:latin typeface="Corbel"/>
                        </a:rPr>
                        <a:t>Проек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c32d2e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32d2e"/>
                          </a:solidFill>
                          <a:latin typeface="Corbe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c32d2e"/>
                          </a:solidFill>
                          <a:latin typeface="Corbel"/>
                        </a:rPr>
                        <a:t>Круглый ст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c32d2e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32d2e"/>
                          </a:solidFill>
                          <a:latin typeface="Corbe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c32d2e"/>
                          </a:solidFill>
                          <a:latin typeface="Corbel"/>
                        </a:rPr>
                        <a:t>Интервь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4b3e21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b3e21"/>
                          </a:solidFill>
                          <a:latin typeface="Corbe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4b3e21"/>
                          </a:solidFill>
                          <a:latin typeface="Corbel"/>
                        </a:rPr>
                        <a:t>Драматиз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4b3e21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b3e21"/>
                          </a:solidFill>
                          <a:latin typeface="Corbe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4b3e21"/>
                          </a:solidFill>
                          <a:latin typeface="Corbel"/>
                        </a:rPr>
                        <a:t>Театральные постанов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4b3e21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b3e21"/>
                          </a:solidFill>
                          <a:latin typeface="Corbe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4b3e21"/>
                          </a:solidFill>
                          <a:latin typeface="Corbel"/>
                        </a:rPr>
                        <a:t>Клуб интернациональной дружб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4b3e21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b3e21"/>
                          </a:solidFill>
                          <a:latin typeface="Corbe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4b3e21"/>
                          </a:solidFill>
                          <a:latin typeface="Corbel"/>
                        </a:rPr>
                        <a:t>Праздники, Фестив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4b3e21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b3e21"/>
                          </a:solidFill>
                          <a:latin typeface="Corbe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4b3e21"/>
                          </a:solidFill>
                          <a:latin typeface="Corbel"/>
                        </a:rPr>
                        <a:t>Клуб знатоков англ. язы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4b3e21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b3e21"/>
                          </a:solidFill>
                          <a:latin typeface="Corbe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4b3e21"/>
                          </a:solidFill>
                          <a:latin typeface="Corbel"/>
                        </a:rPr>
                        <a:t>Кружок, сек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4b3e21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b3e21"/>
                          </a:solidFill>
                          <a:latin typeface="Corbe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4b3e21"/>
                          </a:solidFill>
                          <a:latin typeface="Corbel"/>
                        </a:rPr>
                        <a:t>Консультации с обучающимися высоких и низких учебных возможност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4b3e21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b3e21"/>
                          </a:solidFill>
                          <a:latin typeface="Corbel"/>
                        </a:rPr>
                        <a:t>Творческая мастерс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4b3e21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b3e21"/>
                          </a:solidFill>
                          <a:latin typeface="Corbe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4b3e21"/>
                          </a:solidFill>
                          <a:latin typeface="Corbel"/>
                        </a:rPr>
                        <a:t>Литературный веч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d46c"/>
                    </a:solidFill>
                  </a:tcPr>
                </a:tc>
              </a:tr>
            </a:tbl>
          </a:graphicData>
        </a:graphic>
      </p:graphicFrame>
      <p:sp>
        <p:nvSpPr>
          <p:cNvPr id="398" name="Заголовок 1"/>
          <p:cNvSpPr/>
          <p:nvPr/>
        </p:nvSpPr>
        <p:spPr>
          <a:xfrm>
            <a:off x="857160" y="-3571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rbel"/>
              </a:rPr>
              <a:t>Основные методы, формы и приёмы организации учеб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rbe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Corbel"/>
              </a:rPr>
              <a:t>и внеучебной деятельности по английскому язы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Рисунок 5" descr="Bears_15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4880" y="5000760"/>
            <a:ext cx="1463760" cy="1622160"/>
          </a:xfrm>
          <a:prstGeom prst="rect">
            <a:avLst/>
          </a:prstGeom>
          <a:ln w="0">
            <a:noFill/>
          </a:ln>
        </p:spPr>
      </p:pic>
      <p:pic>
        <p:nvPicPr>
          <p:cNvPr id="400" name="Рисунок 3" descr="015.gif"/>
          <p:cNvPicPr/>
          <p:nvPr/>
        </p:nvPicPr>
        <p:blipFill>
          <a:blip r:embed="rId3"/>
          <a:stretch/>
        </p:blipFill>
        <p:spPr>
          <a:xfrm>
            <a:off x="0" y="142920"/>
            <a:ext cx="1143000" cy="200016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1"/>
          <p:cNvSpPr/>
          <p:nvPr/>
        </p:nvSpPr>
        <p:spPr>
          <a:xfrm>
            <a:off x="3693960" y="46980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Прямоугольник 4"/>
          <p:cNvSpPr/>
          <p:nvPr/>
        </p:nvSpPr>
        <p:spPr>
          <a:xfrm>
            <a:off x="1500120" y="1643040"/>
            <a:ext cx="6929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незаконченное предложение (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Я понимаю, что такое…, Я могу объяснить, зачем, почему, как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тези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клас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подбор афоризма или выбор из списка предложе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оценка «приращения» знаний и достижения целей 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(Я не знал… - Теперь я знаю…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анализ субъективного опыта 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(Я могу объяснить, применить, организовать…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стихотворение (синквейн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даймонд, хайку), которое помогает выяснить отношение к изучаемой проблеме, соединить старое знание и осмысленное нов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3" descr=""/>
          <p:cNvPicPr/>
          <p:nvPr/>
        </p:nvPicPr>
        <p:blipFill>
          <a:blip r:embed="rId1"/>
          <a:stretch/>
        </p:blipFill>
        <p:spPr>
          <a:xfrm>
            <a:off x="0" y="5505480"/>
            <a:ext cx="9144000" cy="1352520"/>
          </a:xfrm>
          <a:prstGeom prst="rect">
            <a:avLst/>
          </a:prstGeom>
          <a:ln w="0">
            <a:noFill/>
          </a:ln>
        </p:spPr>
      </p:pic>
      <p:sp>
        <p:nvSpPr>
          <p:cNvPr id="404" name="AutoShape 5"/>
          <p:cNvSpPr/>
          <p:nvPr/>
        </p:nvSpPr>
        <p:spPr>
          <a:xfrm>
            <a:off x="1285920" y="0"/>
            <a:ext cx="7128000" cy="1554120"/>
          </a:xfrm>
          <a:custGeom>
            <a:avLst/>
            <a:gdLst>
              <a:gd name="textAreaLeft" fmla="*/ 1782000 w 7128000"/>
              <a:gd name="textAreaRight" fmla="*/ 5346000 w 7128000"/>
              <a:gd name="textAreaTop" fmla="*/ 388440 h 1554120"/>
              <a:gd name="textAreaBottom" fmla="*/ 1508400 h 15541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a9d7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dobe Gothic Std B"/>
                <a:ea typeface="Adobe Gothic Std B"/>
              </a:rPr>
              <a:t>Эффективные прием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dobe Gothic Std B"/>
                <a:ea typeface="Adobe Gothic Std B"/>
              </a:rPr>
              <a:t>формы рефлек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338760"/>
            <a:ext cx="380988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628560" y="0"/>
            <a:ext cx="815328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rbel"/>
              </a:rPr>
              <a:t>Языковой портфель ученик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Прямоугольник 6"/>
          <p:cNvSpPr/>
          <p:nvPr/>
        </p:nvSpPr>
        <p:spPr>
          <a:xfrm>
            <a:off x="1285920" y="1214280"/>
            <a:ext cx="600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"/>
          <p:cNvSpPr/>
          <p:nvPr/>
        </p:nvSpPr>
        <p:spPr>
          <a:xfrm>
            <a:off x="642960" y="1714680"/>
            <a:ext cx="7572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Это дневник или пап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Красочно и ярко оформлен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Содержит красочно выполненные работы и проек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Содержит перечень оценочных листов, согласно которым ребята должны оценить свой уровень умений( для 5-8 классов на русском языке, для 9-11 классов - на иностранном язык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3" descr=""/>
          <p:cNvPicPr/>
          <p:nvPr/>
        </p:nvPicPr>
        <p:blipFill>
          <a:blip r:embed="rId1"/>
          <a:stretch/>
        </p:blipFill>
        <p:spPr>
          <a:xfrm>
            <a:off x="0" y="5505480"/>
            <a:ext cx="9144000" cy="135252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6" descr="C:\Users\Public\Pictures\Sample Pictures\0015-017-Portfel-chto.png"/>
          <p:cNvPicPr/>
          <p:nvPr/>
        </p:nvPicPr>
        <p:blipFill>
          <a:blip r:embed="rId2"/>
          <a:stretch/>
        </p:blipFill>
        <p:spPr>
          <a:xfrm>
            <a:off x="6643800" y="214200"/>
            <a:ext cx="2253960" cy="207180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3" descr=""/>
          <p:cNvPicPr/>
          <p:nvPr/>
        </p:nvPicPr>
        <p:blipFill>
          <a:blip r:embed="rId1"/>
          <a:stretch/>
        </p:blipFill>
        <p:spPr>
          <a:xfrm>
            <a:off x="0" y="5505480"/>
            <a:ext cx="9144000" cy="1352520"/>
          </a:xfrm>
          <a:prstGeom prst="rect">
            <a:avLst/>
          </a:prstGeom>
          <a:ln w="0">
            <a:noFill/>
          </a:ln>
        </p:spPr>
      </p:pic>
      <p:sp>
        <p:nvSpPr>
          <p:cNvPr id="412" name="Rectangle 5"/>
          <p:cNvSpPr/>
          <p:nvPr/>
        </p:nvSpPr>
        <p:spPr>
          <a:xfrm>
            <a:off x="1473840" y="765000"/>
            <a:ext cx="61074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1. I get better marks at school. 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2. I can pass an examination in English.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3. I can travel to other countries. 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4. I can speak to foreign people. 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5. I can get a better job when I leave school. 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6. I can learn about Britain. 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7. I can learn about the USA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8. I can understand pop songs in English. 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9. I can read English books in original. 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10. I can understand technical instructions in English. 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11. I can work on computer. 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12. I can play computer games. 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13. because my parents want me to learn English. 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14. because I enjoy learning English. 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15. because I want to be an English teacher. 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16. because English is an important world language. 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17. because I want to understand English film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6"/>
          <p:cNvSpPr/>
          <p:nvPr/>
        </p:nvSpPr>
        <p:spPr>
          <a:xfrm>
            <a:off x="539640" y="333360"/>
            <a:ext cx="86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f271c"/>
                </a:solidFill>
                <a:latin typeface="Arial"/>
              </a:rPr>
              <a:t>Why do I learn English?</a:t>
            </a:r>
            <a:r>
              <a:rPr b="1" lang="ru-RU" sz="2000" spc="-1" strike="noStrike">
                <a:solidFill>
                  <a:srgbClr val="4f271c"/>
                </a:solidFill>
                <a:latin typeface="Arial"/>
              </a:rPr>
              <a:t>  Почему я изучаю английский язы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516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5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328320"/>
            <a:ext cx="402264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 fontScale="63000"/>
          </a:bodyPr>
          <a:p>
            <a:pPr marL="39600"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ill Sans MT"/>
              </a:rPr>
              <a:t>My language passpor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960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rbel"/>
              </a:rPr>
              <a:t>Мой паспор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4160" y="328320"/>
            <a:ext cx="402264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633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rbel"/>
              </a:rPr>
              <a:t>Когда я слушаю,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57200" y="969840"/>
            <a:ext cx="4022640" cy="411480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anchor="t">
            <a:normAutofit/>
          </a:bodyPr>
          <a:p>
            <a:pPr marL="39204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rst name__________________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urname ___________________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ate of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irth________________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lace of birth________________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y school  _________________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y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ometown_______________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y country_________________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 began to learn English________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lnSpc>
                <a:spcPct val="90000"/>
              </a:lnSpc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18" name="Picture 21" descr="Копия 47-3"/>
          <p:cNvPicPr/>
          <p:nvPr/>
        </p:nvPicPr>
        <p:blipFill>
          <a:blip r:embed="rId1"/>
          <a:stretch/>
        </p:blipFill>
        <p:spPr>
          <a:xfrm>
            <a:off x="5429160" y="1285920"/>
            <a:ext cx="2976480" cy="400032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3" descr=""/>
          <p:cNvPicPr/>
          <p:nvPr/>
        </p:nvPicPr>
        <p:blipFill>
          <a:blip r:embed="rId2"/>
          <a:stretch/>
        </p:blipFill>
        <p:spPr>
          <a:xfrm>
            <a:off x="0" y="5505480"/>
            <a:ext cx="9144000" cy="135252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516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5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2286000" y="356760"/>
            <a:ext cx="402264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633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rbel"/>
              </a:rPr>
              <a:t>Я умею писать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422" name="Object 4"/>
          <p:cNvGraphicFramePr/>
          <p:nvPr/>
        </p:nvGraphicFramePr>
        <p:xfrm>
          <a:off x="1571760" y="1500120"/>
          <a:ext cx="5865840" cy="401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1760" y="1500120"/>
                    <a:ext cx="5865840" cy="401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24" name="Picture 3" descr=""/>
          <p:cNvPicPr/>
          <p:nvPr/>
        </p:nvPicPr>
        <p:blipFill>
          <a:blip r:embed="rId3"/>
          <a:stretch/>
        </p:blipFill>
        <p:spPr>
          <a:xfrm>
            <a:off x="0" y="5505480"/>
            <a:ext cx="9144000" cy="1352520"/>
          </a:xfrm>
          <a:prstGeom prst="rect">
            <a:avLst/>
          </a:prstGeom>
          <a:ln w="0">
            <a:noFill/>
          </a:ln>
        </p:spPr>
      </p:pic>
      <p:pic>
        <p:nvPicPr>
          <p:cNvPr id="425" name="Рисунок 6" descr="h41"/>
          <p:cNvPicPr/>
          <p:nvPr/>
        </p:nvPicPr>
        <p:blipFill>
          <a:blip r:embed="rId4"/>
          <a:stretch/>
        </p:blipFill>
        <p:spPr>
          <a:xfrm>
            <a:off x="6858000" y="0"/>
            <a:ext cx="2071800" cy="201456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6" name=""/>
          <p:cNvGraphicFramePr/>
          <p:nvPr/>
        </p:nvGraphicFramePr>
        <p:xfrm>
          <a:off x="250920" y="1714680"/>
          <a:ext cx="8229600" cy="421452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Я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умею поздороваться и попрощатьс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Я умею называть некоторые имена людей, предметы и мес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4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Я умею представиться, назвать своё имя, узнать имя своего собеседн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9d7e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Я умею называть цвета, животных, продукты пит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a7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00"/>
                          </a:solidFill>
                          <a:latin typeface="Corbel"/>
                        </a:rPr>
                        <a:t>Я умею отвечать на вопросы собеседника о том, где я живу и что мне нравит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eb"/>
                    </a:solidFill>
                  </a:tcPr>
                </a:tc>
              </a:tr>
              <a:tr h="201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Я умею поблагодарить своего собеседн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Я умею задавать простые вопро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4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Я умею попросить своего собеседника дать мне тот или иной предмет, понять, что просят у ме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9d7e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Я умею односложно отвечать на простые вопро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a7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Я умею считать до 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eb"/>
                    </a:solidFill>
                  </a:tcPr>
                </a:tc>
              </a:tr>
              <a:tr h="14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Я умею рассказывать о том, что мне нравиться и не нравить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Я умею рассказать стихотвор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0e4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Я умею рассказать о том, что я дела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9d7e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Я умею общаться в магазине, делать покуп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ba7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Я уме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7ddeb"/>
                    </a:solidFill>
                  </a:tcPr>
                </a:tc>
              </a:tr>
            </a:tbl>
          </a:graphicData>
        </a:graphic>
      </p:graphicFrame>
      <p:sp>
        <p:nvSpPr>
          <p:cNvPr id="427" name="Текст 2"/>
          <p:cNvSpPr/>
          <p:nvPr/>
        </p:nvSpPr>
        <p:spPr>
          <a:xfrm>
            <a:off x="2286000" y="285840"/>
            <a:ext cx="471492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3360"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rbel"/>
              </a:rPr>
              <a:t>Когда я разговариваю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41"/>
          <p:cNvSpPr/>
          <p:nvPr/>
        </p:nvSpPr>
        <p:spPr>
          <a:xfrm>
            <a:off x="4286160" y="1071720"/>
            <a:ext cx="424656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40"/>
          <p:cNvSpPr/>
          <p:nvPr/>
        </p:nvSpPr>
        <p:spPr>
          <a:xfrm flipH="1">
            <a:off x="213840" y="1071720"/>
            <a:ext cx="407196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47"/>
          <p:cNvSpPr/>
          <p:nvPr/>
        </p:nvSpPr>
        <p:spPr>
          <a:xfrm flipV="1">
            <a:off x="6858000" y="107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51"/>
          <p:cNvSpPr/>
          <p:nvPr/>
        </p:nvSpPr>
        <p:spPr>
          <a:xfrm>
            <a:off x="6858000" y="107172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48"/>
          <p:cNvSpPr/>
          <p:nvPr/>
        </p:nvSpPr>
        <p:spPr>
          <a:xfrm flipV="1">
            <a:off x="7215120" y="1071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reeform 52"/>
          <p:cNvSpPr/>
          <p:nvPr/>
        </p:nvSpPr>
        <p:spPr>
          <a:xfrm>
            <a:off x="7164360" y="333360"/>
            <a:ext cx="1589040" cy="6699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1"/>
          <p:cNvSpPr/>
          <p:nvPr/>
        </p:nvSpPr>
        <p:spPr>
          <a:xfrm>
            <a:off x="901800" y="198720"/>
            <a:ext cx="734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e4278"/>
                </a:solidFill>
                <a:latin typeface="Arial"/>
                <a:ea typeface="Calibri"/>
              </a:rPr>
              <a:t>Проект рабочего журн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e4278"/>
                </a:solidFill>
                <a:latin typeface="Arial"/>
                <a:ea typeface="Calibri"/>
              </a:rPr>
              <a:t>Система оценивания (накопительная) учебных достиже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Таблица 2" descr=""/>
          <p:cNvPicPr/>
          <p:nvPr/>
        </p:nvPicPr>
        <p:blipFill>
          <a:blip r:embed="rId1"/>
          <a:stretch/>
        </p:blipFill>
        <p:spPr>
          <a:xfrm>
            <a:off x="927000" y="1066680"/>
            <a:ext cx="7790040" cy="43275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3" descr=""/>
          <p:cNvPicPr/>
          <p:nvPr/>
        </p:nvPicPr>
        <p:blipFill>
          <a:blip r:embed="rId2"/>
          <a:stretch/>
        </p:blipFill>
        <p:spPr>
          <a:xfrm>
            <a:off x="0" y="5505480"/>
            <a:ext cx="9144000" cy="135252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1071720" y="1015920"/>
            <a:ext cx="8643960" cy="27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85-100% выполненной работы – «отлично» и оценка «5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75-85% выполненной работы – « очень хорошо» и оценка «5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70-85% выполненной работы – «хорошо» и оценка «4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Прямоугольник 4"/>
          <p:cNvSpPr/>
          <p:nvPr/>
        </p:nvSpPr>
        <p:spPr>
          <a:xfrm>
            <a:off x="1979640" y="333360"/>
            <a:ext cx="55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e4278"/>
                </a:solidFill>
                <a:latin typeface="Arial"/>
              </a:rPr>
              <a:t>Шкала оцени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e4278"/>
                </a:solidFill>
                <a:latin typeface="Arial"/>
              </a:rPr>
              <a:t>достижений обучаю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Прямоугольник 6"/>
          <p:cNvSpPr/>
          <p:nvPr/>
        </p:nvSpPr>
        <p:spPr>
          <a:xfrm>
            <a:off x="1071720" y="3929040"/>
            <a:ext cx="742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60 – 70% выполненной работы –«хорошо» - «4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Прямоугольник 7"/>
          <p:cNvSpPr/>
          <p:nvPr/>
        </p:nvSpPr>
        <p:spPr>
          <a:xfrm>
            <a:off x="1071720" y="4714920"/>
            <a:ext cx="70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50-60% выполненной работы – «нормально» - «3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3" descr=""/>
          <p:cNvPicPr/>
          <p:nvPr/>
        </p:nvPicPr>
        <p:blipFill>
          <a:blip r:embed="rId1"/>
          <a:stretch/>
        </p:blipFill>
        <p:spPr>
          <a:xfrm>
            <a:off x="0" y="5505480"/>
            <a:ext cx="9144000" cy="135252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7" descr="image5331"/>
          <p:cNvPicPr/>
          <p:nvPr/>
        </p:nvPicPr>
        <p:blipFill>
          <a:blip r:embed="rId2"/>
          <a:stretch/>
        </p:blipFill>
        <p:spPr>
          <a:xfrm>
            <a:off x="7358040" y="3929040"/>
            <a:ext cx="1314360" cy="121932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Рисунок 3" descr="08.jpg"/>
          <p:cNvPicPr/>
          <p:nvPr/>
        </p:nvPicPr>
        <p:blipFill>
          <a:blip r:embed="rId1"/>
          <a:stretch/>
        </p:blipFill>
        <p:spPr>
          <a:xfrm>
            <a:off x="3121200" y="401760"/>
            <a:ext cx="2498400" cy="5151240"/>
          </a:xfrm>
          <a:prstGeom prst="rect">
            <a:avLst/>
          </a:prstGeom>
          <a:ln w="0">
            <a:noFill/>
          </a:ln>
        </p:spPr>
      </p:pic>
      <p:sp>
        <p:nvSpPr>
          <p:cNvPr id="331" name="Прямоугольник 4"/>
          <p:cNvSpPr/>
          <p:nvPr/>
        </p:nvSpPr>
        <p:spPr>
          <a:xfrm>
            <a:off x="5929200" y="857160"/>
            <a:ext cx="30006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Знания только тогда  знания, когда они приобретаются усилиями своей мысли, а не памят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Л. Толс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Verdana"/>
              </a:rPr>
              <a:t>                             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5"/>
          <p:cNvSpPr/>
          <p:nvPr/>
        </p:nvSpPr>
        <p:spPr>
          <a:xfrm>
            <a:off x="285840" y="857160"/>
            <a:ext cx="26431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ри пути ведут к знанию: путь размышления –  это путь самый благородный; путь подражания – это путь самый легкий; путь опыта – это путь самый горьк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онфу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6"/>
          <p:cNvSpPr/>
          <p:nvPr/>
        </p:nvSpPr>
        <p:spPr>
          <a:xfrm>
            <a:off x="500040" y="5500800"/>
            <a:ext cx="83581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22223"/>
                </a:solidFill>
                <a:latin typeface="Calibri"/>
              </a:rPr>
              <a:t>Teachers open the door but you must enter by your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Chinese prover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516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5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444" name="Picture 3" descr=""/>
          <p:cNvPicPr/>
          <p:nvPr/>
        </p:nvPicPr>
        <p:blipFill>
          <a:blip r:embed="rId1"/>
          <a:stretch/>
        </p:blipFill>
        <p:spPr>
          <a:xfrm>
            <a:off x="0" y="5505480"/>
            <a:ext cx="9144000" cy="1352520"/>
          </a:xfrm>
          <a:prstGeom prst="rect">
            <a:avLst/>
          </a:prstGeom>
          <a:ln w="0">
            <a:noFill/>
          </a:ln>
        </p:spPr>
      </p:pic>
      <p:sp>
        <p:nvSpPr>
          <p:cNvPr id="445" name="Text Box 5"/>
          <p:cNvSpPr/>
          <p:nvPr/>
        </p:nvSpPr>
        <p:spPr>
          <a:xfrm>
            <a:off x="1332000" y="1557360"/>
            <a:ext cx="6696000" cy="33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Monotype Corsiva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Monotype Corsiva"/>
              </a:rPr>
              <a:t>Thank you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2" descr=""/>
          <p:cNvPicPr/>
          <p:nvPr/>
        </p:nvPicPr>
        <p:blipFill>
          <a:blip r:embed="rId1"/>
          <a:stretch/>
        </p:blipFill>
        <p:spPr>
          <a:xfrm>
            <a:off x="235080" y="90360"/>
            <a:ext cx="3908160" cy="615636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3" descr=""/>
          <p:cNvPicPr/>
          <p:nvPr/>
        </p:nvPicPr>
        <p:blipFill>
          <a:blip r:embed="rId2"/>
          <a:stretch/>
        </p:blipFill>
        <p:spPr>
          <a:xfrm>
            <a:off x="4857840" y="571680"/>
            <a:ext cx="3143160" cy="857160"/>
          </a:xfrm>
          <a:prstGeom prst="rect">
            <a:avLst/>
          </a:prstGeom>
          <a:ln w="0">
            <a:noFill/>
          </a:ln>
        </p:spPr>
      </p:pic>
      <p:sp>
        <p:nvSpPr>
          <p:cNvPr id="336" name="Прямоугольник 6"/>
          <p:cNvSpPr/>
          <p:nvPr/>
        </p:nvSpPr>
        <p:spPr>
          <a:xfrm>
            <a:off x="4071960" y="2286000"/>
            <a:ext cx="5072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С 1 сентября 2011 г. введение ФГОС НОО обязательно во всех образовательных учреждениях РФ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5"/>
          <p:cNvSpPr/>
          <p:nvPr/>
        </p:nvSpPr>
        <p:spPr>
          <a:xfrm>
            <a:off x="2143080" y="308880"/>
            <a:ext cx="5715000" cy="49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922223"/>
                </a:solidFill>
                <a:latin typeface="Arial"/>
                <a:ea typeface="Times New Roman"/>
              </a:rPr>
              <a:t>Основное назначение иностранного язы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22223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22223"/>
                </a:solidFill>
                <a:latin typeface="Arial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922223"/>
                </a:solidFill>
                <a:latin typeface="Arial"/>
                <a:ea typeface="Times New Roman"/>
              </a:rPr>
              <a:t>формирование </a:t>
            </a:r>
            <a:r>
              <a:rPr b="1" i="1" lang="ru-RU" sz="2800" spc="-1" strike="noStrike">
                <a:solidFill>
                  <a:srgbClr val="922223"/>
                </a:solidFill>
                <a:latin typeface="Arial"/>
                <a:ea typeface="Times New Roman"/>
              </a:rPr>
              <a:t>коммуникативной компетентности</a:t>
            </a:r>
            <a:r>
              <a:rPr b="1" lang="ru-RU" sz="2800" spc="-1" strike="noStrike">
                <a:solidFill>
                  <a:srgbClr val="922223"/>
                </a:solidFill>
                <a:latin typeface="Arial"/>
                <a:ea typeface="Times New Roman"/>
              </a:rPr>
              <a:t>, т.е. способности и готовности осуществлять иноязычное межличностное и межкультурное общение с носителями язы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3" descr=""/>
          <p:cNvPicPr/>
          <p:nvPr/>
        </p:nvPicPr>
        <p:blipFill>
          <a:blip r:embed="rId1"/>
          <a:stretch/>
        </p:blipFill>
        <p:spPr>
          <a:xfrm>
            <a:off x="0" y="5505480"/>
            <a:ext cx="9144000" cy="13525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8" descr="3"/>
          <p:cNvPicPr/>
          <p:nvPr/>
        </p:nvPicPr>
        <p:blipFill>
          <a:blip r:embed="rId2"/>
          <a:stretch/>
        </p:blipFill>
        <p:spPr>
          <a:xfrm>
            <a:off x="214200" y="500040"/>
            <a:ext cx="1511280" cy="1244520"/>
          </a:xfrm>
          <a:prstGeom prst="rect">
            <a:avLst/>
          </a:prstGeom>
          <a:ln w="50760">
            <a:solidFill>
              <a:srgbClr val="3366ff"/>
            </a:solidFill>
            <a:miter/>
          </a:ln>
        </p:spPr>
      </p:pic>
    </p:spTree>
  </p:cSld>
  <p:transition spd="slow"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Box 4"/>
          <p:cNvSpPr/>
          <p:nvPr/>
        </p:nvSpPr>
        <p:spPr>
          <a:xfrm>
            <a:off x="2786040" y="642960"/>
            <a:ext cx="457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Прямоугольник 5"/>
          <p:cNvSpPr/>
          <p:nvPr/>
        </p:nvSpPr>
        <p:spPr>
          <a:xfrm>
            <a:off x="1143000" y="0"/>
            <a:ext cx="7000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Monotype Corsiva"/>
              </a:rPr>
              <a:t>Коммуникативная компетент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Горизонтальный свиток 6"/>
          <p:cNvSpPr/>
          <p:nvPr/>
        </p:nvSpPr>
        <p:spPr>
          <a:xfrm>
            <a:off x="928800" y="1928880"/>
            <a:ext cx="2519280" cy="1511280"/>
          </a:xfrm>
          <a:prstGeom prst="horizontalScroll">
            <a:avLst>
              <a:gd name="adj" fmla="val 12500"/>
            </a:avLst>
          </a:prstGeom>
          <a:solidFill>
            <a:srgbClr val="fcd2b2"/>
          </a:solidFill>
          <a:ln w="39960">
            <a:solidFill>
              <a:srgbClr val="ae42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Arial"/>
              </a:rPr>
              <a:t>Речевая компетен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Горизонтальный свиток 4"/>
          <p:cNvSpPr/>
          <p:nvPr/>
        </p:nvSpPr>
        <p:spPr>
          <a:xfrm>
            <a:off x="3571920" y="3214800"/>
            <a:ext cx="2160720" cy="1511280"/>
          </a:xfrm>
          <a:prstGeom prst="horizontalScroll">
            <a:avLst>
              <a:gd name="adj" fmla="val 12500"/>
            </a:avLst>
          </a:prstGeom>
          <a:solidFill>
            <a:srgbClr val="fcd2b2"/>
          </a:solidFill>
          <a:ln w="39960">
            <a:solidFill>
              <a:srgbClr val="ae42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Arial"/>
              </a:rPr>
              <a:t>Языковая компетен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Горизонтальный свиток 4"/>
          <p:cNvSpPr/>
          <p:nvPr/>
        </p:nvSpPr>
        <p:spPr>
          <a:xfrm>
            <a:off x="826920" y="4940280"/>
            <a:ext cx="2737080" cy="1511280"/>
          </a:xfrm>
          <a:prstGeom prst="horizontalScroll">
            <a:avLst>
              <a:gd name="adj" fmla="val 12500"/>
            </a:avLst>
          </a:prstGeom>
          <a:solidFill>
            <a:srgbClr val="fcd2b2"/>
          </a:solidFill>
          <a:ln w="39960">
            <a:solidFill>
              <a:srgbClr val="ae42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Arial"/>
              </a:rPr>
              <a:t>Компенсаторная компетен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Горизонтальный свиток 4"/>
          <p:cNvSpPr/>
          <p:nvPr/>
        </p:nvSpPr>
        <p:spPr>
          <a:xfrm>
            <a:off x="6215040" y="1857240"/>
            <a:ext cx="2678040" cy="1511280"/>
          </a:xfrm>
          <a:prstGeom prst="horizontalScroll">
            <a:avLst>
              <a:gd name="adj" fmla="val 12500"/>
            </a:avLst>
          </a:prstGeom>
          <a:solidFill>
            <a:srgbClr val="fcd2b2"/>
          </a:solidFill>
          <a:ln w="39960">
            <a:solidFill>
              <a:srgbClr val="ae42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Arial"/>
              </a:rPr>
              <a:t>Учебно-познавательная компетен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Горизонтальный свиток 4"/>
          <p:cNvSpPr/>
          <p:nvPr/>
        </p:nvSpPr>
        <p:spPr>
          <a:xfrm>
            <a:off x="5796000" y="4869000"/>
            <a:ext cx="2879640" cy="1511280"/>
          </a:xfrm>
          <a:prstGeom prst="horizontalScroll">
            <a:avLst>
              <a:gd name="adj" fmla="val 12500"/>
            </a:avLst>
          </a:prstGeom>
          <a:solidFill>
            <a:srgbClr val="fcd2b2"/>
          </a:solidFill>
          <a:ln w="39960">
            <a:solidFill>
              <a:srgbClr val="ae42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Arial"/>
              </a:rPr>
              <a:t>Социокультурная компетен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Стрелка вниз 8"/>
          <p:cNvSpPr/>
          <p:nvPr/>
        </p:nvSpPr>
        <p:spPr>
          <a:xfrm>
            <a:off x="4427640" y="1916280"/>
            <a:ext cx="285480" cy="1081080"/>
          </a:xfrm>
          <a:prstGeom prst="downArrow">
            <a:avLst>
              <a:gd name="adj1" fmla="val 50000"/>
              <a:gd name="adj2" fmla="val 50053"/>
            </a:avLst>
          </a:prstGeom>
          <a:solidFill>
            <a:srgbClr val="c6b07e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Стрелка вниз 12"/>
          <p:cNvSpPr/>
          <p:nvPr/>
        </p:nvSpPr>
        <p:spPr>
          <a:xfrm rot="2203800">
            <a:off x="2341440" y="1006560"/>
            <a:ext cx="358920" cy="1022400"/>
          </a:xfrm>
          <a:prstGeom prst="downArrow">
            <a:avLst>
              <a:gd name="adj1" fmla="val 50000"/>
              <a:gd name="adj2" fmla="val 47476"/>
            </a:avLst>
          </a:prstGeom>
          <a:solidFill>
            <a:srgbClr val="c6b07e"/>
          </a:solidFill>
          <a:ln w="39960">
            <a:solidFill>
              <a:srgbClr val="2a6d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Стрелка вниз 8"/>
          <p:cNvSpPr/>
          <p:nvPr/>
        </p:nvSpPr>
        <p:spPr>
          <a:xfrm rot="19044600">
            <a:off x="6656040" y="987480"/>
            <a:ext cx="358920" cy="1022400"/>
          </a:xfrm>
          <a:prstGeom prst="downArrow">
            <a:avLst>
              <a:gd name="adj1" fmla="val 50000"/>
              <a:gd name="adj2" fmla="val 47476"/>
            </a:avLst>
          </a:prstGeom>
          <a:solidFill>
            <a:srgbClr val="c6b07e"/>
          </a:solidFill>
          <a:ln w="39960">
            <a:solidFill>
              <a:srgbClr val="2a6d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Стрелка вниз 8"/>
          <p:cNvSpPr/>
          <p:nvPr/>
        </p:nvSpPr>
        <p:spPr>
          <a:xfrm rot="2203800">
            <a:off x="2627280" y="3716280"/>
            <a:ext cx="358920" cy="1022400"/>
          </a:xfrm>
          <a:prstGeom prst="downArrow">
            <a:avLst>
              <a:gd name="adj1" fmla="val 50000"/>
              <a:gd name="adj2" fmla="val 47476"/>
            </a:avLst>
          </a:prstGeom>
          <a:solidFill>
            <a:srgbClr val="c6b07e"/>
          </a:solidFill>
          <a:ln w="39960">
            <a:solidFill>
              <a:srgbClr val="2a6d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Стрелка вниз 8"/>
          <p:cNvSpPr/>
          <p:nvPr/>
        </p:nvSpPr>
        <p:spPr>
          <a:xfrm rot="19150800">
            <a:off x="6156000" y="3715920"/>
            <a:ext cx="358920" cy="1022400"/>
          </a:xfrm>
          <a:prstGeom prst="downArrow">
            <a:avLst>
              <a:gd name="adj1" fmla="val 50000"/>
              <a:gd name="adj2" fmla="val 47476"/>
            </a:avLst>
          </a:prstGeom>
          <a:solidFill>
            <a:srgbClr val="c6b07e"/>
          </a:solidFill>
          <a:ln w="39960">
            <a:solidFill>
              <a:srgbClr val="2a6d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Горизонтальный свиток 1"/>
          <p:cNvSpPr/>
          <p:nvPr/>
        </p:nvSpPr>
        <p:spPr>
          <a:xfrm>
            <a:off x="2786040" y="357120"/>
            <a:ext cx="4214880" cy="1511280"/>
          </a:xfrm>
          <a:prstGeom prst="horizontalScroll">
            <a:avLst>
              <a:gd name="adj" fmla="val 12500"/>
            </a:avLst>
          </a:prstGeom>
          <a:solidFill>
            <a:srgbClr val="fcd2b2"/>
          </a:solidFill>
          <a:ln w="399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Речевая компетен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Скругленный прямоугольник 2"/>
          <p:cNvSpPr/>
          <p:nvPr/>
        </p:nvSpPr>
        <p:spPr>
          <a:xfrm>
            <a:off x="1071720" y="2357280"/>
            <a:ext cx="2000160" cy="1000440"/>
          </a:xfrm>
          <a:prstGeom prst="roundRect">
            <a:avLst>
              <a:gd name="adj" fmla="val 16667"/>
            </a:avLst>
          </a:prstGeom>
          <a:solidFill>
            <a:srgbClr val="b0bad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Гово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Скругленный прямоугольник 3"/>
          <p:cNvSpPr/>
          <p:nvPr/>
        </p:nvSpPr>
        <p:spPr>
          <a:xfrm>
            <a:off x="2071800" y="4000680"/>
            <a:ext cx="2428920" cy="928440"/>
          </a:xfrm>
          <a:prstGeom prst="roundRect">
            <a:avLst>
              <a:gd name="adj" fmla="val 16667"/>
            </a:avLst>
          </a:prstGeom>
          <a:solidFill>
            <a:srgbClr val="b0bad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Ауд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Скругленный прямоугольник 4"/>
          <p:cNvSpPr/>
          <p:nvPr/>
        </p:nvSpPr>
        <p:spPr>
          <a:xfrm>
            <a:off x="6572160" y="2286000"/>
            <a:ext cx="1785960" cy="1214280"/>
          </a:xfrm>
          <a:prstGeom prst="roundRect">
            <a:avLst>
              <a:gd name="adj" fmla="val 16667"/>
            </a:avLst>
          </a:prstGeom>
          <a:solidFill>
            <a:srgbClr val="b0bad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Письм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Скругленный прямоугольник 5"/>
          <p:cNvSpPr/>
          <p:nvPr/>
        </p:nvSpPr>
        <p:spPr>
          <a:xfrm>
            <a:off x="5143680" y="4000680"/>
            <a:ext cx="2071440" cy="857160"/>
          </a:xfrm>
          <a:prstGeom prst="roundRect">
            <a:avLst>
              <a:gd name="adj" fmla="val 16667"/>
            </a:avLst>
          </a:prstGeom>
          <a:solidFill>
            <a:srgbClr val="b0bad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Чт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Стрелка вниз 8"/>
          <p:cNvSpPr/>
          <p:nvPr/>
        </p:nvSpPr>
        <p:spPr>
          <a:xfrm>
            <a:off x="4786200" y="2000160"/>
            <a:ext cx="285840" cy="108108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fcd2b2"/>
          </a:solidFill>
          <a:ln w="25560">
            <a:solidFill>
              <a:srgbClr val="ae42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Стрелка вниз 8"/>
          <p:cNvSpPr/>
          <p:nvPr/>
        </p:nvSpPr>
        <p:spPr>
          <a:xfrm rot="2002800">
            <a:off x="3631680" y="1846080"/>
            <a:ext cx="285840" cy="108108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fcd2b2"/>
          </a:solidFill>
          <a:ln w="25560">
            <a:solidFill>
              <a:srgbClr val="ae42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Стрелка вниз 8"/>
          <p:cNvSpPr/>
          <p:nvPr/>
        </p:nvSpPr>
        <p:spPr>
          <a:xfrm rot="19741800">
            <a:off x="5799240" y="1863360"/>
            <a:ext cx="285480" cy="1081080"/>
          </a:xfrm>
          <a:prstGeom prst="downArrow">
            <a:avLst>
              <a:gd name="adj1" fmla="val 50000"/>
              <a:gd name="adj2" fmla="val 50053"/>
            </a:avLst>
          </a:prstGeom>
          <a:solidFill>
            <a:srgbClr val="fcd2b2"/>
          </a:solidFill>
          <a:ln w="25560">
            <a:solidFill>
              <a:srgbClr val="ae42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0" y="5505480"/>
            <a:ext cx="9144000" cy="135252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1" name=""/>
          <p:cNvGraphicFramePr/>
          <p:nvPr/>
        </p:nvGraphicFramePr>
        <p:xfrm>
          <a:off x="428760" y="214200"/>
          <a:ext cx="8572320" cy="6189840"/>
        </p:xfrm>
        <a:graphic>
          <a:graphicData uri="http://schemas.openxmlformats.org/drawingml/2006/table">
            <a:tbl>
              <a:tblPr/>
              <a:tblGrid>
                <a:gridCol w="1371600"/>
                <a:gridCol w="3154320"/>
                <a:gridCol w="4046400"/>
              </a:tblGrid>
              <a:tr h="427320">
                <a:tc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ы речевой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ускник научитс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ия (компетентности учащихс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ebf1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ускник получит возможность научить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2b2"/>
                    </a:solidFill>
                  </a:tcPr>
                </a:tc>
              </a:tr>
              <a:tr h="1645920">
                <a:tc>
                  <a:txBody>
                    <a:bodyPr lIns="26280" rIns="2628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76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вор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нологическая реч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 Делать сообщения по те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 Кратко передавать содержание полученной информ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 Рассуждать о фактах /событиях, приводя аргументы, делая выводы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логическая реч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 Осуществлять запрос информ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 Выражать свое мнение по обсуждаемой те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ebf1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лать сообщение на заданную тему на основе прочитанного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ментировать факты из прочитанного/прослушанного текста, аргументировать своё отношение к прочитанному/прослушанному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тко высказываться без предварительной подготовки на заданную тему в соответствии с предложенной ситуацией общения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тко излагать результаты выполненной работ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2b2"/>
                    </a:solidFill>
                  </a:tcPr>
                </a:tc>
              </a:tr>
              <a:tr h="1190880">
                <a:tc>
                  <a:txBody>
                    <a:bodyPr lIns="26280" rIns="2628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76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удир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 понимать основное содержания текстов по те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 выборочно понимать необходимую информ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ebf1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делять основную мысль в воспринимаемом на слух тексте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ять в тексте, воспринимаемом на слух, главные факты от второстепенных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ть контекстуальную или языковую догадку при восприятии на слух текстов, содержащих незнакомые слов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2b2"/>
                    </a:solidFill>
                  </a:tcPr>
                </a:tc>
              </a:tr>
              <a:tr h="1461960">
                <a:tc>
                  <a:txBody>
                    <a:bodyPr lIns="26280" rIns="2628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76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 понимать основное содержания текстов по те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 выборочно понимать необходимую информации* понять текст полность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ebf1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тать и полностью понимать несложные аутентичные тексты, построенные в основном на изученном языковом материале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гадываться о значении незнакомых слов по сходству с русским/родным языком, по словообразовательным элементам, по контексту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ьзоваться сносками и лингвострановедческим справочнико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2b2"/>
                    </a:solidFill>
                  </a:tcPr>
                </a:tc>
              </a:tr>
              <a:tr h="1463760">
                <a:tc>
                  <a:txBody>
                    <a:bodyPr lIns="26280" rIns="2628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76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сьм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 marL="4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 делать выписки из текс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 писать коротк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драв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 заполнять формуля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 писать личное письм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ebf1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 marL="4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лать краткие выписки из текста с целью их использования в собственных устных высказываниях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лять план/тезисы устного или письменного сообщения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тко излагать в письменном виде результаты своей проектной деятельности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сать небольшие письменные высказывания с опорой на образец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2b2"/>
                    </a:solidFill>
                  </a:tcPr>
                </a:tc>
              </a:tr>
            </a:tbl>
          </a:graphicData>
        </a:graphic>
      </p:graphicFrame>
    </p:spTree>
  </p:cSld>
  <p:transition spd="slow"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Группа 11"/>
          <p:cNvGrpSpPr/>
          <p:nvPr/>
        </p:nvGrpSpPr>
        <p:grpSpPr>
          <a:xfrm>
            <a:off x="214200" y="357120"/>
            <a:ext cx="8643960" cy="4429080"/>
            <a:chOff x="214200" y="357120"/>
            <a:chExt cx="8643960" cy="4429080"/>
          </a:xfrm>
        </p:grpSpPr>
        <p:sp>
          <p:nvSpPr>
            <p:cNvPr id="363" name="Text Box 3"/>
            <p:cNvSpPr/>
            <p:nvPr/>
          </p:nvSpPr>
          <p:spPr>
            <a:xfrm>
              <a:off x="2220840" y="357120"/>
              <a:ext cx="4633920" cy="95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Monotype Corsiva"/>
                </a:rPr>
                <a:t>Организация самостоятельной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Monotype Corsiva"/>
                </a:rPr>
                <a:t>деятельности обучающихс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Text Box 4"/>
            <p:cNvSpPr/>
            <p:nvPr/>
          </p:nvSpPr>
          <p:spPr>
            <a:xfrm>
              <a:off x="6715080" y="2857320"/>
              <a:ext cx="2143080" cy="192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2060"/>
                  </a:solidFill>
                  <a:latin typeface="Calibri"/>
                </a:rPr>
                <a:t>4.Развитие коммуникативной компетенции через метод проектов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Text Box 5"/>
            <p:cNvSpPr/>
            <p:nvPr/>
          </p:nvSpPr>
          <p:spPr>
            <a:xfrm>
              <a:off x="214200" y="2857320"/>
              <a:ext cx="1785960" cy="185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2060"/>
                  </a:solidFill>
                  <a:latin typeface="Calibri"/>
                </a:rPr>
                <a:t>1. Технология критического мышления (ТРКМ) на урока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Box 6"/>
            <p:cNvSpPr/>
            <p:nvPr/>
          </p:nvSpPr>
          <p:spPr>
            <a:xfrm>
              <a:off x="2143080" y="2857320"/>
              <a:ext cx="2143080" cy="192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2060"/>
                  </a:solidFill>
                  <a:latin typeface="Calibri"/>
                </a:rPr>
                <a:t>2.Проблемное обучение как способ развития коммуникативной компетенци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Text Box 7"/>
            <p:cNvSpPr/>
            <p:nvPr/>
          </p:nvSpPr>
          <p:spPr>
            <a:xfrm>
              <a:off x="4429080" y="2857320"/>
              <a:ext cx="2152440" cy="192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2060"/>
                  </a:solidFill>
                  <a:latin typeface="Calibri"/>
                </a:rPr>
                <a:t>3.Дифференцированное обучение как способ развития коммуникативной компетенци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68" name="AutoShape 8"/>
            <p:cNvCxnSpPr/>
            <p:nvPr/>
          </p:nvCxnSpPr>
          <p:spPr>
            <a:xfrm flipH="1">
              <a:off x="1654560" y="1312920"/>
              <a:ext cx="1112400" cy="1499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9" name="AutoShape 9"/>
            <p:cNvCxnSpPr/>
            <p:nvPr/>
          </p:nvCxnSpPr>
          <p:spPr>
            <a:xfrm flipH="1">
              <a:off x="3115440" y="1312920"/>
              <a:ext cx="583920" cy="1370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0" name="AutoShape 10"/>
            <p:cNvCxnSpPr/>
            <p:nvPr/>
          </p:nvCxnSpPr>
          <p:spPr>
            <a:xfrm>
              <a:off x="4810680" y="1313640"/>
              <a:ext cx="358200" cy="1370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1" name="AutoShape 11"/>
            <p:cNvCxnSpPr/>
            <p:nvPr/>
          </p:nvCxnSpPr>
          <p:spPr>
            <a:xfrm>
              <a:off x="5716080" y="1313640"/>
              <a:ext cx="1354680" cy="1370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372" name="Picture 3" descr=""/>
          <p:cNvPicPr/>
          <p:nvPr/>
        </p:nvPicPr>
        <p:blipFill>
          <a:blip r:embed="rId1"/>
          <a:stretch/>
        </p:blipFill>
        <p:spPr>
          <a:xfrm>
            <a:off x="0" y="5505480"/>
            <a:ext cx="9144000" cy="13525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2" descr=""/>
          <p:cNvPicPr/>
          <p:nvPr/>
        </p:nvPicPr>
        <p:blipFill>
          <a:blip r:embed="rId2"/>
          <a:stretch/>
        </p:blipFill>
        <p:spPr>
          <a:xfrm>
            <a:off x="7072200" y="71424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Схема 4" descr=""/>
          <p:cNvPicPr/>
          <p:nvPr/>
        </p:nvPicPr>
        <p:blipFill>
          <a:blip r:embed="rId1"/>
          <a:stretch/>
        </p:blipFill>
        <p:spPr>
          <a:xfrm>
            <a:off x="493560" y="566640"/>
            <a:ext cx="8369280" cy="594360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4T23:36:02Z</dcterms:created>
  <dc:creator>1</dc:creator>
  <dc:description/>
  <dc:language>en-US</dc:language>
  <cp:lastModifiedBy>User</cp:lastModifiedBy>
  <dcterms:modified xsi:type="dcterms:W3CDTF">2012-01-23T08:17:06Z</dcterms:modified>
  <cp:revision>230</cp:revision>
  <dc:subject/>
  <dc:title>Слайд 1</dc:title>
</cp:coreProperties>
</file>