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20.png" ContentType="image/png"/>
  <Override PartName="/ppt/media/image19.png" ContentType="image/png"/>
  <Override PartName="/ppt/media/image18.gif" ContentType="image/gif"/>
  <Override PartName="/ppt/media/image4.png" ContentType="image/png"/>
  <Override PartName="/ppt/media/image15.png" ContentType="image/png"/>
  <Override PartName="/ppt/media/image14.gif" ContentType="image/gif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EA6A-DEFB-4433-8F23-42471F222E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A59E-41FF-43B1-916A-2578C20C0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B8C-2F55-432A-A73B-1E08D9E0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348-88DC-44D4-89B0-2E36546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D91-B881-4F45-A730-B59F31CB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4F7-ACBD-4E53-926B-B4B16DC3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F751-82A7-460D-898A-4585A689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E68-8488-47DC-897C-2D7768D5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F7FC-9811-4164-AE5E-0BF84180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2ECC-4790-4326-9207-A4CAF1B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909C-47B6-4B73-9793-DE56AA1A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232-86D1-4472-9BA1-802E58AB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4DF8-8313-488E-B1DD-59B3E00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A0C-21CF-4E5E-B7B6-C951443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D35-9CF1-443E-8836-EB5E7D6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6999-9ED7-4144-99BE-3FF8C1C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C19E-7C7B-421D-8C0A-9A55987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B5CD-4857-45CC-B577-A3069634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B257-6CF2-4BBC-AADB-D46C5444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CF3A-6AEB-4EBA-9B16-A864E656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4964-E61F-4E27-8ACE-C0CB1CA4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C634-7FA7-4932-AB6D-9FE5B1D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D6E2-3F46-4FF3-940E-E6C2696B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984E-2D70-4223-8633-F5BD5546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C16-A719-41C8-B198-9763C2F3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C51F-0BE7-46DF-ACF0-8C461463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9B0D-611B-42E7-8361-270EC43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DCAF-CD61-43AF-981B-3C32060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B3B9-8D23-4F94-9DB7-C43F99E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FFF4-79B6-489F-B025-E66AB1FA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161B-E1BC-46BC-9120-FDB1B038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099B-CE19-43D2-ABE9-7CD58EE7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3D0F-7BCF-4A98-993B-7D40081C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717DD-1E40-4A31-A29D-444BA446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8906-10A0-4BD4-BE25-24C3FA6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45B-2B2F-4CB8-A520-7CF3F58C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5629-3590-4111-8FDB-A5D7E086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EE06-3049-4E9A-8888-C4A5C1D1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B6AA-6F36-4787-84D1-7CCD6CF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4E8B-2C53-4B5A-8A88-81A5B47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8908-65C2-40A1-B388-99414939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A588-0104-482F-A482-D861DB1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885A-D689-4800-A233-B9A565C8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F8E0-90C0-49BC-864B-85DC988F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370F-11C3-4958-B3D8-7C71D475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CA11-D57F-46DD-B3C5-2F554205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FCE-60FA-4324-8D69-DE2C39E5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A5FE-AFD0-48FA-9184-4D8A0268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17AD-BE8E-411E-B51D-9C46CDCD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152F-4349-4526-8EE0-A79D5A30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E81D-968E-4C29-B33B-BB8293EE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92D33-C04D-4360-8E70-85CCB5C7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4CDD-2E34-4623-B844-6321678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6083-2D6C-4C1F-AED0-2F2AA95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6A298-6297-4589-80C8-490CF84F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CEA5-8354-4DD5-B8AA-0A781ECA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64A8-AD25-4F54-AEF4-F35F8768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2D6-B65C-4F6B-BE6A-1D214BE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A35B8-3889-47C3-86D9-25C7BD45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A928-BE32-4331-8CA3-96BBCEE5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47F96-695E-4B79-A414-E251E700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1D68-9C77-4EF6-B1B9-285461B2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FA56-440C-4188-91E9-62661CED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B2FA-035E-4677-B307-7A91DD9C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FA49-DBDD-4854-BD51-DCA3392A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C59A-254A-46F3-95FF-021D9ED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A4039-1FFC-4AE0-98C4-12D9493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A8478-34D7-4C79-AC97-FC91949E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C84-2BDA-484B-B7ED-7511418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C12A-94E1-47B2-8EA5-06C3B9C8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CF5B1-9802-453F-8D7E-B4981741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F6D7-CBCA-45C3-99E0-6F99EDF8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0D984-9BE8-4CA0-9297-299ED348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FF8DE-CC94-4D16-9096-0D7CB502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13C2-E4A7-43C2-96C8-C71286C7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FD25B-8767-4FF5-A17A-02B07AFB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727B2-AF96-4514-85B0-6F2FCC66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BB02-CD01-4B2D-BF3A-E4DF3488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0F25-85BA-4A9D-8CEC-0D4A1BB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9B9-8836-4AAA-AF40-1515988D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B2B18-C64D-4A21-BCEF-9041B39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237E6-15AB-4AAB-B652-75B9FBB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BA0DB-0ABF-47E2-A061-39F78F32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2D760-5456-4F52-AD39-660736CE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2B3F-5F07-4783-9337-947A1074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D0B-2503-49B8-9149-BEC62770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CF6A-C5A2-42D1-B4A6-D77C2C9E20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66B0-4294-43C6-8A77-455358792D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B406-D06F-4DD8-A149-E10A0CC7C4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0091-9495-4F6C-94C7-C20708E323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330-B7B2-45C2-BF2E-719DC5F6B2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775-040F-4EC0-B49E-FE723AB3E8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C737-EFBA-4502-999E-180129EF89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6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00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Verdana"/>
                <a:ea typeface="Verdana"/>
              </a:rPr>
              <a:t>ФГОС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-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28440" y="264276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  <a:ea typeface="Verdana"/>
              </a:rPr>
              <a:t>Специфика реализации ФГОС на уроках английского языка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571840" y="428760"/>
            <a:ext cx="6572160" cy="1857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Sveta\Мои документы\22.png"/>
          <p:cNvPicPr/>
          <p:nvPr/>
        </p:nvPicPr>
        <p:blipFill>
          <a:blip r:embed="rId3"/>
          <a:stretch/>
        </p:blipFill>
        <p:spPr>
          <a:xfrm>
            <a:off x="0" y="3143160"/>
            <a:ext cx="192888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Diagram 23"/>
          <p:cNvGrpSpPr/>
          <p:nvPr/>
        </p:nvGrpSpPr>
        <p:grpSpPr>
          <a:xfrm>
            <a:off x="1143000" y="428760"/>
            <a:ext cx="7611840" cy="6214680"/>
            <a:chOff x="1143000" y="428760"/>
            <a:chExt cx="7611840" cy="6214680"/>
          </a:xfrm>
        </p:grpSpPr>
        <p:sp>
          <p:nvSpPr>
            <p:cNvPr id="376" name="AutoShape 24"/>
            <p:cNvSpPr/>
            <p:nvPr/>
          </p:nvSpPr>
          <p:spPr>
            <a:xfrm>
              <a:off x="1143000" y="428760"/>
              <a:ext cx="7611840" cy="6214680"/>
            </a:xfrm>
            <a:prstGeom prst="rect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_s37913"/>
            <p:cNvSpPr/>
            <p:nvPr/>
          </p:nvSpPr>
          <p:spPr>
            <a:xfrm flipH="1" flipV="1">
              <a:off x="3673080" y="2292120"/>
              <a:ext cx="753480" cy="73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37914"/>
            <p:cNvSpPr/>
            <p:nvPr/>
          </p:nvSpPr>
          <p:spPr>
            <a:xfrm>
              <a:off x="2338560" y="1116000"/>
              <a:ext cx="163296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Твор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мастер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37915"/>
            <p:cNvSpPr/>
            <p:nvPr/>
          </p:nvSpPr>
          <p:spPr>
            <a:xfrm flipH="1" flipV="1">
              <a:off x="2993760" y="3253680"/>
              <a:ext cx="1155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37916"/>
            <p:cNvSpPr/>
            <p:nvPr/>
          </p:nvSpPr>
          <p:spPr>
            <a:xfrm>
              <a:off x="1380240" y="2468520"/>
              <a:ext cx="190656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Клуб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интернацион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др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_s37917"/>
            <p:cNvSpPr/>
            <p:nvPr/>
          </p:nvSpPr>
          <p:spPr>
            <a:xfrm flipH="1">
              <a:off x="3231360" y="3866760"/>
              <a:ext cx="1014480" cy="4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37918"/>
            <p:cNvSpPr/>
            <p:nvPr/>
          </p:nvSpPr>
          <p:spPr>
            <a:xfrm>
              <a:off x="1710720" y="4008240"/>
              <a:ext cx="1789560" cy="1330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Драмат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Театр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остан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37919"/>
            <p:cNvSpPr/>
            <p:nvPr/>
          </p:nvSpPr>
          <p:spPr>
            <a:xfrm flipH="1">
              <a:off x="4272480" y="4158000"/>
              <a:ext cx="398880" cy="9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37920"/>
            <p:cNvSpPr/>
            <p:nvPr/>
          </p:nvSpPr>
          <p:spPr>
            <a:xfrm>
              <a:off x="3175200" y="501516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редмет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неделя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дека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37921"/>
            <p:cNvSpPr/>
            <p:nvPr/>
          </p:nvSpPr>
          <p:spPr>
            <a:xfrm>
              <a:off x="5228640" y="4158000"/>
              <a:ext cx="402120" cy="89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37922"/>
            <p:cNvSpPr/>
            <p:nvPr/>
          </p:nvSpPr>
          <p:spPr>
            <a:xfrm>
              <a:off x="5090400" y="501732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онкур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В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37923"/>
            <p:cNvSpPr/>
            <p:nvPr/>
          </p:nvSpPr>
          <p:spPr>
            <a:xfrm>
              <a:off x="5655240" y="3864600"/>
              <a:ext cx="1014480" cy="4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37924"/>
            <p:cNvSpPr/>
            <p:nvPr/>
          </p:nvSpPr>
          <p:spPr>
            <a:xfrm>
              <a:off x="6557400" y="4012560"/>
              <a:ext cx="163296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руж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Се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7925"/>
            <p:cNvSpPr/>
            <p:nvPr/>
          </p:nvSpPr>
          <p:spPr>
            <a:xfrm flipV="1">
              <a:off x="5750640" y="3251160"/>
              <a:ext cx="115344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7926"/>
            <p:cNvSpPr/>
            <p:nvPr/>
          </p:nvSpPr>
          <p:spPr>
            <a:xfrm>
              <a:off x="6890760" y="2473200"/>
              <a:ext cx="1632240" cy="1330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разд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Фестива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7927"/>
            <p:cNvSpPr/>
            <p:nvPr/>
          </p:nvSpPr>
          <p:spPr>
            <a:xfrm flipV="1">
              <a:off x="5470920" y="2292120"/>
              <a:ext cx="753480" cy="73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7928"/>
            <p:cNvSpPr/>
            <p:nvPr/>
          </p:nvSpPr>
          <p:spPr>
            <a:xfrm>
              <a:off x="5934960" y="111780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луб знаток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англ. язы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7929"/>
            <p:cNvSpPr/>
            <p:nvPr/>
          </p:nvSpPr>
          <p:spPr>
            <a:xfrm flipV="1">
              <a:off x="4949280" y="1913760"/>
              <a:ext cx="0" cy="95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7930"/>
            <p:cNvSpPr/>
            <p:nvPr/>
          </p:nvSpPr>
          <p:spPr>
            <a:xfrm>
              <a:off x="4134240" y="58356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Литератур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веч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7931"/>
            <p:cNvSpPr/>
            <p:nvPr/>
          </p:nvSpPr>
          <p:spPr>
            <a:xfrm>
              <a:off x="4134240" y="2871000"/>
              <a:ext cx="1794960" cy="133272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26"/>
          <p:cNvSpPr/>
          <p:nvPr/>
        </p:nvSpPr>
        <p:spPr>
          <a:xfrm>
            <a:off x="4121280" y="3143160"/>
            <a:ext cx="18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Внеучеб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928800" y="714240"/>
          <a:ext cx="8015040" cy="5491440"/>
        </p:xfrm>
        <a:graphic>
          <a:graphicData uri="http://schemas.openxmlformats.org/drawingml/2006/table">
            <a:tbl>
              <a:tblPr/>
              <a:tblGrid>
                <a:gridCol w="1942920"/>
                <a:gridCol w="2273400"/>
                <a:gridCol w="37987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не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рочн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еурочн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Диск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Ролевая и учебная 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Решение проблемных задач и обсуждение проблемных ситу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Мини-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Мозговой штурм, «Дерево предложен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Скет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Инсерт, карта памя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Виктор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Конкурсы, КВ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Предметная неделя, дек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Научно-исследователь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Круглый ст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Интерв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Драма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Театральные постан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луб интернациональной др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Праздники, Фести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луб знатоков англ. я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ружок, с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онсультации с обучающимися высоких и низких учебных возмож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Творческая мас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Литературный веч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46c"/>
                    </a:solidFill>
                  </a:tcPr>
                </a:tc>
              </a:tr>
            </a:tbl>
          </a:graphicData>
        </a:graphic>
      </p:graphicFrame>
      <p:sp>
        <p:nvSpPr>
          <p:cNvPr id="398" name="Заголовок 1"/>
          <p:cNvSpPr/>
          <p:nvPr/>
        </p:nvSpPr>
        <p:spPr>
          <a:xfrm>
            <a:off x="857160" y="-357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Основные методы, формы и приёмы организации учеб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внеучебной деятельности по англий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5" descr="Bears_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4880" y="5000760"/>
            <a:ext cx="1463760" cy="1622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015.gif"/>
          <p:cNvPicPr/>
          <p:nvPr/>
        </p:nvPicPr>
        <p:blipFill>
          <a:blip r:embed="rId3"/>
          <a:stretch/>
        </p:blipFill>
        <p:spPr>
          <a:xfrm>
            <a:off x="0" y="142920"/>
            <a:ext cx="114300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693960" y="4698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1500120" y="1643040"/>
            <a:ext cx="69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законченное предложение (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 понимаю, что такое…, Я могу объяснить, зачем, почему, как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ез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л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дбор афоризма или выбор из списка предлож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ценка «приращения» знаний и достижения целей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Я не знал… - Теперь я знаю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нализ субъективного опыта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Я могу объяснить, применить, организовать…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тихотворение (синквей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аймонд, хайку), которое помогает выяснить отношение к изучаемой проблеме, соединить старое знание и осмысленное н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5"/>
          <p:cNvSpPr/>
          <p:nvPr/>
        </p:nvSpPr>
        <p:spPr>
          <a:xfrm>
            <a:off x="1285920" y="0"/>
            <a:ext cx="7128000" cy="1554120"/>
          </a:xfrm>
          <a:custGeom>
            <a:avLst/>
            <a:gdLst>
              <a:gd name="textAreaLeft" fmla="*/ 1782000 w 7128000"/>
              <a:gd name="textAreaRight" fmla="*/ 5346000 w 7128000"/>
              <a:gd name="textAreaTop" fmla="*/ 388440 h 1554120"/>
              <a:gd name="textAreaBottom" fmla="*/ 150840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a9d7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dobe Gothic Std B"/>
                <a:ea typeface="Adobe Gothic Std B"/>
              </a:rPr>
              <a:t>Эффективные при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dobe Gothic Std B"/>
                <a:ea typeface="Adobe Gothic Std B"/>
              </a:rPr>
              <a:t>формы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628560" y="0"/>
            <a:ext cx="81532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Языковой портфель учен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1285920" y="121428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642960" y="171468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Это дневник или пап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расочно и ярко оформл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ит красочно выполненные работы и про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ит перечень оценочных листов, согласно которым ребята должны оценить свой уровень умений( для 5-8 классов на русском языке, для 9-11 классов - на иностранном язы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C:\Users\Public\Pictures\Sample Pictures\0015-017-Portfel-chto.png"/>
          <p:cNvPicPr/>
          <p:nvPr/>
        </p:nvPicPr>
        <p:blipFill>
          <a:blip r:embed="rId2"/>
          <a:stretch/>
        </p:blipFill>
        <p:spPr>
          <a:xfrm>
            <a:off x="6643800" y="214200"/>
            <a:ext cx="22539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5"/>
          <p:cNvSpPr/>
          <p:nvPr/>
        </p:nvSpPr>
        <p:spPr>
          <a:xfrm>
            <a:off x="1473840" y="765000"/>
            <a:ext cx="6107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. I get better marks at schoo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. I can pass an examination in English.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I can travel to other countries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. I can speak to foreign people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. I can get a better job when I leave schoo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6. I can learn about Britain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7. I can learn about the USA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8. I can understand pop songs i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9. I can read English books in origina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. I can understand technical instructions i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1. I can work on computer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2. I can play computer games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3. because my parents want me to lear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4. because I enjoy learning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5. because I want to be an English teacher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6. because English is an important world language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7. because I want to understand English fil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539640" y="33336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Arial"/>
              </a:rPr>
              <a:t>Why do I learn English?</a:t>
            </a: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  Почему я изучаю английский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63000"/>
          </a:bodyPr>
          <a:p>
            <a:pPr marL="39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My language passpor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60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ой паспор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Когда я слушаю,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name_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rname __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e of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rth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lace of birth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y school  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y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metown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y country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began to learn English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21" descr="Копия 47-3"/>
          <p:cNvPicPr/>
          <p:nvPr/>
        </p:nvPicPr>
        <p:blipFill>
          <a:blip r:embed="rId1"/>
          <a:stretch/>
        </p:blipFill>
        <p:spPr>
          <a:xfrm>
            <a:off x="5429160" y="1285920"/>
            <a:ext cx="2976480" cy="4000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0" y="35676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Я умею писать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22" name="Object 4"/>
          <p:cNvGraphicFramePr/>
          <p:nvPr/>
        </p:nvGraphicFramePr>
        <p:xfrm>
          <a:off x="1571760" y="1500120"/>
          <a:ext cx="5865840" cy="401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500120"/>
                    <a:ext cx="5865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4" name="Picture 3" descr=""/>
          <p:cNvPicPr/>
          <p:nvPr/>
        </p:nvPicPr>
        <p:blipFill>
          <a:blip r:embed="rId3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6" descr="h41"/>
          <p:cNvPicPr/>
          <p:nvPr/>
        </p:nvPicPr>
        <p:blipFill>
          <a:blip r:embed="rId4"/>
          <a:stretch/>
        </p:blipFill>
        <p:spPr>
          <a:xfrm>
            <a:off x="6858000" y="0"/>
            <a:ext cx="207180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250920" y="1714680"/>
          <a:ext cx="8229600" cy="4214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мею поздороваться и попрощать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называть некоторые имена людей, предметы и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редставиться, назвать своё имя, узнать имя своего собесе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называть цвета, животных, продукты 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7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Corbel"/>
                        </a:rPr>
                        <a:t>Я умею отвечать на вопросы собеседника о том, где я живу и что мне нрав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облагодарить своего собесе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задавать прост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опросить своего собеседника дать мне тот или иной предмет, понять, что просят у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односложно отвечать на прост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7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считать до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ывать о том, что мне нравиться и не нрав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ать стихотв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ать о том, что я дела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общаться в магазине, делать покуп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a7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</a:tr>
            </a:tbl>
          </a:graphicData>
        </a:graphic>
      </p:graphicFrame>
      <p:sp>
        <p:nvSpPr>
          <p:cNvPr id="427" name="Текст 2"/>
          <p:cNvSpPr/>
          <p:nvPr/>
        </p:nvSpPr>
        <p:spPr>
          <a:xfrm>
            <a:off x="2286000" y="285840"/>
            <a:ext cx="471492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33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Когда я разговариваю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1"/>
          <p:cNvSpPr/>
          <p:nvPr/>
        </p:nvSpPr>
        <p:spPr>
          <a:xfrm>
            <a:off x="4286160" y="1071720"/>
            <a:ext cx="42465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0"/>
          <p:cNvSpPr/>
          <p:nvPr/>
        </p:nvSpPr>
        <p:spPr>
          <a:xfrm flipH="1">
            <a:off x="213840" y="1071720"/>
            <a:ext cx="407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7"/>
          <p:cNvSpPr/>
          <p:nvPr/>
        </p:nvSpPr>
        <p:spPr>
          <a:xfrm flipV="1">
            <a:off x="6858000" y="107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1"/>
          <p:cNvSpPr/>
          <p:nvPr/>
        </p:nvSpPr>
        <p:spPr>
          <a:xfrm>
            <a:off x="6858000" y="107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8"/>
          <p:cNvSpPr/>
          <p:nvPr/>
        </p:nvSpPr>
        <p:spPr>
          <a:xfrm flipV="1">
            <a:off x="7215120" y="107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52"/>
          <p:cNvSpPr/>
          <p:nvPr/>
        </p:nvSpPr>
        <p:spPr>
          <a:xfrm>
            <a:off x="7164360" y="333360"/>
            <a:ext cx="1589040" cy="66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901800" y="198720"/>
            <a:ext cx="73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4278"/>
                </a:solidFill>
                <a:latin typeface="Arial"/>
                <a:ea typeface="Calibri"/>
              </a:rPr>
              <a:t>Проект рабочего жур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278"/>
                </a:solidFill>
                <a:latin typeface="Arial"/>
                <a:ea typeface="Calibri"/>
              </a:rPr>
              <a:t>Система оценивания (накопительная) учебных дост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Таблица 2" descr=""/>
          <p:cNvPicPr/>
          <p:nvPr/>
        </p:nvPicPr>
        <p:blipFill>
          <a:blip r:embed="rId1"/>
          <a:stretch/>
        </p:blipFill>
        <p:spPr>
          <a:xfrm>
            <a:off x="927000" y="1066680"/>
            <a:ext cx="7790040" cy="4327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1071720" y="1015920"/>
            <a:ext cx="864396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85-100% выполненной работы – «отлично» и оценка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75-85% выполненной работы – « очень хорошо» и оценка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70-85% выполненной работы – «хорошо» и оценка 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979640" y="33336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4278"/>
                </a:solidFill>
                <a:latin typeface="Arial"/>
              </a:rPr>
              <a:t>Шкала оцен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4278"/>
                </a:solidFill>
                <a:latin typeface="Arial"/>
              </a:rPr>
              <a:t>достижений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6"/>
          <p:cNvSpPr/>
          <p:nvPr/>
        </p:nvSpPr>
        <p:spPr>
          <a:xfrm>
            <a:off x="107172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60 – 70% выполненной работы –«хорошо» - «4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7"/>
          <p:cNvSpPr/>
          <p:nvPr/>
        </p:nvSpPr>
        <p:spPr>
          <a:xfrm>
            <a:off x="1071720" y="47149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0-60% выполненной работы – «нормально» -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image5331"/>
          <p:cNvPicPr/>
          <p:nvPr/>
        </p:nvPicPr>
        <p:blipFill>
          <a:blip r:embed="rId2"/>
          <a:stretch/>
        </p:blipFill>
        <p:spPr>
          <a:xfrm>
            <a:off x="7358040" y="3929040"/>
            <a:ext cx="13143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3" descr="08.jpg"/>
          <p:cNvPicPr/>
          <p:nvPr/>
        </p:nvPicPr>
        <p:blipFill>
          <a:blip r:embed="rId1"/>
          <a:stretch/>
        </p:blipFill>
        <p:spPr>
          <a:xfrm>
            <a:off x="3121200" y="401760"/>
            <a:ext cx="2498400" cy="515124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4"/>
          <p:cNvSpPr/>
          <p:nvPr/>
        </p:nvSpPr>
        <p:spPr>
          <a:xfrm>
            <a:off x="5929200" y="857160"/>
            <a:ext cx="30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нания только тогда  знания, когда они приобретаются усилиями своей мысли, а не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285840" y="857160"/>
            <a:ext cx="264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и пути ведут к знанию: путь размышления –  это путь самый благородный; путь подражания – это путь самый легкий; путь опыта – это путь самый гор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фу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00040" y="5500800"/>
            <a:ext cx="8358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2223"/>
                </a:solidFill>
                <a:latin typeface="Calibri"/>
              </a:rPr>
              <a:t>Teachers open the door but you must enter by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hinese prove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5"/>
          <p:cNvSpPr/>
          <p:nvPr/>
        </p:nvSpPr>
        <p:spPr>
          <a:xfrm>
            <a:off x="1332000" y="1557360"/>
            <a:ext cx="6696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Monotype Corsiva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235080" y="90360"/>
            <a:ext cx="3908160" cy="6156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4857840" y="571680"/>
            <a:ext cx="3143160" cy="8571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4071960" y="2286000"/>
            <a:ext cx="507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 1 сентября 2011 г. введение ФГОС НОО обязательно во всех образовательных учреждениях РФ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2143080" y="308880"/>
            <a:ext cx="5715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22223"/>
                </a:solidFill>
                <a:latin typeface="Arial"/>
                <a:ea typeface="Times New Roman"/>
              </a:rPr>
              <a:t>Основное назначение иностранного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формирование </a:t>
            </a:r>
            <a:r>
              <a:rPr b="1" i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коммуникативной компетентности</a:t>
            </a: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, т.е. способности и готовности осуществлять иноязычное межличностное и межкультурное общение с носителями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3"/>
          <p:cNvPicPr/>
          <p:nvPr/>
        </p:nvPicPr>
        <p:blipFill>
          <a:blip r:embed="rId2"/>
          <a:stretch/>
        </p:blipFill>
        <p:spPr>
          <a:xfrm>
            <a:off x="214200" y="500040"/>
            <a:ext cx="1511280" cy="12445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4"/>
          <p:cNvSpPr/>
          <p:nvPr/>
        </p:nvSpPr>
        <p:spPr>
          <a:xfrm>
            <a:off x="2786040" y="642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143000" y="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Коммуникативная компете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Горизонтальный свиток 6"/>
          <p:cNvSpPr/>
          <p:nvPr/>
        </p:nvSpPr>
        <p:spPr>
          <a:xfrm>
            <a:off x="928800" y="1928880"/>
            <a:ext cx="251928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Речев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Горизонтальный свиток 4"/>
          <p:cNvSpPr/>
          <p:nvPr/>
        </p:nvSpPr>
        <p:spPr>
          <a:xfrm>
            <a:off x="3571920" y="3214800"/>
            <a:ext cx="216072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Языков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Горизонтальный свиток 4"/>
          <p:cNvSpPr/>
          <p:nvPr/>
        </p:nvSpPr>
        <p:spPr>
          <a:xfrm>
            <a:off x="826920" y="4940280"/>
            <a:ext cx="273708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Компенсатор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Горизонтальный свиток 4"/>
          <p:cNvSpPr/>
          <p:nvPr/>
        </p:nvSpPr>
        <p:spPr>
          <a:xfrm>
            <a:off x="6215040" y="1857240"/>
            <a:ext cx="267804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Учебно-познаватель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Горизонтальный свиток 4"/>
          <p:cNvSpPr/>
          <p:nvPr/>
        </p:nvSpPr>
        <p:spPr>
          <a:xfrm>
            <a:off x="5796000" y="4869000"/>
            <a:ext cx="287964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оциокультур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низ 8"/>
          <p:cNvSpPr/>
          <p:nvPr/>
        </p:nvSpPr>
        <p:spPr>
          <a:xfrm>
            <a:off x="4427640" y="1916280"/>
            <a:ext cx="285480" cy="108108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трелка вниз 12"/>
          <p:cNvSpPr/>
          <p:nvPr/>
        </p:nvSpPr>
        <p:spPr>
          <a:xfrm rot="2203800">
            <a:off x="2341440" y="100656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трелка вниз 8"/>
          <p:cNvSpPr/>
          <p:nvPr/>
        </p:nvSpPr>
        <p:spPr>
          <a:xfrm rot="19044600">
            <a:off x="6656040" y="98748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низ 8"/>
          <p:cNvSpPr/>
          <p:nvPr/>
        </p:nvSpPr>
        <p:spPr>
          <a:xfrm rot="2203800">
            <a:off x="2627280" y="371628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трелка вниз 8"/>
          <p:cNvSpPr/>
          <p:nvPr/>
        </p:nvSpPr>
        <p:spPr>
          <a:xfrm rot="19150800">
            <a:off x="6156000" y="371592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Горизонтальный свиток 1"/>
          <p:cNvSpPr/>
          <p:nvPr/>
        </p:nvSpPr>
        <p:spPr>
          <a:xfrm>
            <a:off x="2786040" y="357120"/>
            <a:ext cx="421488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Речевая компет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2"/>
          <p:cNvSpPr/>
          <p:nvPr/>
        </p:nvSpPr>
        <p:spPr>
          <a:xfrm>
            <a:off x="1071720" y="2357280"/>
            <a:ext cx="2000160" cy="100044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Го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3"/>
          <p:cNvSpPr/>
          <p:nvPr/>
        </p:nvSpPr>
        <p:spPr>
          <a:xfrm>
            <a:off x="2071800" y="4000680"/>
            <a:ext cx="2428920" cy="92844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уд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4"/>
          <p:cNvSpPr/>
          <p:nvPr/>
        </p:nvSpPr>
        <p:spPr>
          <a:xfrm>
            <a:off x="6572160" y="2286000"/>
            <a:ext cx="1785960" cy="121428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5"/>
          <p:cNvSpPr/>
          <p:nvPr/>
        </p:nvSpPr>
        <p:spPr>
          <a:xfrm>
            <a:off x="5143680" y="4000680"/>
            <a:ext cx="2071440" cy="85716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низ 8"/>
          <p:cNvSpPr/>
          <p:nvPr/>
        </p:nvSpPr>
        <p:spPr>
          <a:xfrm>
            <a:off x="4786200" y="2000160"/>
            <a:ext cx="285840" cy="1081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cd2b2"/>
          </a:solidFill>
          <a:ln w="255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трелка вниз 8"/>
          <p:cNvSpPr/>
          <p:nvPr/>
        </p:nvSpPr>
        <p:spPr>
          <a:xfrm rot="2002800">
            <a:off x="3631680" y="1846080"/>
            <a:ext cx="285840" cy="1081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cd2b2"/>
          </a:solidFill>
          <a:ln w="255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8"/>
          <p:cNvSpPr/>
          <p:nvPr/>
        </p:nvSpPr>
        <p:spPr>
          <a:xfrm rot="19741800">
            <a:off x="5799240" y="1863360"/>
            <a:ext cx="285480" cy="108108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fcd2b2"/>
          </a:solidFill>
          <a:ln w="255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428760" y="214200"/>
          <a:ext cx="8572320" cy="6189840"/>
        </p:xfrm>
        <a:graphic>
          <a:graphicData uri="http://schemas.openxmlformats.org/drawingml/2006/table">
            <a:tbl>
              <a:tblPr/>
              <a:tblGrid>
                <a:gridCol w="1371600"/>
                <a:gridCol w="3154320"/>
                <a:gridCol w="4046400"/>
              </a:tblGrid>
              <a:tr h="42732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ече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научи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(компетентности учащихс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получит возможность науч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64592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ологическ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Делать сообщения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Кратко передавать содержание полученн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Рассуждать о фактах /событиях, приводя аргументы, делая выво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логическ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Осуществлять запрос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Выражать свое мнение по обсуждаемой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сообщение на заданную тему на основе прочитанног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нтировать факты из прочитанного/прослушанного текста, аргументировать своё отношение к прочитанному/прослушанном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 высказываться без предварительной подготовки на заданную тему в соответствии с предложенной ситуацией общ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 излагать результаты выполненной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19088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онимать основное содержания текстов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выборочно понимать необходимую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ять основную мысль в воспринимаемом на слух текст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ять в тексте, воспринимаемом на слух, главные факты от второстепенны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контекстуальную или языковую догадку при восприятии на слух текстов, содержащих незнакомые сло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46196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онимать основное содержания текстов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выборочно понимать необходимую информации* понять текст пол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и полностью понимать несложные аутентичные тексты, построенные в основном на изученном языковом материал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адываться о значении незнакомых слов по сходству с русским/родным языком, по словообразовательным элементам, по контекст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ься сносками и лингвострановедческим справочни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46376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делать выписки из тек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исать корот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д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заполнять формуля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исать личное пись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краткие выписки из текста с целью их использования в собственных устных высказываниях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ть план/тезисы устного или письменного сообщ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 излагать в письменном виде результаты своей проектной деятельно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ать небольшие письменные высказывания с опорой на образец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</a:tbl>
          </a:graphicData>
        </a:graphic>
      </p:graphicFrame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Группа 11"/>
          <p:cNvGrpSpPr/>
          <p:nvPr/>
        </p:nvGrpSpPr>
        <p:grpSpPr>
          <a:xfrm>
            <a:off x="214200" y="357120"/>
            <a:ext cx="8643960" cy="4429080"/>
            <a:chOff x="214200" y="357120"/>
            <a:chExt cx="8643960" cy="4429080"/>
          </a:xfrm>
        </p:grpSpPr>
        <p:sp>
          <p:nvSpPr>
            <p:cNvPr id="363" name="Text Box 3"/>
            <p:cNvSpPr/>
            <p:nvPr/>
          </p:nvSpPr>
          <p:spPr>
            <a:xfrm>
              <a:off x="2220840" y="357120"/>
              <a:ext cx="4633920" cy="9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Организация самостоятельно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деятельности обучаю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"/>
            <p:cNvSpPr/>
            <p:nvPr/>
          </p:nvSpPr>
          <p:spPr>
            <a:xfrm>
              <a:off x="6715080" y="2857320"/>
              <a:ext cx="2143080" cy="19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4.Развитие коммуникативной компетенции через метод проект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214200" y="2857320"/>
              <a:ext cx="1785960" cy="18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1. Технология критического мышления (ТРКМ) на урок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2143080" y="2857320"/>
              <a:ext cx="2143080" cy="19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2.Проблемное обучение как способ развития коммуникативной компетен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4429080" y="2857320"/>
              <a:ext cx="2152440" cy="19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3.Дифференцированное обучение как способ развития коммуникативной компетен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8" name="AutoShape 8"/>
            <p:cNvCxnSpPr/>
            <p:nvPr/>
          </p:nvCxnSpPr>
          <p:spPr>
            <a:xfrm flipH="1">
              <a:off x="1654560" y="1312920"/>
              <a:ext cx="1112400" cy="149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9"/>
            <p:cNvCxnSpPr/>
            <p:nvPr/>
          </p:nvCxnSpPr>
          <p:spPr>
            <a:xfrm flipH="1">
              <a:off x="3115440" y="1312920"/>
              <a:ext cx="583920" cy="13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10"/>
            <p:cNvCxnSpPr/>
            <p:nvPr/>
          </p:nvCxnSpPr>
          <p:spPr>
            <a:xfrm>
              <a:off x="4810680" y="1313640"/>
              <a:ext cx="358200" cy="13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11"/>
            <p:cNvCxnSpPr/>
            <p:nvPr/>
          </p:nvCxnSpPr>
          <p:spPr>
            <a:xfrm>
              <a:off x="5716080" y="1313640"/>
              <a:ext cx="1354680" cy="13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7072200" y="714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4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3692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23:36:02Z</dcterms:created>
  <dc:creator>1</dc:creator>
  <dc:description/>
  <dc:language>en-US</dc:language>
  <cp:lastModifiedBy>User</cp:lastModifiedBy>
  <dcterms:modified xsi:type="dcterms:W3CDTF">2012-01-23T08:17:06Z</dcterms:modified>
  <cp:revision>230</cp:revision>
  <dc:subject/>
  <dc:title>Слайд 1</dc:title>
</cp:coreProperties>
</file>