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EDF0-CE8E-44E0-850E-B39B0E9F7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72C3-6217-48AA-A74F-4F58142E9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E0C6-BBD4-43A7-89CE-376675F71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CF8B-9184-4466-8624-3CA6518AC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C044-D133-40E2-B584-22116E09F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6089-9B25-4610-A90C-82DF3E5DC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90C7-7257-4961-A9FD-876C634AC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B4A6-95F3-4694-95E5-02DC2C475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2F94-6707-4768-B8E2-A76524DC8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8D84-E8A1-4ACE-BA99-316024E9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5E43-EB61-4BB1-880A-12741E57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9CAF-B601-47DC-A6CF-CFD1B40B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A0E97-7276-4771-9E80-2E5DCC776E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 получаются фразеологиз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24000" y="90792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Жили-были  …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Звали их  …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Жили они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кучно …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от как-то раз … и решили …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И домик себе один на всех наш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"/>
          <p:cNvPicPr/>
          <p:nvPr/>
        </p:nvPicPr>
        <p:blipFill>
          <a:blip r:embed="rId1"/>
          <a:srcRect l="3752" t="4122" r="3629" b="0"/>
          <a:stretch/>
        </p:blipFill>
        <p:spPr>
          <a:xfrm>
            <a:off x="5867280" y="2133720"/>
            <a:ext cx="2737080" cy="2577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"/>
          <p:cNvPicPr/>
          <p:nvPr/>
        </p:nvPicPr>
        <p:blipFill>
          <a:blip r:embed="rId2"/>
          <a:stretch/>
        </p:blipFill>
        <p:spPr>
          <a:xfrm>
            <a:off x="3348000" y="4292640"/>
            <a:ext cx="2519280" cy="2303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"/>
          <p:cNvPicPr/>
          <p:nvPr/>
        </p:nvPicPr>
        <p:blipFill>
          <a:blip r:embed="rId3"/>
          <a:stretch/>
        </p:blipFill>
        <p:spPr>
          <a:xfrm>
            <a:off x="395280" y="2492280"/>
            <a:ext cx="3024360" cy="2987640"/>
          </a:xfrm>
          <a:prstGeom prst="rect">
            <a:avLst/>
          </a:prstGeom>
          <a:ln w="0">
            <a:noFill/>
          </a:ln>
        </p:spPr>
      </p:pic>
      <p:sp>
        <p:nvSpPr>
          <p:cNvPr id="46" name="WordArt 13"/>
          <p:cNvSpPr txBox="1"/>
          <p:nvPr/>
        </p:nvSpPr>
        <p:spPr>
          <a:xfrm rot="19115400">
            <a:off x="468360" y="2637000"/>
            <a:ext cx="1349280" cy="1152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тенка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7" name="WordArt 14"/>
          <p:cNvSpPr txBox="1"/>
          <p:nvPr/>
        </p:nvSpPr>
        <p:spPr>
          <a:xfrm rot="2350800">
            <a:off x="7451280" y="2276280"/>
            <a:ext cx="1308240" cy="1255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оро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8" name="WordArt 15"/>
          <p:cNvSpPr txBox="1"/>
          <p:nvPr/>
        </p:nvSpPr>
        <p:spPr>
          <a:xfrm rot="5400000">
            <a:off x="3918240" y="3361320"/>
            <a:ext cx="1449360" cy="431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Б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37236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бери нужное слово для фразеологического оборо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528560"/>
            <a:ext cx="9036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робью по (локоть, макушку, колено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ячья (душа, лапа, шубка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м как (осёл, рыба, дельфин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214200" y="2786040"/>
            <a:ext cx="774072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робью по коле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142920" y="4714920"/>
            <a:ext cx="568800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ячья ду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142920" y="6215040"/>
            <a:ext cx="619272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м как ры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знай фразеологизм по рисун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1214280" y="4646520"/>
            <a:ext cx="3961080" cy="2211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2"/>
          <a:stretch/>
        </p:blipFill>
        <p:spPr>
          <a:xfrm>
            <a:off x="179280" y="620640"/>
            <a:ext cx="4537080" cy="3403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3"/>
          <a:stretch/>
        </p:blipFill>
        <p:spPr>
          <a:xfrm>
            <a:off x="5580000" y="1125360"/>
            <a:ext cx="3125880" cy="44643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7"/>
          <p:cNvSpPr/>
          <p:nvPr/>
        </p:nvSpPr>
        <p:spPr>
          <a:xfrm>
            <a:off x="5149080" y="549360"/>
            <a:ext cx="36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уб на зуб не попад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5128200" y="6183360"/>
            <a:ext cx="24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инный язы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541440" y="3933720"/>
            <a:ext cx="30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аза на лоб лезу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едини фразеологизм с его значе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1628640"/>
            <a:ext cx="892800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льчики оближешь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е говорить глав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ботать спустя рукава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чень вкус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говаривать зубы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чень плохо!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>
            <a:off x="3924360" y="1916280"/>
            <a:ext cx="1295280" cy="10080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5"/>
          <p:cNvSpPr/>
          <p:nvPr/>
        </p:nvSpPr>
        <p:spPr>
          <a:xfrm>
            <a:off x="4427640" y="3068640"/>
            <a:ext cx="792000" cy="7207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6"/>
          <p:cNvSpPr/>
          <p:nvPr/>
        </p:nvSpPr>
        <p:spPr>
          <a:xfrm flipV="1">
            <a:off x="3635280" y="2060640"/>
            <a:ext cx="1584360" cy="20160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8"/>
          <p:cNvSpPr/>
          <p:nvPr/>
        </p:nvSpPr>
        <p:spPr>
          <a:xfrm>
            <a:off x="755640" y="33336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108000" y="115920"/>
            <a:ext cx="90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ставители каких профессий могли так говори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0" y="5493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рещать по швам;  заварить кашу;  топорная работ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час по чайной ложке;  сгущать краск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тричь под одну гребёнку;  играть первую скрип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Ink 22" descr=""/>
          <p:cNvPicPr/>
          <p:nvPr/>
        </p:nvPicPr>
        <p:blipFill>
          <a:blip r:embed="rId1"/>
          <a:stretch/>
        </p:blipFill>
        <p:spPr>
          <a:xfrm>
            <a:off x="1353960" y="4191120"/>
            <a:ext cx="1371600" cy="5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1332000" y="306360"/>
            <a:ext cx="7345440" cy="65516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 каждого свой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царь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     в голо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6"/>
          <p:cNvSpPr txBox="1"/>
          <p:nvPr/>
        </p:nvSpPr>
        <p:spPr>
          <a:xfrm>
            <a:off x="179280" y="115920"/>
            <a:ext cx="3816360" cy="131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ез царя в голове</a:t>
            </a:r>
            <a:endParaRPr b="0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8T15:18:00Z</dcterms:created>
  <dc:creator>Customer</dc:creator>
  <dc:description/>
  <dc:language>en-US</dc:language>
  <cp:lastModifiedBy>Лариса Владимировна</cp:lastModifiedBy>
  <dcterms:modified xsi:type="dcterms:W3CDTF">2013-02-28T06:11:59Z</dcterms:modified>
  <cp:revision>30</cp:revision>
  <dc:subject/>
  <dc:title>ЗАДАНИЕ НА ВНИМАНИЕ!</dc:title>
</cp:coreProperties>
</file>