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38C-9555-4031-B837-FD68C5AF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8E8-3132-444B-99D7-D5ECFAC9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F40-0AE6-4CCA-BBFF-24246B37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EE5-2DBD-4966-AAC8-5246EAFD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BE30-48FE-4329-BEBE-C24AEFC6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D7EF-59CC-4276-9FC9-F125E902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96C8-DC02-442C-BCDA-B0743D71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27BE-DA98-4FE6-AFF1-FEEEF519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8746-6F94-4C5B-94F1-45581A84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3937-B24B-40CB-B39B-E53EBFF3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CC2B-AEAE-4E23-88BC-4F7BD1CE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B01-4B1E-43A3-8AF9-8C9D904F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734E-CA00-4FB9-9C15-023E9865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5C92-7FB0-4C55-B6F2-5EB3452C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5796-EA1A-4A48-A4EA-456409D4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5103-11FE-42CC-B2BE-94296B47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87C9-BF2D-4C64-8D37-611EF6CF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BF4-6E6A-4967-A274-2DAD18CF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BF6-A6C5-441A-AED9-C4C90EFE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21A-5600-493E-9C5B-58C4FE4F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402-C23E-4B4E-93FF-122B0C7B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E30-F2DD-4F0E-844F-A5924A2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2C1-E0EB-43AD-A22D-7E208E1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14A-F5B6-4CB8-8C7C-17C8AE3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D56-6ED3-4550-8715-5067F63221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CDDD-85B1-4946-801F-8D338C485E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704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Тема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Современные проблемы гуманизации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Подготовила: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магистрант 2-го курса программ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«Дошкольное образование» Верхозина Л.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05df"/>
                </a:solidFill>
                <a:latin typeface="Tahoma"/>
              </a:rPr>
              <a:t>«Возвращение к Человеку…»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941400"/>
            <a:ext cx="79200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637000"/>
            <a:ext cx="77929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Ребенок открытка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1125360"/>
            <a:ext cx="784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Истинная гуманность педагогики заключается в том, чтобы беречь радость и счастье, на которое имеет право ребёнок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.А. Сухомл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55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уманиз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(от лат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manita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человечность) –принцип мировозрения, в основе которого лежит признание безграничности возможностей человека и его способности к совершенствованию, прав личности на свободное проявление своих способностей, убеждений, утверждение блага человека как критерия оценки уровня общественных отнош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уман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(от лат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manu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человеческий, свойственный человеку, человеко-любивый) – принцип, основанный на отношении к человеку как к высшей ценности, на признании права ребёнка на свободное развитие и проявление своих способнос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уманизация образования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а мер, направленных на приоритетное развитие общекультурных компонентов в содержании образования и технологии обучения, ориентированных на совершенствование личности, занимающей центральное место в структуре общественных отнош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кономерности гуманизации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280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заимодействие растущего человека со взрослыми и социальной средой, взаимодействие человека с мир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иентация на развитие л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Зона ближайшего развития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звитие личности в гармонии с общечеловеческой культур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-489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620640"/>
            <a:ext cx="73501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ёт культурно исторических традиций народ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знообразность и продуктивность значимой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ащийся выступает субъектом обуч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нцип диалогического подхода, позиция сотруднич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ворческая направленность образовательного процесс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нцип профессионально-этической взаимоответствен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67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Современные проблемы гуманизации образовани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148000" y="2491920"/>
            <a:ext cx="3384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«Ничего выше человека, и ни один человек не может быть ниже другого..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3216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Гуманизация образования, как научная проблем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8360" y="2017800"/>
            <a:ext cx="38066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овременный кризис образования имеет внутренние причины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4392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4978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уманизация образования – это редукция зарубежных достижений гуманистической психологии или наша страна стала совершенно другой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уманизация образования как сложившаяся образовательная парадигм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щество, семья или шко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7:06:57Z</dcterms:created>
  <dc:creator>Верхозина</dc:creator>
  <dc:description/>
  <dc:language>en-US</dc:language>
  <cp:lastModifiedBy>Верхозина</cp:lastModifiedBy>
  <dcterms:modified xsi:type="dcterms:W3CDTF">2002-01-02T10:56:38Z</dcterms:modified>
  <cp:revision>2</cp:revision>
  <dc:subject/>
  <dc:title>Тема: Современные проблемы гуманизации образования</dc:title>
</cp:coreProperties>
</file>