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E64F-6213-41D1-BE70-FB41C6DD4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84EA-C1D0-4EB3-87F0-33227DFF7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6477-1D8B-4298-990F-459363A2B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6CEA-53F6-4D7E-97E9-8FA2985C5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AB5AC-1764-48D1-B452-B4B12FC6F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78E6C-0FA8-40E8-BF68-2F8F02744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01070-8CE8-4647-857D-96A66137E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D2AE2-84C5-4A0B-A7B4-1290ED17D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92B53-36C8-4F59-90A4-532E443B9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9AEE5-3230-410B-A9E1-A762D5833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F490F-C0F0-413F-B54E-568526FA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92DC-68AD-4255-A5F1-514C691D0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52490-5319-414E-8906-C5770207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D0FC1-D6AF-4EE1-975C-7A4AC560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373BC-A206-4949-A0B6-B4A2EDF35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0E259-EA65-403E-A333-63474165A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0EA43-1576-4105-BDF8-98C6CCC91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6162-D4FD-471F-ADE2-89D3A02C8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3DFF-B1C3-4B9F-B81F-8045B4D5A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752F-83CB-4F40-8648-8CE7CD88B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8861-A6EE-4D8A-B451-1D356FDBE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A982-DA8A-4FE8-99B2-340AFADD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871B-8DC4-46C2-8233-A370145C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8D15-46EE-45EE-9A88-1AF75FDA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FA555-359B-4983-9E63-F45D620F9B6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46046-BE27-4A8A-8EA1-4A49C77EEC5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560" y="907920"/>
            <a:ext cx="77043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Тема: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Современные проблемы гуманизации образова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34000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Подготовила: </a:t>
            </a: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магистрант 2-го курса программ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«Дошкольное образование» Верхозина Л.Г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214200"/>
            <a:ext cx="861984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505df"/>
                </a:solidFill>
                <a:latin typeface="Tahoma"/>
              </a:rPr>
              <a:t>«Возвращение к Человеку…»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84360" y="941400"/>
            <a:ext cx="7920000" cy="57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000" y="2637000"/>
            <a:ext cx="779292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2" name="" descr="Ребенок открытка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80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68360" y="1125360"/>
            <a:ext cx="78487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Истинная гуманность педагогики заключается в том, чтобы беречь радость и счастье, на которое имеет право ребёнок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.А. Сухомлин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955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Гуманизм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– (от лат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umanitas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– человечность) –принцип мировозрения, в основе которого лежит признание безграничности возможностей человека и его способности к совершенствованию, прав личности на свободное проявление своих способностей, убеждений, утверждение блага человека как критерия оценки уровня общественных отношени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Гуманизация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– (от лат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umanus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– человеческий, свойственный человеку, человеко-любивый) – принцип, основанный на отношении к человеку как к высшей ценности, на признании права ребёнка на свободное развитие и проявление своих способносте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Гуманизация образования –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истема мер, направленных на приоритетное развитие общекультурных компонентов в содержании образования и технологии обучения, ориентированных на совершенствование личности, занимающей центральное место в структуре общественных отношени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Закономерности гуманизации образова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4920" y="2133360"/>
            <a:ext cx="828036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заимодействие растущего человека со взрослыми и социальной средой, взаимодействие человека с миром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риентация на развитие личност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«Зона ближайшего развития»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Развитие личности в гармонии с общечеловеческой культурой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-4896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240" y="620640"/>
            <a:ext cx="73501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чёт культурно исторических традиций народа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Разнообразность и продуктивность значимой деятельност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чащийся выступает субъектом обучения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инцип диалогического подхода, позиция сотрудничества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ворческая направленность образовательного процесса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инцип профессионально-этической взаимоответственност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678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Современные проблемы гуманизации образования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148000" y="2491920"/>
            <a:ext cx="33843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«Ничего выше человека, и ни один человек не может быть ниже другого..»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32166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Гуманизация образования, как научная проблем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148360" y="2017800"/>
            <a:ext cx="380664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Современный кризис образования имеет внутренние причины…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439272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49780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Гуманизация образования – это редукция зарубежных достижений гуманистической психологии или наша страна стала совершенно другой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Гуманизация образования как сложившаяся образовательная парадигма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бщество, семья или школа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2T07:06:57Z</dcterms:created>
  <dc:creator>Верхозина</dc:creator>
  <dc:description/>
  <dc:language>en-US</dc:language>
  <cp:lastModifiedBy>Верхозина</cp:lastModifiedBy>
  <dcterms:modified xsi:type="dcterms:W3CDTF">2002-01-02T10:56:38Z</dcterms:modified>
  <cp:revision>2</cp:revision>
  <dc:subject/>
  <dc:title>Тема: Современные проблемы гуманизации образования</dc:title>
</cp:coreProperties>
</file>