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4F16-A228-4795-B59E-84535DFC8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7CDC-0215-48CD-85D7-6569C6059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85A1-FFF7-434A-AF1D-21C54201E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61DC-A978-43BB-9AF5-8F1C71FEC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8211-D36C-4167-A552-12C845335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872C-693D-42A4-BFFA-8D6159C5F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8DBC-CEA8-4C6B-B22E-C3F625C89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EBCE-1ABB-4E88-8490-E189C80F8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BBB7-D61A-4121-A44E-4D8548FD3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E4B9-6993-4464-BA5D-A798796F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C022-849F-4FE3-B5CB-1D3E9672D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2823-6356-4850-AFE7-CC02D27B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A8B71-425A-4313-BC36-3E6A10359C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800000"/>
                </a:solidFill>
                <a:latin typeface="Bodoni MT Condensed"/>
              </a:rPr>
              <a:t>Художественная культура  XIX столети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179280" y="5516640"/>
            <a:ext cx="8785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Гюго Виктор Мари (1802-1885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Великий французский поэт, романист, драматург, общественный деятель, лидер французского романтизма, классик мировой литера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Victor_Hugo"/>
          <p:cNvPicPr/>
          <p:nvPr/>
        </p:nvPicPr>
        <p:blipFill>
          <a:blip r:embed="rId1"/>
          <a:stretch/>
        </p:blipFill>
        <p:spPr>
          <a:xfrm>
            <a:off x="2843280" y="333360"/>
            <a:ext cx="3597120" cy="47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9" descr="173473"/>
          <p:cNvPicPr/>
          <p:nvPr/>
        </p:nvPicPr>
        <p:blipFill>
          <a:blip r:embed="rId1"/>
          <a:stretch/>
        </p:blipFill>
        <p:spPr>
          <a:xfrm>
            <a:off x="250920" y="1773360"/>
            <a:ext cx="2687400" cy="3579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garou_news"/>
          <p:cNvPicPr/>
          <p:nvPr/>
        </p:nvPicPr>
        <p:blipFill>
          <a:blip r:embed="rId2"/>
          <a:stretch/>
        </p:blipFill>
        <p:spPr>
          <a:xfrm>
            <a:off x="3276720" y="4076640"/>
            <a:ext cx="2916000" cy="2187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" descr="fmimg8032209685943483295"/>
          <p:cNvPicPr/>
          <p:nvPr/>
        </p:nvPicPr>
        <p:blipFill>
          <a:blip r:embed="rId3"/>
          <a:stretch/>
        </p:blipFill>
        <p:spPr>
          <a:xfrm>
            <a:off x="6443640" y="1916280"/>
            <a:ext cx="2397240" cy="35938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" descr="i_003"/>
          <p:cNvPicPr/>
          <p:nvPr/>
        </p:nvPicPr>
        <p:blipFill>
          <a:blip r:embed="rId4"/>
          <a:stretch/>
        </p:blipFill>
        <p:spPr>
          <a:xfrm>
            <a:off x="3419640" y="260280"/>
            <a:ext cx="2301840" cy="30765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5"/>
          <p:cNvSpPr/>
          <p:nvPr/>
        </p:nvSpPr>
        <p:spPr>
          <a:xfrm>
            <a:off x="613440" y="5445000"/>
            <a:ext cx="173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Жан-Вальж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6"/>
          <p:cNvSpPr/>
          <p:nvPr/>
        </p:nvSpPr>
        <p:spPr>
          <a:xfrm>
            <a:off x="4050360" y="3376440"/>
            <a:ext cx="10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Гавр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7"/>
          <p:cNvSpPr/>
          <p:nvPr/>
        </p:nvSpPr>
        <p:spPr>
          <a:xfrm>
            <a:off x="3761640" y="632952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Квазимод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8"/>
          <p:cNvSpPr/>
          <p:nvPr/>
        </p:nvSpPr>
        <p:spPr>
          <a:xfrm>
            <a:off x="7167600" y="558972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Козет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7" descr="Heinrich_Heine"/>
          <p:cNvPicPr/>
          <p:nvPr/>
        </p:nvPicPr>
        <p:blipFill>
          <a:blip r:embed="rId1"/>
          <a:stretch/>
        </p:blipFill>
        <p:spPr>
          <a:xfrm>
            <a:off x="2771640" y="333360"/>
            <a:ext cx="3848400" cy="51134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8"/>
          <p:cNvSpPr/>
          <p:nvPr/>
        </p:nvSpPr>
        <p:spPr>
          <a:xfrm>
            <a:off x="963000" y="5708520"/>
            <a:ext cx="761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Христиан Иоганн Ге́нрих Ге́йне (1797-1856) — немецкий поэт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публицист и критик еврейского происхо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2516040" y="307800"/>
            <a:ext cx="404244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ая дурная погод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ждь или снег, - не пой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жу у окна и гляжу 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сырую, ненастную ть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ей огонек одино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лывет и дрожит вдалек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 думаю, это фонар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 женщины старой в ру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лжно быть, муки или мас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й нужно достать поскор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чет она, верно, печень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ля дочери взрослой сво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 дочь ее нежится в кресл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падает ей на лиц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милые, сонные ве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лос золотое кольц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Критический реализм в литерату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1763640" y="5805360"/>
            <a:ext cx="57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Оноре де БАЛЬЗАК (1799-1850), французский писа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21"/>
          <p:cNvPicPr/>
          <p:nvPr/>
        </p:nvPicPr>
        <p:blipFill>
          <a:blip r:embed="rId1"/>
          <a:stretch/>
        </p:blipFill>
        <p:spPr>
          <a:xfrm>
            <a:off x="3276720" y="1700280"/>
            <a:ext cx="286200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179280" y="189000"/>
            <a:ext cx="87138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ывают люди, похожие на нули: им всегда необходимо, чтобы впереди их были цифр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 приходит в свое время для тех, кто умеет жда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естокость и страх пожимают руки друг друг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изнь — это чередование всяких комбинаций, их нужно изучать, следить за ними, чтобы всюду оставаться в выгодном положен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висть — один из наиболее действенных элементов ненави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ружба двух святош делает более зла, чем открытая вражда десяти негодяе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все время будешь говорить один — всегда будешь пра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юди боятся холеры, но вино гораздо опаснее е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8749"/>
          <p:cNvPicPr/>
          <p:nvPr/>
        </p:nvPicPr>
        <p:blipFill>
          <a:blip r:embed="rId1"/>
          <a:stretch/>
        </p:blipFill>
        <p:spPr>
          <a:xfrm>
            <a:off x="2843280" y="404640"/>
            <a:ext cx="3382920" cy="45691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254520" y="5583240"/>
            <a:ext cx="903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ДИККЕНС ЧАРЛЗ (1812–1870), один из самых знаменитых англоязыч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романистов, прославленный создатель ярких комических характе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и социальный крити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800000"/>
                </a:solidFill>
                <a:latin typeface="Arial"/>
              </a:rPr>
              <a:t>Основные произвед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мертные записки Пиквикского клуб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ливер Твис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авка древност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ждественская песн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локо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ерчок за очаг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нимый челове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ртин Чезлви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эвид Копперфиль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яжёлые време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есть о двух города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ьшие надеж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3924360" y="3068640"/>
            <a:ext cx="4535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Эми́ль Золя́ (1840 - 1902) — французский писате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Один из самых значительных представителей реализ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второй половины XIX 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11"/>
          <p:cNvPicPr/>
          <p:nvPr/>
        </p:nvPicPr>
        <p:blipFill>
          <a:blip r:embed="rId1"/>
          <a:stretch/>
        </p:blipFill>
        <p:spPr>
          <a:xfrm>
            <a:off x="826920" y="1844640"/>
            <a:ext cx="2649600" cy="4292640"/>
          </a:xfrm>
          <a:prstGeom prst="rect">
            <a:avLst/>
          </a:prstGeom>
          <a:ln w="0">
            <a:noFill/>
          </a:ln>
        </p:spPr>
      </p:pic>
      <p:sp>
        <p:nvSpPr>
          <p:cNvPr id="81" name="Text Box 7"/>
          <p:cNvSpPr/>
          <p:nvPr/>
        </p:nvSpPr>
        <p:spPr>
          <a:xfrm>
            <a:off x="1625400" y="476280"/>
            <a:ext cx="684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Натурализм в литерату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Rudyard_Kipling"/>
          <p:cNvPicPr/>
          <p:nvPr/>
        </p:nvPicPr>
        <p:blipFill>
          <a:blip r:embed="rId1"/>
          <a:stretch/>
        </p:blipFill>
        <p:spPr>
          <a:xfrm>
            <a:off x="250920" y="620640"/>
            <a:ext cx="2674800" cy="41371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6"/>
          <p:cNvSpPr/>
          <p:nvPr/>
        </p:nvSpPr>
        <p:spPr>
          <a:xfrm>
            <a:off x="3564000" y="1052640"/>
            <a:ext cx="49687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Джо́зеф Ре́дьярд Ки́плинг ( 1865-1936) — английский писатель, поэт и новеллист.Его лучшими произведениями считаются «Книга джунглей», «Ким» а также многочисленные стихотворения. В 1907 году Киплинг становится первым англичанином, получившим Нобелевскую премию по литературе. В этом же году он удостаивается наград от университетов Парижа, Страсбурга, Афин и Торонто; удостоен также почетных степеней Оксфордского, Кембриджского, Эдинбургского и Даремского университет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800000"/>
                </a:solidFill>
                <a:latin typeface="Arial"/>
              </a:rPr>
              <a:t>Цель урока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накомство с европейской культурой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ек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5"/>
          <p:cNvSpPr txBox="1"/>
          <p:nvPr/>
        </p:nvSpPr>
        <p:spPr>
          <a:xfrm>
            <a:off x="2050920" y="404640"/>
            <a:ext cx="510228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лан урока: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8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сновные художественные теч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омантизм и критический реализм в литератур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Романти́з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идейное и художественное направление в европейской и американской культуре конца XVIII века — первой половины XIX века. Характеризуется утверждением самоценности духовно-творческой жизни личности, изображением сильных (зачастую бунтарских) страстей и характеров, одухотворённой и целительной природо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324000" y="404640"/>
            <a:ext cx="8569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Arial"/>
              </a:rPr>
              <a:t>Крити́ческий реали́зм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-художественный метод и литературное направление, сложившееся в XIX веке. Главная его особенность — изображение человеческого характера в органической связи с социальными обстоятельствами, наряду с глубоким социальным анализом внутреннего мира челове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324000" y="1052640"/>
            <a:ext cx="8569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468360" y="476280"/>
            <a:ext cx="8136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Arial"/>
              </a:rPr>
              <a:t>Натурализм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франц. naturalisme, от лат. naturalis — природный, естественный, natura — природа),направление в литературе и искусстве, сложившееся в последней трети 19 в. в Европе и США; стремилось к объективному, точному и бесстрастному воспроизведению наблюдаемой реальност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7"/>
          <p:cNvSpPr/>
          <p:nvPr/>
        </p:nvSpPr>
        <p:spPr>
          <a:xfrm>
            <a:off x="755640" y="476280"/>
            <a:ext cx="75614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Arial"/>
              </a:rPr>
              <a:t>Декадентство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(франц. decadence, от позднелат. decadentia — упадок), общее наименование кризисных явлений буржуазной культуры конца 19 — начале 20 вв., отмеченных настроениями безнадёжности, неприятия жизни, индивидуализмом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Романтизм в литерату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1460ru"/>
          <p:cNvPicPr/>
          <p:nvPr/>
        </p:nvPicPr>
        <p:blipFill>
          <a:blip r:embed="rId1"/>
          <a:stretch/>
        </p:blipFill>
        <p:spPr>
          <a:xfrm>
            <a:off x="3132000" y="1197000"/>
            <a:ext cx="3009960" cy="40003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6"/>
          <p:cNvSpPr/>
          <p:nvPr/>
        </p:nvSpPr>
        <p:spPr>
          <a:xfrm>
            <a:off x="971640" y="5661000"/>
            <a:ext cx="69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Джордж Ноэл Гордон Байрон (1788-1824)- английский поэт - романт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4464000" y="0"/>
            <a:ext cx="4500720" cy="64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олжно бы сердце стать глухи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чувства прежние забыть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о, пусть никем я не любим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Хочу любить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ой листопад шуршит листво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се меньше листьев в вышин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дуг и камень гробово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стались мн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гонь мои сжигает дни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о одиноко он гори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ишь погребальные огн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н породи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дежда в горестной судьбе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юбовь моя - навек про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огу лишь помнить о теб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цепь не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byron_261971184_tonnel"/>
          <p:cNvPicPr/>
          <p:nvPr/>
        </p:nvPicPr>
        <p:blipFill>
          <a:blip r:embed="rId1"/>
          <a:stretch/>
        </p:blipFill>
        <p:spPr>
          <a:xfrm>
            <a:off x="395280" y="1052640"/>
            <a:ext cx="3619440" cy="4824360"/>
          </a:xfrm>
          <a:prstGeom prst="rect">
            <a:avLst/>
          </a:prstGeom>
          <a:ln w="2556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0:29:20Z</dcterms:created>
  <dc:creator>Михаил</dc:creator>
  <dc:description/>
  <dc:language>en-US</dc:language>
  <cp:lastModifiedBy>Михаил</cp:lastModifiedBy>
  <dcterms:modified xsi:type="dcterms:W3CDTF">2013-02-28T18:54:37Z</dcterms:modified>
  <cp:revision>8</cp:revision>
  <dc:subject/>
  <dc:title>Художественная культура  XIX столетия</dc:title>
</cp:coreProperties>
</file>