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8D0-C73E-45F0-899D-172D64F7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296-C0B4-440B-BAF1-0D4B2366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CE6-61C6-4ACC-874B-65C2F59D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875-7C32-4CA1-A339-7C96B322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6A6-2737-41CE-B0D5-041CF45C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519-79C9-4EE9-BFD9-35BEB80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D1F-7A2F-4B24-BB5E-0E1EA83B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3C9-AF63-4A2B-81A5-672E637F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74F-3E62-4D02-9118-279D43C2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4F5-5575-4F9A-868F-68193188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A54-C8E3-4F3D-B2D9-2D1B7266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70C-0015-4948-8497-DE530897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E826-1592-4369-B235-9259E74E6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800000"/>
                </a:solidFill>
                <a:latin typeface="Bodoni MT Condensed"/>
              </a:rPr>
              <a:t>Художественная культура  XIX столет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551664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юго Виктор Мари (1802-1885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еликий французский поэт, романист, драматург, общественный деятель, лидер французского романтизма, классик миров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Victor_Hugo"/>
          <p:cNvPicPr/>
          <p:nvPr/>
        </p:nvPicPr>
        <p:blipFill>
          <a:blip r:embed="rId1"/>
          <a:stretch/>
        </p:blipFill>
        <p:spPr>
          <a:xfrm>
            <a:off x="2843280" y="333360"/>
            <a:ext cx="35971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173473"/>
          <p:cNvPicPr/>
          <p:nvPr/>
        </p:nvPicPr>
        <p:blipFill>
          <a:blip r:embed="rId1"/>
          <a:stretch/>
        </p:blipFill>
        <p:spPr>
          <a:xfrm>
            <a:off x="250920" y="1773360"/>
            <a:ext cx="2687400" cy="357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garou_news"/>
          <p:cNvPicPr/>
          <p:nvPr/>
        </p:nvPicPr>
        <p:blipFill>
          <a:blip r:embed="rId2"/>
          <a:stretch/>
        </p:blipFill>
        <p:spPr>
          <a:xfrm>
            <a:off x="3276720" y="407664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fmimg8032209685943483295"/>
          <p:cNvPicPr/>
          <p:nvPr/>
        </p:nvPicPr>
        <p:blipFill>
          <a:blip r:embed="rId3"/>
          <a:stretch/>
        </p:blipFill>
        <p:spPr>
          <a:xfrm>
            <a:off x="6443640" y="1916280"/>
            <a:ext cx="2397240" cy="359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i_003"/>
          <p:cNvPicPr/>
          <p:nvPr/>
        </p:nvPicPr>
        <p:blipFill>
          <a:blip r:embed="rId4"/>
          <a:stretch/>
        </p:blipFill>
        <p:spPr>
          <a:xfrm>
            <a:off x="3419640" y="260280"/>
            <a:ext cx="2301840" cy="307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613440" y="544500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Жан-Вальж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050360" y="33764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авр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3761640" y="63295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вазимо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167600" y="558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зе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Heinrich_Heine"/>
          <p:cNvPicPr/>
          <p:nvPr/>
        </p:nvPicPr>
        <p:blipFill>
          <a:blip r:embed="rId1"/>
          <a:stretch/>
        </p:blipFill>
        <p:spPr>
          <a:xfrm>
            <a:off x="2771640" y="333360"/>
            <a:ext cx="3848400" cy="5113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963000" y="5708520"/>
            <a:ext cx="76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ристиан Иоганн Ге́нрих Ге́йне (1797-1856) — немецкий поэ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публицист и критик еврейск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516040" y="307800"/>
            <a:ext cx="4042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дурная пого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ждь или снег, - не пой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жу у окна и гляжу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ырую, ненастную ть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й огонек одино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ывет и дрожит вдале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думаю, это фон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женщины старой в ру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но быть, муки или ма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й нужно достать поско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ет она, верно, печ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дочери взрослой сво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дочь ее нежится в кре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адает ей на лиц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илые, сонные в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с золотое коль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ритический реализм в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763640" y="5805360"/>
            <a:ext cx="57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норе де БАЛЬЗАК (1799-1850), французский 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21"/>
          <p:cNvPicPr/>
          <p:nvPr/>
        </p:nvPicPr>
        <p:blipFill>
          <a:blip r:embed="rId1"/>
          <a:stretch/>
        </p:blipFill>
        <p:spPr>
          <a:xfrm>
            <a:off x="3276720" y="1700280"/>
            <a:ext cx="2862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79280" y="189000"/>
            <a:ext cx="8713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ают люди, похожие на нули: им всегда необходимо, чтобы впереди их были циф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иходит в свое время для тех, кто умеет жд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окость и страх пожимают руки друг дру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ь — это чередование всяких комбинаций, их нужно изучать, следить за ними, чтобы всюду оставаться в выгодном поло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ть — один из наиболее действенных элементов ненави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ба двух святош делает более зла, чем открытая вражда десяти негодя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се время будешь говорить один — всегда будешь пра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и боятся холеры, но вино гораздо опаснее 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8749"/>
          <p:cNvPicPr/>
          <p:nvPr/>
        </p:nvPicPr>
        <p:blipFill>
          <a:blip r:embed="rId1"/>
          <a:stretch/>
        </p:blipFill>
        <p:spPr>
          <a:xfrm>
            <a:off x="2843280" y="404640"/>
            <a:ext cx="3382920" cy="4569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54520" y="5583240"/>
            <a:ext cx="90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ДИККЕНС ЧАРЛЗ (1812–1870), один из самых знаменитых англоязы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оманистов, прославленный создатель ярких комических харак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и социальный крит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00"/>
                </a:solidFill>
                <a:latin typeface="Arial"/>
              </a:rPr>
              <a:t>Основные произ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ертные записки Пиквикского клу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вер Тв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древ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ественская пес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чок за очаг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нимый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ин Чезлв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вид Копперфи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яжёлые вре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сть о двух город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ие наде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924360" y="306864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Эми́ль Золя́ (1840 - 1902) — французский пис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дин из самых значительных представителей ре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торой половины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11"/>
          <p:cNvPicPr/>
          <p:nvPr/>
        </p:nvPicPr>
        <p:blipFill>
          <a:blip r:embed="rId1"/>
          <a:stretch/>
        </p:blipFill>
        <p:spPr>
          <a:xfrm>
            <a:off x="826920" y="1844640"/>
            <a:ext cx="2649600" cy="4292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1625400" y="476280"/>
            <a:ext cx="68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турализм в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Rudyard_Kipling"/>
          <p:cNvPicPr/>
          <p:nvPr/>
        </p:nvPicPr>
        <p:blipFill>
          <a:blip r:embed="rId1"/>
          <a:stretch/>
        </p:blipFill>
        <p:spPr>
          <a:xfrm>
            <a:off x="250920" y="620640"/>
            <a:ext cx="2674800" cy="4137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564000" y="1052640"/>
            <a:ext cx="496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Джо́зеф Ре́дьярд Ки́плинг ( 1865-1936) — английский писатель, поэт и новеллист.Его лучшими произведениями считаются «Книга джунглей», «Ким» а также многочисленные стихотворения. В 1907 году Киплинг становится первым англичанином, получившим Нобелевскую премию по литературе. В этом же году он удостаивается наград от университетов Парижа, Страсбурга, Афин и Торонто; удостоен также почетных степеней Оксфордского, Кембриджского, Эдинбургского и Даремского университе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европейской культурой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2050920" y="404640"/>
            <a:ext cx="5102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урок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художественные те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мантизм и критический реализм в литерату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Романти́з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идейное и художественное направление в европейской и американской культуре конца XVIII века — первой половины XIX века. Характеризуется утверждением самоценности духовно-творческой жизни личности, изображением сильных (зачастую бунтарских) страстей и характеров, одухотворённой и целительной приро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24000" y="40464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Крити́ческий реали́з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художественный метод и литературное направление, сложившееся в XIX веке. Главная его особенность — изображение человеческого характера в органической связи с социальными обстоятельствами, наряду с глубоким социальным анализом внутреннего мир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1052640"/>
            <a:ext cx="856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68360" y="47628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Натурализ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франц. naturalisme, от лат. naturalis — природный, естественный, natura — природа),направление в литературе и искусстве, сложившееся в последней трети 19 в. в Европе и США; стремилось к объективному, точному и бесстрастному воспроизведению наблюдаемой реа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755640" y="476280"/>
            <a:ext cx="7561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Декадент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франц. decadence, от позднелат. decadentia — упадок), общее наименование кризисных явлений буржуазной культуры конца 19 — начале 20 вв., отмеченных настроениями безнадёжности, неприятия жизни, индивидуализмом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омантизм в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1460ru"/>
          <p:cNvPicPr/>
          <p:nvPr/>
        </p:nvPicPr>
        <p:blipFill>
          <a:blip r:embed="rId1"/>
          <a:stretch/>
        </p:blipFill>
        <p:spPr>
          <a:xfrm>
            <a:off x="3132000" y="1197000"/>
            <a:ext cx="3009960" cy="4000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971640" y="5661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Джордж Ноэл Гордон Байрон (1788-1824)- английский поэт - роман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464000" y="0"/>
            <a:ext cx="4500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жно бы сердце стать глух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чувства прежние забы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, пусть никем я не люби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у люби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й листопад шуршит листв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меньше листьев в вы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дуг и камень гробов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тались м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онь мои сжигает дн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одиноко он гор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шь погребальные ог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ор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дежда в горестной судьб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юбовь моя - навек пр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гу лишь помнить о т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цепь не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byron_261971184_tonnel"/>
          <p:cNvPicPr/>
          <p:nvPr/>
        </p:nvPicPr>
        <p:blipFill>
          <a:blip r:embed="rId1"/>
          <a:stretch/>
        </p:blipFill>
        <p:spPr>
          <a:xfrm>
            <a:off x="395280" y="1052640"/>
            <a:ext cx="3619440" cy="48243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0:29:20Z</dcterms:created>
  <dc:creator>Михаил</dc:creator>
  <dc:description/>
  <dc:language>en-US</dc:language>
  <cp:lastModifiedBy>Михаил</cp:lastModifiedBy>
  <dcterms:modified xsi:type="dcterms:W3CDTF">2013-02-28T18:54:37Z</dcterms:modified>
  <cp:revision>8</cp:revision>
  <dc:subject/>
  <dc:title>Художественная культура  XIX столетия</dc:title>
</cp:coreProperties>
</file>