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7106-4FFA-46A6-8927-D0346735D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1A68-1ED2-4D24-A2BB-053A0F7777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967-CDE4-4A88-9B0A-F09A14A5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59E-9452-4A52-80CF-6359C0BF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10D-0BB6-4662-9021-2D63A87A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A63-5000-4380-BAF8-1EF557B4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AEC4-6894-4AA2-8BC2-31D20D12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620C-C8A9-44EA-A7D6-7C094B55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0136-9DAF-4AE3-870B-3EAE87D2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A79A-8F89-4643-A1CB-BEC061C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4D1A-FD7B-45B0-A716-71493F8C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F540-09A3-4143-9F95-41C9E367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5D31-24E1-4357-936E-984E6E1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D8F-6C75-48E1-B201-5FF2EEDB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7D02-325A-406C-B958-0936AFE0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0413-1E69-42BE-91CE-EB7C03A2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1CD6-4D87-480B-A0EE-EFC52117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A134-27F6-4A23-99EB-C26C70E2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49BC-DD87-485E-A72F-9D42A1D3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1FD-9CCA-4F69-AD67-87B0BBDA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C23-6A1B-4F6C-8345-DDDF3611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5D0-B5A9-42AF-88A5-D272D9E2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9E4-7470-4A82-81B6-8C804D91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7C2-CE21-428D-BE06-E5739B3F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879-ABD8-4310-8823-3E2FFDE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562-B4F0-4712-93D4-91DB6303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2108-DCB2-443E-8421-71C3298FA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5A45-E5CD-46EA-B32B-06FE2756D5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резентация к блоку уроков по теме «Французское искусство. Импрессионисты» 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57184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а учитель французского языка МОУ «Средняя школа №16» г.Кимры Тверской обла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шутина Т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85680" y="28440"/>
            <a:ext cx="3071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Picture 4" descr="Альфред Сислей Сена у Буживаля весной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424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826920" y="522936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рессионисты впервые создали многогранную картину повседневной жизни современного города, запечатлели своеобразие его пейзажа и облик населяющих его людей, их быта, труда и развлеч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72080" y="1318320"/>
            <a:ext cx="3114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0_a375_7fd74350_M[1]"/>
          <p:cNvPicPr/>
          <p:nvPr/>
        </p:nvPicPr>
        <p:blipFill>
          <a:blip r:embed="rId1"/>
          <a:stretch/>
        </p:blipFill>
        <p:spPr>
          <a:xfrm>
            <a:off x="4067280" y="1285920"/>
            <a:ext cx="4933800" cy="4857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611280" y="234936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вание «импрессионизм» возникло после выставки 1874 года в Париже, на которой экспонировалась картина Клода Моне «Впечатление. Восход солнца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дробнее о главных представителях импрессионизм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71840" y="2571840"/>
            <a:ext cx="300024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oreshnikow_nogotki[1]"/>
          <p:cNvPicPr/>
          <p:nvPr/>
        </p:nvPicPr>
        <p:blipFill>
          <a:blip r:embed="rId1"/>
          <a:stretch/>
        </p:blipFill>
        <p:spPr>
          <a:xfrm>
            <a:off x="1547640" y="1628640"/>
            <a:ext cx="5472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85560" y="-548280"/>
            <a:ext cx="12142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Клод Моне Утес Уелк"/>
          <p:cNvPicPr/>
          <p:nvPr/>
        </p:nvPicPr>
        <p:blipFill>
          <a:blip r:embed="rId1"/>
          <a:stretch/>
        </p:blipFill>
        <p:spPr>
          <a:xfrm>
            <a:off x="539640" y="214200"/>
            <a:ext cx="3397320" cy="307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Клод Моне Закат"/>
          <p:cNvPicPr/>
          <p:nvPr/>
        </p:nvPicPr>
        <p:blipFill>
          <a:blip r:embed="rId2"/>
          <a:stretch/>
        </p:blipFill>
        <p:spPr>
          <a:xfrm>
            <a:off x="285840" y="3573360"/>
            <a:ext cx="3816360" cy="3284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4356000" y="476280"/>
            <a:ext cx="446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Моне Клод Оскар (1840-1926), французский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ец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Учился в частных студиях в Париже, изучал японскую гравюру на дерев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Моне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ремился передавать средствами пленэрной живописи изменчивость световоздушной среды, красочное богатство мира, сохраняя при этом свежесть первого зрительного впечатления от природ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. В своих пейзажных композиция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н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воссоздавал вибрацию света и воздуха с помощью мелких раздельных мазков чистого цвета и дополнительных тонов основного спектра, рассчитывая на их оптическое совмещение в процессе зрительного восприят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ремясь запечатлеть многообразные переходные состояния природы в разное время дня и при разной погоде, Моне создал в 1890-е годы серии картин-вариаций на один сюжетный мотив (серия “Руанские соборы”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4" name="Picture 6" descr="Клод Моне Паруса"/>
          <p:cNvPicPr/>
          <p:nvPr/>
        </p:nvPicPr>
        <p:blipFill>
          <a:blip r:embed="rId1"/>
          <a:stretch/>
        </p:blipFill>
        <p:spPr>
          <a:xfrm>
            <a:off x="1692360" y="189000"/>
            <a:ext cx="5905440" cy="4680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2195640" y="5373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.Моне «Паруса в Аржантейле» 18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00480" y="349920"/>
            <a:ext cx="2685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Picture 4" descr="Эдуард Мане В кабачке папаши Латюиля"/>
          <p:cNvPicPr/>
          <p:nvPr/>
        </p:nvPicPr>
        <p:blipFill>
          <a:blip r:embed="rId1"/>
          <a:stretch/>
        </p:blipFill>
        <p:spPr>
          <a:xfrm>
            <a:off x="4859280" y="115920"/>
            <a:ext cx="4105440" cy="374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35619920_YEduar_Mane_Portret_Bertuy_Morizo_s_buketom_fialok[1]"/>
          <p:cNvPicPr/>
          <p:nvPr/>
        </p:nvPicPr>
        <p:blipFill>
          <a:blip r:embed="rId2"/>
          <a:stretch/>
        </p:blipFill>
        <p:spPr>
          <a:xfrm>
            <a:off x="250920" y="115920"/>
            <a:ext cx="3311280" cy="4149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4140360" y="3789360"/>
            <a:ext cx="47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Мане Эдуард (1832-1883), французский живописец. Учился в парижской Школе изящных искусст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39640" y="465300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Используя и переосмысляя сюжеты и мотивы живописи старых мастеров, он стремился наполнить их актуальным содержанием, полемически, иногда эпатирующим образом внести в известные классические композиции изображение современного челове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но его проникновенное внимание к современности проявлялось прежде всего в сценах, словно бы выхваченных из будничного течения жизни, полных лирической одухотворенности и внутренней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чим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eec94"/>
                </a:solidFill>
                <a:latin typeface="Times New Roman"/>
              </a:rPr>
              <a:t>Своим творчеством Мане предвосхитил возникновение, а затем стал и одним из основоположников импрессионизма. В конце 1860-х годов он сблизился с Э.Дега, К.Моне, О.Ренуаром, перешел от глухих и плотных тонов, напряженного колорита с преобладанием темных цветов к светлой и свободной пленэрной живописи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2" name="Picture 4" descr="Эдуард Мане"/>
          <p:cNvPicPr/>
          <p:nvPr/>
        </p:nvPicPr>
        <p:blipFill>
          <a:blip r:embed="rId1"/>
          <a:stretch/>
        </p:blipFill>
        <p:spPr>
          <a:xfrm>
            <a:off x="250920" y="4508640"/>
            <a:ext cx="2160360" cy="1942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Эдуард Мане"/>
          <p:cNvPicPr/>
          <p:nvPr/>
        </p:nvPicPr>
        <p:blipFill>
          <a:blip r:embed="rId2"/>
          <a:stretch/>
        </p:blipFill>
        <p:spPr>
          <a:xfrm>
            <a:off x="3564000" y="3284640"/>
            <a:ext cx="1655640" cy="2303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Эдуард Мане"/>
          <p:cNvPicPr/>
          <p:nvPr/>
        </p:nvPicPr>
        <p:blipFill>
          <a:blip r:embed="rId3"/>
          <a:stretch/>
        </p:blipFill>
        <p:spPr>
          <a:xfrm>
            <a:off x="6443640" y="4508640"/>
            <a:ext cx="2365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07552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Многим произведениям Мане свойственны импрессионистические живописная свобода и фрагментарность композиции, светонасыщенная вибрирующая красочная гамма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В то же время он сохраняет ясность рисунка, серые и черные тона в колорите, отдает предпочтение не пейзажу, а бытовому сюжету с выраженной социально-психологической подосновой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Творчество Мане обновило традиции французской живописи XIX века и во многом определило дальнейшее развитие мирового изобразительного искусств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6" name="Picture 4" descr="Эдуард Мане"/>
          <p:cNvPicPr/>
          <p:nvPr/>
        </p:nvPicPr>
        <p:blipFill>
          <a:blip r:embed="rId1"/>
          <a:stretch/>
        </p:blipFill>
        <p:spPr>
          <a:xfrm>
            <a:off x="3492360" y="3141720"/>
            <a:ext cx="201636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Эдуард Мане"/>
          <p:cNvPicPr/>
          <p:nvPr/>
        </p:nvPicPr>
        <p:blipFill>
          <a:blip r:embed="rId2"/>
          <a:stretch/>
        </p:blipFill>
        <p:spPr>
          <a:xfrm>
            <a:off x="6300720" y="3645000"/>
            <a:ext cx="273708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Эдуард Мане"/>
          <p:cNvPicPr/>
          <p:nvPr/>
        </p:nvPicPr>
        <p:blipFill>
          <a:blip r:embed="rId3"/>
          <a:stretch/>
        </p:blipFill>
        <p:spPr>
          <a:xfrm>
            <a:off x="324000" y="4005360"/>
            <a:ext cx="194436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85560" y="563400"/>
            <a:ext cx="12142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211640" y="333360"/>
            <a:ext cx="4681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уар Пьер Огюст (1841- 1919). Учился в Школе изящных искусств. Портреты Ренуара не отличаются сложным внутренним психологизмом, присущим его предшественникам, но особое очарование придает им ощущение сиюминутности происходящего. Беззаботной жизнерадостностью и восхитительной легкостью веет от женских и детских портретов Ренуа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6" descr="renoir02[1]"/>
          <p:cNvPicPr/>
          <p:nvPr/>
        </p:nvPicPr>
        <p:blipFill>
          <a:blip r:embed="rId1"/>
          <a:stretch/>
        </p:blipFill>
        <p:spPr>
          <a:xfrm>
            <a:off x="179280" y="428760"/>
            <a:ext cx="3683160" cy="3576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renoir06[1]"/>
          <p:cNvPicPr/>
          <p:nvPr/>
        </p:nvPicPr>
        <p:blipFill>
          <a:blip r:embed="rId2"/>
          <a:stretch/>
        </p:blipFill>
        <p:spPr>
          <a:xfrm>
            <a:off x="3059280" y="4221000"/>
            <a:ext cx="56880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9120" y="529200"/>
            <a:ext cx="3757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4" descr="renoir01[1]"/>
          <p:cNvPicPr/>
          <p:nvPr/>
        </p:nvPicPr>
        <p:blipFill>
          <a:blip r:embed="rId1"/>
          <a:stretch/>
        </p:blipFill>
        <p:spPr>
          <a:xfrm>
            <a:off x="4140360" y="404640"/>
            <a:ext cx="4714560" cy="6075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468360" y="1413000"/>
            <a:ext cx="3382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грудный портрет актрисы Самари завораживает жизнерадостностью колорита, искристой игрой, создаваемой мазками розового цвета. Холодное мерцание голубовато-зеленого платья изысканно сочетается с рыжевато-каштановым цветом волос, внимательно, с чуть заметной лукавинкой смотрят на зрителя сияющие темно-синие глаза молодой женщ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мпрессион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такое импрессиониз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ые темы и направления импрессионизма во французской живопи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оположники и главные представители этого теч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вные проблемы и идеи импрессиониз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5880" y="729720"/>
            <a:ext cx="1714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9" name="Picture 4" descr="Пабло Пикассо Девочка на шаре"/>
          <p:cNvPicPr/>
          <p:nvPr/>
        </p:nvPicPr>
        <p:blipFill>
          <a:blip r:embed="rId1"/>
          <a:stretch/>
        </p:blipFill>
        <p:spPr>
          <a:xfrm>
            <a:off x="324000" y="404640"/>
            <a:ext cx="2952720" cy="2664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Пабло Пикассо Женщины"/>
          <p:cNvPicPr/>
          <p:nvPr/>
        </p:nvPicPr>
        <p:blipFill>
          <a:blip r:embed="rId2"/>
          <a:stretch/>
        </p:blipFill>
        <p:spPr>
          <a:xfrm>
            <a:off x="5292720" y="3429000"/>
            <a:ext cx="3851280" cy="342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3286080" y="285840"/>
            <a:ext cx="56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абло Руис Пикассо - испанский художник и скульптор. Пикассо - изобретатель новых форм живописи, новатор стилей и методов, и один из наиболее плодовитых художников в истор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15 он блестяще сдал приемный экзамен в Школу Изящных Искусств в Барсело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тили французских художников- импрессионистов, особенно оказали сильное влияние на формирование творческой манеры Пикассо в этот период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Г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лубой перио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 Пикассо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назван так, поскольку различные оттенки голубого и синего доминировали в его работах в течение последующих нескольких ле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79280" y="3860640"/>
            <a:ext cx="48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тображая человеческие страдания, Пикассо в этот период рисовал слепых, нищих, алкоголиков и проституто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Как будто луч надежды проникает в души его героев вместе с появлением в красочной гамме его картин более светлы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и прозрачных цветов: к осветленным оттенкам синего цвета присоединяются розовые, пепельно-розовые, золотисто-розовые тон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28440" y="578160"/>
            <a:ext cx="2143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4" name="Picture 4" descr="Пабло Пикассо Портрет Амбруаза Валлора"/>
          <p:cNvPicPr/>
          <p:nvPr/>
        </p:nvPicPr>
        <p:blipFill>
          <a:blip r:embed="rId1"/>
          <a:stretch/>
        </p:blipFill>
        <p:spPr>
          <a:xfrm>
            <a:off x="324000" y="404640"/>
            <a:ext cx="3456000" cy="3240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Пабло Пикассо"/>
          <p:cNvPicPr/>
          <p:nvPr/>
        </p:nvPicPr>
        <p:blipFill>
          <a:blip r:embed="rId2"/>
          <a:stretch/>
        </p:blipFill>
        <p:spPr>
          <a:xfrm>
            <a:off x="4284720" y="549360"/>
            <a:ext cx="2303280" cy="201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Пабло Пикассо"/>
          <p:cNvPicPr/>
          <p:nvPr/>
        </p:nvPicPr>
        <p:blipFill>
          <a:blip r:embed="rId3"/>
          <a:stretch/>
        </p:blipFill>
        <p:spPr>
          <a:xfrm>
            <a:off x="6912000" y="256536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11280" y="4653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осле периода сезанниз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н уделяет особое внимание превращению форм в геометрические блоки, рассекает их на плоскости и грани, продолжающиеся в пространстве, которое сам он считает твердым телом, неизбежно ограниченным плоскостью карти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ерспектива исчезает, палитра тяготеет к монохромности, картины Пикассо зачастую сводятся к непонятным ребуса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2828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9" name="Picture 4" descr="Пабло Пикассо Поль в костюме Арлекина"/>
          <p:cNvPicPr/>
          <p:nvPr/>
        </p:nvPicPr>
        <p:blipFill>
          <a:blip r:embed="rId1"/>
          <a:stretch/>
        </p:blipFill>
        <p:spPr>
          <a:xfrm>
            <a:off x="428760" y="214200"/>
            <a:ext cx="4032000" cy="4030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Пабло Пикассо"/>
          <p:cNvPicPr/>
          <p:nvPr/>
        </p:nvPicPr>
        <p:blipFill>
          <a:blip r:embed="rId2"/>
          <a:stretch/>
        </p:blipFill>
        <p:spPr>
          <a:xfrm>
            <a:off x="5472000" y="3500280"/>
            <a:ext cx="3672000" cy="3168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755640" y="450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.Пикассо «Поль в костюме Арлекина» 192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58000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 Пикассо «Мальчик с конем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71800" y="541440"/>
            <a:ext cx="14288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4" name="Picture 4" descr="Альфред Сислей Мост в Морэ ранним утром"/>
          <p:cNvPicPr/>
          <p:nvPr/>
        </p:nvPicPr>
        <p:blipFill>
          <a:blip r:embed="rId1"/>
          <a:stretch/>
        </p:blipFill>
        <p:spPr>
          <a:xfrm>
            <a:off x="5435640" y="260280"/>
            <a:ext cx="3513240" cy="3097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11280" y="47628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Сисле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Альфред (1839-1899), французский живописец. По происхождению англичани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Один из ведущих мастеров импрессионизма, Сислей писал непритязательные по мотивам пейзажи окрестностей Парижа, отмеченные тонким лиризмом и выдержанные в свежей и сдержанной световой гамм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6" descr="Альфред Сислей Берег Сены у Буживаля"/>
          <p:cNvPicPr/>
          <p:nvPr/>
        </p:nvPicPr>
        <p:blipFill>
          <a:blip r:embed="rId2"/>
          <a:stretch/>
        </p:blipFill>
        <p:spPr>
          <a:xfrm>
            <a:off x="539640" y="3068640"/>
            <a:ext cx="3961080" cy="3313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4788000" y="3716280"/>
            <a:ext cx="41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Пейзажи Сислея, передающие подлинную атмосферу Иль-де-Франса, хранят в себе особую прозрачность и мягкость природных явлений всех времен года. Его чарующие изображения природы с легким оттенком грусти завораживают удивительной передачей настроения в данный момент времен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31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Сезанн Поль (1839-1906), французский живописец. Учился в частной академии Сюиса в Париже</a:t>
            </a: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Принципиально расходясь с методом импрессионизма, Сезанн интересовался не динамикой световоздушной среды и изменчивостью цвета в атмосфере, а устойчивыми закономерностями цветовых сочетаний и форм, материальностью предметного и природного миров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fr-FR" sz="2000" spc="-1" strike="noStrike">
                <a:solidFill>
                  <a:srgbClr val="feec94"/>
                </a:solidFill>
                <a:latin typeface="Times New Roman"/>
              </a:rPr>
              <a:t>Оперируя преимущественно градациями трех основных цветов (зеленого, голубого и желтого), то тонкими и прозрачными, то резко контрастными, нанесенными плотными корпусными мазками, он обозначал с их помощью пространственные планы и степень освещенности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9" name="Picture 4" descr="Поль Сезанн Натюрморт с драпировкой"/>
          <p:cNvPicPr/>
          <p:nvPr/>
        </p:nvPicPr>
        <p:blipFill>
          <a:blip r:embed="rId1"/>
          <a:stretch/>
        </p:blipFill>
        <p:spPr>
          <a:xfrm>
            <a:off x="179280" y="3500280"/>
            <a:ext cx="3672000" cy="3357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Поль Сезанн Дома в Провансе"/>
          <p:cNvPicPr/>
          <p:nvPr/>
        </p:nvPicPr>
        <p:blipFill>
          <a:blip r:embed="rId2"/>
          <a:stretch/>
        </p:blipFill>
        <p:spPr>
          <a:xfrm>
            <a:off x="5003640" y="3573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4" descr="0ber.jpg"/>
          <p:cNvPicPr/>
          <p:nvPr/>
        </p:nvPicPr>
        <p:blipFill>
          <a:blip r:embed="rId1"/>
          <a:stretch/>
        </p:blipFill>
        <p:spPr>
          <a:xfrm>
            <a:off x="2857680" y="214200"/>
            <a:ext cx="2786040" cy="31496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6"/>
          <p:cNvSpPr/>
          <p:nvPr/>
        </p:nvSpPr>
        <p:spPr>
          <a:xfrm>
            <a:off x="2414520" y="335772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ль Бернар (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Émile Bernard). 1868-19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142920" y="385776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05 году художник работает над созданием журнала «Реновасьон эстетик», в это же время представляет свою картину «Моисей и женщины Мадиамские» в Общенациональном Салоне. Работы, созданные в последние годы жизни художника, говорят об отступлении от принципов символизма и возвращении к традиционной академической манере. В это время Бернар нередко копирует работы художников эпохи Возрожд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3" descr="11ber_b.jpg"/>
          <p:cNvPicPr/>
          <p:nvPr/>
        </p:nvPicPr>
        <p:blipFill>
          <a:blip r:embed="rId1"/>
          <a:stretch/>
        </p:blipFill>
        <p:spPr>
          <a:xfrm>
            <a:off x="0" y="0"/>
            <a:ext cx="4071960" cy="3643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15ber_b.jpg"/>
          <p:cNvPicPr/>
          <p:nvPr/>
        </p:nvPicPr>
        <p:blipFill>
          <a:blip r:embed="rId2"/>
          <a:stretch/>
        </p:blipFill>
        <p:spPr>
          <a:xfrm>
            <a:off x="5286240" y="3691080"/>
            <a:ext cx="3857760" cy="316692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5"/>
          <p:cNvSpPr/>
          <p:nvPr/>
        </p:nvSpPr>
        <p:spPr>
          <a:xfrm>
            <a:off x="4500720" y="150012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ль Бернар. «Сбор урожая». 1891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Прямоугольник 6"/>
          <p:cNvSpPr/>
          <p:nvPr/>
        </p:nvSpPr>
        <p:spPr>
          <a:xfrm>
            <a:off x="214200" y="400068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ль Бернар. «Улица Роз в Понт-Авене». 1892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прессионизм - н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аправление в искусств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представители которого стремились наиболее естественно и непредвзято запечатлеть реальный мир в его подвижности и изменчивости, передать свои мимолетные впечатл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Они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внесли в искусство свежесть и непосредственность восприятия жизни, изображение мгновенных, как бы случайных движений и ситуаций, кажущуюся неуравновешенность, фрагментарность композиции, неожиданные точки зрения, ракурсы, срезы фигур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жники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выработали последовательную систему пленэра; работая на открытом воздухе, они создавали ощущение сверкающего солнечного света, богатства красок природы, растворения объемных форм в вибрации света и воздух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4600" y="285840"/>
            <a:ext cx="3429000" cy="58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292720" y="333360"/>
            <a:ext cx="3851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рессионизм (от франц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pression 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печатлени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, направление в живописи, зародившееся во Франции в 1860-х гг. и во многом определившее развитие искусства 19 века. Центральными фигурами этого направления был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езанн, Дег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не, Моне, Писсарро, Ренуар 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ле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и вклад каждого из них в его развитие уникален. Импрессионисты выступали против условностей классицизма, романтизма и академизма, утверждали красоту повседневной действительности, простых, демократических мотивов, добивались живой достоверности изображения, пытались уловить «впечатление» от того, что глаз видит в конкретный мом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7" descr="rose[1]"/>
          <p:cNvPicPr/>
          <p:nvPr/>
        </p:nvPicPr>
        <p:blipFill>
          <a:blip r:embed="rId1"/>
          <a:stretch/>
        </p:blipFill>
        <p:spPr>
          <a:xfrm>
            <a:off x="179280" y="260280"/>
            <a:ext cx="4680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28800" y="734760"/>
            <a:ext cx="3257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395222[1]"/>
          <p:cNvPicPr/>
          <p:nvPr/>
        </p:nvPicPr>
        <p:blipFill>
          <a:blip r:embed="rId1"/>
          <a:stretch/>
        </p:blipFill>
        <p:spPr>
          <a:xfrm>
            <a:off x="4643280" y="357120"/>
            <a:ext cx="4500720" cy="58546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395280" y="2421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типичной для импрессионистов темой является пейзаж, однако они в своем творчестве затрагивали и многие другие 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908280"/>
            <a:ext cx="1971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4" descr="i125073_1"/>
          <p:cNvPicPr/>
          <p:nvPr/>
        </p:nvPicPr>
        <p:blipFill>
          <a:blip r:embed="rId1"/>
          <a:stretch/>
        </p:blipFill>
        <p:spPr>
          <a:xfrm>
            <a:off x="250920" y="189000"/>
            <a:ext cx="3384360" cy="4319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0_22f4e_ac52d386_XL"/>
          <p:cNvPicPr/>
          <p:nvPr/>
        </p:nvPicPr>
        <p:blipFill>
          <a:blip r:embed="rId2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4211640" y="765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уар, например, изображал очаровательных женщин и дет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900000" y="5373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Дега – скачки, балерин и праче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56800" y="2928600"/>
            <a:ext cx="78296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та Моризо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the Morisot). 1841-18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Рисунок 4" descr="0mor.jpg"/>
          <p:cNvPicPr/>
          <p:nvPr/>
        </p:nvPicPr>
        <p:blipFill>
          <a:blip r:embed="rId1"/>
          <a:stretch/>
        </p:blipFill>
        <p:spPr>
          <a:xfrm>
            <a:off x="2428920" y="93600"/>
            <a:ext cx="3643200" cy="26924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857160" y="42148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авные отличительные черты полотен Моризо – всеобъемлющая гармония и горячая любовь к жизни. Ее картины отличаются светлыми, жизнерадостными тонами и простотой компози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4" descr="6mor_b.jpg"/>
          <p:cNvPicPr/>
          <p:nvPr/>
        </p:nvPicPr>
        <p:blipFill>
          <a:blip r:embed="rId1"/>
          <a:stretch/>
        </p:blipFill>
        <p:spPr>
          <a:xfrm>
            <a:off x="0" y="0"/>
            <a:ext cx="4143240" cy="28576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2mor_b.jpg"/>
          <p:cNvPicPr/>
          <p:nvPr/>
        </p:nvPicPr>
        <p:blipFill>
          <a:blip r:embed="rId2"/>
          <a:stretch/>
        </p:blipFill>
        <p:spPr>
          <a:xfrm>
            <a:off x="0" y="3429000"/>
            <a:ext cx="4143240" cy="26892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6"/>
          <p:cNvSpPr/>
          <p:nvPr/>
        </p:nvSpPr>
        <p:spPr>
          <a:xfrm>
            <a:off x="0" y="30002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та Моризо. «На лугу». 187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Рисунок 8" descr="5mor_b.jpg"/>
          <p:cNvPicPr/>
          <p:nvPr/>
        </p:nvPicPr>
        <p:blipFill>
          <a:blip r:embed="rId3"/>
          <a:stretch/>
        </p:blipFill>
        <p:spPr>
          <a:xfrm>
            <a:off x="5072040" y="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9" descr="16mor_b.jpg"/>
          <p:cNvPicPr/>
          <p:nvPr/>
        </p:nvPicPr>
        <p:blipFill>
          <a:blip r:embed="rId4"/>
          <a:stretch/>
        </p:blipFill>
        <p:spPr>
          <a:xfrm>
            <a:off x="5000760" y="3429000"/>
            <a:ext cx="4143240" cy="264312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1"/>
          <p:cNvSpPr/>
          <p:nvPr/>
        </p:nvSpPr>
        <p:spPr>
          <a:xfrm>
            <a:off x="5143680" y="28576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та Моризо. «У колыбели». 1872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рямоугольник 12"/>
          <p:cNvSpPr/>
          <p:nvPr/>
        </p:nvSpPr>
        <p:spPr>
          <a:xfrm>
            <a:off x="360000" y="62866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та Моризо. «Сестры». 1869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Прямоугольник 13"/>
          <p:cNvSpPr/>
          <p:nvPr/>
        </p:nvSpPr>
        <p:spPr>
          <a:xfrm flipV="1" rot="10800000">
            <a:off x="5118120" y="5999760"/>
            <a:ext cx="35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та Моризо. «Рыжая девушка на веранде». 188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В импрессионистических пейзажах, создаваемых на открытом воздухе, простой, будничный мотив часто преображается всепроникающим подвижным светом, вносящим в картину ощущение праздничности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4" descr="Клод Моне После ланча"/>
          <p:cNvPicPr/>
          <p:nvPr/>
        </p:nvPicPr>
        <p:blipFill>
          <a:blip r:embed="rId1"/>
          <a:stretch/>
        </p:blipFill>
        <p:spPr>
          <a:xfrm>
            <a:off x="1403280" y="1700280"/>
            <a:ext cx="590544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28800" y="671400"/>
            <a:ext cx="3257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Picture 4" descr="Пабло Пикассо"/>
          <p:cNvPicPr/>
          <p:nvPr/>
        </p:nvPicPr>
        <p:blipFill>
          <a:blip r:embed="rId1"/>
          <a:stretch/>
        </p:blipFill>
        <p:spPr>
          <a:xfrm>
            <a:off x="4932360" y="549360"/>
            <a:ext cx="3787920" cy="345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Пабло Пикассо"/>
          <p:cNvPicPr/>
          <p:nvPr/>
        </p:nvPicPr>
        <p:blipFill>
          <a:blip r:embed="rId2"/>
          <a:stretch/>
        </p:blipFill>
        <p:spPr>
          <a:xfrm>
            <a:off x="324000" y="4581360"/>
            <a:ext cx="4968720" cy="2016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95280" y="177336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отдельных приемах импрессионистского построения композиции и пространства ощутимо влияние японской гравюры и отчасти фотограф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4:52:40Z</dcterms:created>
  <dc:creator/>
  <dc:description/>
  <dc:language>en-US</dc:language>
  <cp:lastModifiedBy>ицш</cp:lastModifiedBy>
  <dcterms:modified xsi:type="dcterms:W3CDTF">2013-02-28T11:42:41Z</dcterms:modified>
  <cp:revision>10</cp:revision>
  <dc:subject/>
  <dc:title>Импрессионизм</dc:title>
</cp:coreProperties>
</file>