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60C8-BB1F-42EA-8EF0-11452BBFB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FEA0-970E-4A7E-9947-FFC0CA4D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AB9C-A888-4488-BA31-1986022D3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9533-F73A-473B-99EF-380AC30CC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2A54-B14D-4FC2-800D-0D42F2CE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FC98-5F99-470B-B1D0-25F22E8C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E2CA-E65D-4C35-9721-17CFDA02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E165-CD8E-4091-9067-7E9C8A18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2956-4376-41C3-A7AA-39F157BD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9E80-7C7E-4440-B024-DA89F660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704D-502A-4DA6-8D1F-2CDF86CD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555F-8E20-4DC3-8247-0677CF03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0731-4685-474B-9EBE-24A63324E1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ИВАН АНДРЕЕВИЧ КРЫ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Documents and Settings\Домашний\Мои документы\крылов.jpeg"/>
          <p:cNvPicPr/>
          <p:nvPr/>
        </p:nvPicPr>
        <p:blipFill>
          <a:blip r:embed="rId1"/>
          <a:stretch/>
        </p:blipFill>
        <p:spPr>
          <a:xfrm>
            <a:off x="2571840" y="1571760"/>
            <a:ext cx="3749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МАРТЫШКА И ОЧ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Documents and Settings\Домашний\Мои документы\мартышка и очки2.jpg"/>
          <p:cNvPicPr/>
          <p:nvPr/>
        </p:nvPicPr>
        <p:blipFill>
          <a:blip r:embed="rId1"/>
          <a:stretch/>
        </p:blipFill>
        <p:spPr>
          <a:xfrm>
            <a:off x="1214280" y="1649520"/>
            <a:ext cx="685008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МАРТЫШКА И ОЧ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Documents and Settings\Домашний\Мои документы\мартышка4.jpg"/>
          <p:cNvPicPr/>
          <p:nvPr/>
        </p:nvPicPr>
        <p:blipFill>
          <a:blip r:embed="rId1"/>
          <a:stretch/>
        </p:blipFill>
        <p:spPr>
          <a:xfrm>
            <a:off x="1357200" y="1571760"/>
            <a:ext cx="665640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МАРТЫШКА И ОЧ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Documents and Settings\Домашний\Мои документы\мартышка.jpg"/>
          <p:cNvPicPr/>
          <p:nvPr/>
        </p:nvPicPr>
        <p:blipFill>
          <a:blip r:embed="rId1"/>
          <a:stretch/>
        </p:blipFill>
        <p:spPr>
          <a:xfrm>
            <a:off x="1214280" y="1601640"/>
            <a:ext cx="70009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МАРТЫШКА И ОЧ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Documents and Settings\Домашний\Мои документы\мартышка5.jpg"/>
          <p:cNvPicPr/>
          <p:nvPr/>
        </p:nvPicPr>
        <p:blipFill>
          <a:blip r:embed="rId1"/>
          <a:stretch/>
        </p:blipFill>
        <p:spPr>
          <a:xfrm>
            <a:off x="1214280" y="1673280"/>
            <a:ext cx="68454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МАРТЫШКА И ОЧ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Documents and Settings\Домашний\Мои документы\мартышка3.jpg"/>
          <p:cNvPicPr/>
          <p:nvPr/>
        </p:nvPicPr>
        <p:blipFill>
          <a:blip r:embed="rId1"/>
          <a:stretch/>
        </p:blipFill>
        <p:spPr>
          <a:xfrm>
            <a:off x="1285920" y="1643040"/>
            <a:ext cx="65102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ЗЕРКАЛО И ОБЕЗЬЯ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Documents and Settings\Домашний\Мои документы\эеркало.jpg"/>
          <p:cNvPicPr/>
          <p:nvPr/>
        </p:nvPicPr>
        <p:blipFill>
          <a:blip r:embed="rId1"/>
          <a:stretch/>
        </p:blipFill>
        <p:spPr>
          <a:xfrm>
            <a:off x="1143000" y="1214280"/>
            <a:ext cx="7072200" cy="53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ЗЕРКАЛО И ОБЕЗЬЯ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C:\Documents and Settings\Домашний\Мои документы\зеркало и обезьяна.jpg"/>
          <p:cNvPicPr/>
          <p:nvPr/>
        </p:nvPicPr>
        <p:blipFill>
          <a:blip r:embed="rId1"/>
          <a:stretch/>
        </p:blipFill>
        <p:spPr>
          <a:xfrm>
            <a:off x="1143000" y="1214280"/>
            <a:ext cx="7143840" cy="54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ЗЕРКАЛО И ОБЕЗЬЯ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C:\Documents and Settings\Домашний\Мои документы\зеркало4.jpg"/>
          <p:cNvPicPr/>
          <p:nvPr/>
        </p:nvPicPr>
        <p:blipFill>
          <a:blip r:embed="rId1"/>
          <a:stretch/>
        </p:blipFill>
        <p:spPr>
          <a:xfrm>
            <a:off x="1071720" y="1143000"/>
            <a:ext cx="709128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ЗЕРКАЛО И ОБЕЗЬЯ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Documents and Settings\Домашний\Мои документы\зеркало3.jpg"/>
          <p:cNvPicPr/>
          <p:nvPr/>
        </p:nvPicPr>
        <p:blipFill>
          <a:blip r:embed="rId1"/>
          <a:stretch/>
        </p:blipFill>
        <p:spPr>
          <a:xfrm>
            <a:off x="928800" y="1252440"/>
            <a:ext cx="7535880" cy="56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РОНА И ЛИС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C:\Documents and Settings\Домашний\Мои документы\ворона и лисица.jpg"/>
          <p:cNvPicPr/>
          <p:nvPr/>
        </p:nvPicPr>
        <p:blipFill>
          <a:blip r:embed="rId1"/>
          <a:stretch/>
        </p:blipFill>
        <p:spPr>
          <a:xfrm>
            <a:off x="2786040" y="1214280"/>
            <a:ext cx="37558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ЖИЗНЬ И ТВОРЧЕ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1"/>
          <p:cNvSpPr/>
          <p:nvPr/>
        </p:nvSpPr>
        <p:spPr>
          <a:xfrm>
            <a:off x="4071960" y="1384200"/>
            <a:ext cx="457200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И.А.Крылов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Родился 2 февраля 1768 г. в Москве. Отец его служил в драгунском полку, в 1772 г. отличился при защите Яицкого городка от пугачевцев, был председателем магистрата в Твери и умер в 1778 г., оставив вдову с двумя малолетними детьми. Иван Крылов детство провел в разъездах с семьей; грамоте выучился дома (отец его был большой любитель чтения, после него к сыну перешел целый сундук книг); французским языком занимался в семействе состоятельных знакомых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Учился Крылов мало, но читал довольно много, он "посещал с особенным удовольствием народные сборища, прислушиваясь с жадностью к речам простолюдинов"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В конце 1782 г. Крылов поехал в Петербург с матерью, которой удалось определить его на службу в петербургскую казенную палату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В казенной палате Крылов получал тогда 80 - 90 рублей в год, положением своим не был доволен и перешел в Кабинет Ее Величества. В 1788 г. Крылов лишился матери; на руках его остался младший его брат, Лев, о котором он всю жизнь заботился, как отец о сын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Documents and Settings\Домашний\Мои документы\КРЫЛОВ И..jpg"/>
          <p:cNvPicPr/>
          <p:nvPr/>
        </p:nvPicPr>
        <p:blipFill>
          <a:blip r:embed="rId1"/>
          <a:stretch/>
        </p:blipFill>
        <p:spPr>
          <a:xfrm>
            <a:off x="285840" y="1214280"/>
            <a:ext cx="37814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C:\Documents and Settings\Домашний\Мои документы\ворона.jpg"/>
          <p:cNvPicPr/>
          <p:nvPr/>
        </p:nvPicPr>
        <p:blipFill>
          <a:blip r:embed="rId1"/>
          <a:stretch/>
        </p:blipFill>
        <p:spPr>
          <a:xfrm>
            <a:off x="1428840" y="285840"/>
            <a:ext cx="657216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РОНА И ЛИС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C:\Documents and Settings\Домашний\Мои документы\ворона3.jpg"/>
          <p:cNvPicPr/>
          <p:nvPr/>
        </p:nvPicPr>
        <p:blipFill>
          <a:blip r:embed="rId1"/>
          <a:stretch/>
        </p:blipFill>
        <p:spPr>
          <a:xfrm>
            <a:off x="2357280" y="1219320"/>
            <a:ext cx="41054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РОНА И ЛИС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Documents and Settings\Домашний\Мои документы\ворона 2.jpg"/>
          <p:cNvPicPr/>
          <p:nvPr/>
        </p:nvPicPr>
        <p:blipFill>
          <a:blip r:embed="rId1"/>
          <a:stretch/>
        </p:blipFill>
        <p:spPr>
          <a:xfrm>
            <a:off x="2428920" y="1604880"/>
            <a:ext cx="416232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ЖИЗНЬИ ТВОРЧЕ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C:\Documents and Settings\Домашний\Мои документы\И.КРЫЛОВ.jpeg"/>
          <p:cNvPicPr/>
          <p:nvPr/>
        </p:nvPicPr>
        <p:blipFill>
          <a:blip r:embed="rId1"/>
          <a:stretch/>
        </p:blipFill>
        <p:spPr>
          <a:xfrm>
            <a:off x="285840" y="1571760"/>
            <a:ext cx="3309840" cy="470988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3"/>
          <p:cNvSpPr/>
          <p:nvPr/>
        </p:nvSpPr>
        <p:spPr>
          <a:xfrm>
            <a:off x="3857760" y="1357200"/>
            <a:ext cx="5072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йдя в отставку, Крылов в 1791 г. становится владельцем типографии и с января 1792 г. начинает печатать в ней журнал "Зритель", с очень широкой программой и с явной наклонностью к сатире. Очевидно, годы его журнальной деятельности были для Крылова учебными годами, и это позднее ученье внесло разлад в его вкусы, послуживший, вероятно, причиной временного прекращения его литературной деятельност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конце 1793 г. Крылов уехал из Петербурга. В 1797 г. он встретился в Москве с князем С.Ф. Голицыным и уехал к нему в деревню, в качестве учителя детей, секретаря. В это время Крылов обладал уже широким и разносторонним образованием, хорошо играл на скрипке, знал по-итальянски и оказался способным и полезным преподавателем языка и словесности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ЖИЗНЬ И ТВОРЧЕ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2"/>
          <p:cNvSpPr/>
          <p:nvPr/>
        </p:nvSpPr>
        <p:spPr>
          <a:xfrm>
            <a:off x="285840" y="1214280"/>
            <a:ext cx="50004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1805 г. Крылов был в Москве и показал И.И. Дмитриеву свой перевод двух басен Лафонтена: "Дуб и Трость" и "Разборчивая невеста". По словам Лобанова, Дмитриев, прочитав их, сказал Крылову: "это истинный ваш род; наконец, вы нашли его". Прекрасный знаток простого языка, сильно наклонный к насмешке и скептицизму, Крылов, действительно, был создан для басни, но все же не сразу остановился на этой форме творчества. В 1806 г. он напечатал только 3 басни; и несколько пьес.  Успех его пьес был большой.  Несмотря на это, Крылов решился покинуть театр и последовать совету Дмитриева. В 1808 г. Крылов  печатает в "Драматическом Вестнике" 17 басен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Documents and Settings\Домашний\Мои документы\krylov_polnoe_01902_n2.jpg"/>
          <p:cNvPicPr/>
          <p:nvPr/>
        </p:nvPicPr>
        <p:blipFill>
          <a:blip r:embed="rId1"/>
          <a:stretch/>
        </p:blipFill>
        <p:spPr>
          <a:xfrm>
            <a:off x="5357880" y="1357200"/>
            <a:ext cx="334476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ЖИЗНЬ И ТВОРЧЕ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214200" y="1285920"/>
            <a:ext cx="51436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1809 г. он выпускает первое отдельное издание своих басен, в количестве 23, и этой книжечкой завоевывает себе почетное место в русской литературе. С этого времени жизнь его - ряд непрерывных успехов и почестей. В 1810 г. он вступает помощником библиотекаря в Императорскую Публичную Библиотеку, с 1816 г. он был библиотекарем.  16 декабря 1811 г. он избран членом Российской Академии, 14 января 1823 г. получил от нее золотую медаль за литературные заслуги, а при преобразовании Российской Академии в отделение русского языка и словесности Академии Наук (1841) был утвержден ординарным академиком .  Скончался 9 ноября 1844 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Documents and Settings\Домашний\Мои документы\памятник крылову.jpeg"/>
          <p:cNvPicPr/>
          <p:nvPr/>
        </p:nvPicPr>
        <p:blipFill>
          <a:blip r:embed="rId1"/>
          <a:stretch/>
        </p:blipFill>
        <p:spPr>
          <a:xfrm>
            <a:off x="5272200" y="1357200"/>
            <a:ext cx="36576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И.А.КРЫЛОВ БАС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Documents and Settings\Домашний\Мои документы\картинуи к басням.jpg"/>
          <p:cNvPicPr/>
          <p:nvPr/>
        </p:nvPicPr>
        <p:blipFill>
          <a:blip r:embed="rId1"/>
          <a:stretch/>
        </p:blipFill>
        <p:spPr>
          <a:xfrm>
            <a:off x="2357280" y="1214280"/>
            <a:ext cx="450072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МАРТЫШКА И ОЧ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Documents and Settings\Домашний\Мои документы\мартышка0.jpg"/>
          <p:cNvPicPr/>
          <p:nvPr/>
        </p:nvPicPr>
        <p:blipFill>
          <a:blip r:embed="rId1"/>
          <a:stretch/>
        </p:blipFill>
        <p:spPr>
          <a:xfrm>
            <a:off x="1071720" y="1143000"/>
            <a:ext cx="71085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МАРТЫШКА И ОЧ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Documents and Settings\Домашний\Мои документы\мартышка и очки.jpg"/>
          <p:cNvPicPr/>
          <p:nvPr/>
        </p:nvPicPr>
        <p:blipFill>
          <a:blip r:embed="rId1"/>
          <a:stretch/>
        </p:blipFill>
        <p:spPr>
          <a:xfrm>
            <a:off x="2500200" y="1214280"/>
            <a:ext cx="407196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МАРТЫШКА И ОЧ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Documents and Settings\Домашний\Мои документы\мартышка2.jpg"/>
          <p:cNvPicPr/>
          <p:nvPr/>
        </p:nvPicPr>
        <p:blipFill>
          <a:blip r:embed="rId1"/>
          <a:stretch/>
        </p:blipFill>
        <p:spPr>
          <a:xfrm>
            <a:off x="1214280" y="1633680"/>
            <a:ext cx="688032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8:42:56Z</dcterms:created>
  <dc:creator>Домашний</dc:creator>
  <dc:description/>
  <dc:language>en-US</dc:language>
  <cp:lastModifiedBy>Домашний</cp:lastModifiedBy>
  <dcterms:modified xsi:type="dcterms:W3CDTF">2011-11-13T19:43:59Z</dcterms:modified>
  <cp:revision>8</cp:revision>
  <dc:subject/>
  <dc:title>ИВАН АНДРЕЕВИЧ КРЫЛОВ</dc:title>
</cp:coreProperties>
</file>