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ED5-D74F-4E84-BC1B-89B43F39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BAE-5702-4F38-8255-752474E6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AB4-DB84-4DAB-BA75-71EFCA37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EEA-954E-4D8A-9964-D5CF9DDD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310BE-CE91-4A9E-B691-2D4C1136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B6EC2-66B5-46F5-9B87-4F429A4E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D4510-9965-40AA-A10B-89B92987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2DAE5-EBCD-4EB7-A434-A6395ADC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35637-0744-4529-962C-4764D206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3B239-6390-4EAB-AA63-FBC41EDD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3E8CB-0D48-4E33-95B9-2A6A0D19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10D-4E29-405B-BF32-F17617B0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D8C5F-57B3-4C71-A5AE-97A1E71C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C3A34-CB72-4CA1-B6D3-82EF1C8F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F06A3-8D09-4BE7-AB9F-5B154522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E5C6E-9FA5-4349-95B6-B610A87D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D7F06-107D-40C3-B44C-75A485EA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6860-2E14-4336-B3CA-292B55A6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E43-7C16-407F-B77D-7B4C49F2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B03-230B-4F84-8D7F-FB7D4624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70B-A7CD-44A4-9EB7-CA2C20E8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61C-1E23-42BC-91B1-306DB029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68F2-9174-4D33-B293-24C19737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54D6-47E4-4A5E-BBFF-2E04C9AC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B50C-9CC4-4C28-A5F5-FE0B6CAFBC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EAA8-A418-4C06-ADD0-3217B11C46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" Target="slide31.xml"/><Relationship Id="rId7" Type="http://schemas.openxmlformats.org/officeDocument/2006/relationships/slide" Target="slide27.xml"/><Relationship Id="rId8" Type="http://schemas.openxmlformats.org/officeDocument/2006/relationships/slide" Target="slide28.xml"/><Relationship Id="rId9" Type="http://schemas.openxmlformats.org/officeDocument/2006/relationships/slide" Target="slide30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" Target="slide36.xml"/><Relationship Id="rId13" Type="http://schemas.openxmlformats.org/officeDocument/2006/relationships/slide" Target="slide37.xml"/><Relationship Id="rId14" Type="http://schemas.openxmlformats.org/officeDocument/2006/relationships/slide" Target="slide38.xml"/><Relationship Id="rId15" Type="http://schemas.openxmlformats.org/officeDocument/2006/relationships/slide" Target="slide39.xml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4.xml"/><Relationship Id="rId6" Type="http://schemas.openxmlformats.org/officeDocument/2006/relationships/slide" Target="slide45.xml"/><Relationship Id="rId7" Type="http://schemas.openxmlformats.org/officeDocument/2006/relationships/slide" Target="slide46.xml"/><Relationship Id="rId8" Type="http://schemas.openxmlformats.org/officeDocument/2006/relationships/slide" Target="slide46.xml"/><Relationship Id="rId9" Type="http://schemas.openxmlformats.org/officeDocument/2006/relationships/slide" Target="slide47.xml"/><Relationship Id="rId10" Type="http://schemas.openxmlformats.org/officeDocument/2006/relationships/slide" Target="slide47.xml"/><Relationship Id="rId1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26920" y="1413000"/>
            <a:ext cx="756144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ИЗУЧАЕМ </a:t>
            </a:r>
            <a:endParaRPr b="1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УССКИЙ ЯЗЫК</a:t>
            </a:r>
            <a:endParaRPr b="1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7956720" y="6093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В каком слове не надо писать букву </a:t>
            </a:r>
            <a:r>
              <a:rPr b="1" lang="tt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т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А) турис...ск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Б) глас...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В) гиган...ск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Г) ус...ны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В каком ряду во всех словах на месте пропуска пишется буква ё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0000"/>
                </a:solidFill>
                <a:latin typeface="Times New Roman"/>
              </a:rPr>
              <a:t>А)ч...тко произносить, аккуратный ш...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0000"/>
                </a:solidFill>
                <a:latin typeface="Times New Roman"/>
              </a:rPr>
              <a:t>Б) деш...вый товар, жидкая сгущ...н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0000"/>
                </a:solidFill>
                <a:latin typeface="Times New Roman"/>
              </a:rPr>
              <a:t>В) железная реш...тка, винительным падеж...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00"/>
                </a:solidFill>
                <a:latin typeface="Times New Roman"/>
              </a:rPr>
              <a:t>Какое утверждение является неверным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Имя существительное изменяется п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00"/>
                </a:solidFill>
                <a:latin typeface="Times New Roman"/>
              </a:rPr>
              <a:t>А) родам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</a:rPr>
              <a:t>Б) числам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</a:rPr>
              <a:t>В) падеж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Определите род сложносокращённого слова ТЮЗ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t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t-RU" sz="9600" spc="-1" strike="noStrike">
                <a:solidFill>
                  <a:srgbClr val="010199"/>
                </a:solidFill>
                <a:latin typeface="Times New Roman"/>
              </a:rPr>
              <a:t>Кот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9600" spc="-1" strike="noStrike">
                <a:solidFill>
                  <a:srgbClr val="010199"/>
                </a:solidFill>
                <a:latin typeface="Times New Roman"/>
              </a:rPr>
              <a:t>в мешке</a:t>
            </a:r>
            <a:r>
              <a:rPr b="0" lang="ru-RU" sz="9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7667640" y="609300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tt-RU" sz="4400" spc="-1" strike="noStrike">
                <a:solidFill>
                  <a:srgbClr val="cc0099"/>
                </a:solidFill>
                <a:latin typeface="Times New Roman"/>
              </a:rPr>
              <a:t>Какое слово пропущено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cc0099"/>
                </a:solidFill>
                <a:latin typeface="Times New Roman"/>
              </a:rPr>
              <a:t>Бремя, время, знамя, имя, пламя, племя, семя. стремя, темя, пут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10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Назовите существительное, обозначающее домашнюю птицу и этимологически связанное с глаголом пе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Назовите разноспрягаемые глагол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Перечислите постоянные признаки глаго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1125360"/>
            <a:ext cx="843588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Выберите глаголы, в окончании которых пропущена буква </a:t>
            </a:r>
            <a:r>
              <a:rPr b="1" lang="tt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) Зала…л, сто…л, посе…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) Ве…л, обид…л, сто…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) Обид…л, увид…л, посе…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) Увид…л, зала…л, ве…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3458880" cy="5445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59280" y="836640"/>
            <a:ext cx="3635280" cy="57322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596360" y="5877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Что вы можете сказать о глаголе, встречающемся в словосочетании </a:t>
            </a:r>
            <a:r>
              <a:rPr b="1" lang="tt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любуюсь природой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Язык – это орудие мышления…        Обращаться с языком кое-как - значит и мыслить кое-как: неточно, приблизительно, неверно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         А.Н.Толсто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 rot="10800000">
            <a:off x="7811640" y="623700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308720" y="6308640"/>
            <a:ext cx="719280" cy="36036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9640" y="291960"/>
          <a:ext cx="8147160" cy="5727960"/>
        </p:xfrm>
        <a:graphic>
          <a:graphicData uri="http://schemas.openxmlformats.org/drawingml/2006/table">
            <a:tbl>
              <a:tblPr/>
              <a:tblGrid>
                <a:gridCol w="1563840"/>
                <a:gridCol w="1646280"/>
                <a:gridCol w="1644480"/>
                <a:gridCol w="1646280"/>
                <a:gridCol w="1646280"/>
              </a:tblGrid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Алфав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Напряги памя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tt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Фразео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логиз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Слово-образо-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900000" y="1268280"/>
            <a:ext cx="409572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колько букв в  </a:t>
            </a:r>
            <a:endParaRPr b="0" lang="en-US" sz="40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усском алфавите?</a:t>
            </a:r>
            <a:endParaRPr b="0" lang="en-US" sz="40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7667280" y="6092640"/>
            <a:ext cx="865080" cy="43164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800" spc="-1" strike="noStrike">
                <a:solidFill>
                  <a:srgbClr val="cc0099"/>
                </a:solidFill>
                <a:latin typeface="Times New Roman"/>
              </a:rPr>
              <a:t>Откуда произошло слово </a:t>
            </a:r>
            <a:r>
              <a:rPr b="1" i="1" lang="tt-RU" sz="4800" spc="-1" strike="noStrike" u="sng">
                <a:solidFill>
                  <a:srgbClr val="cc0099"/>
                </a:solidFill>
                <a:uFillTx/>
                <a:latin typeface="Times New Roman"/>
              </a:rPr>
              <a:t>азбука</a:t>
            </a:r>
            <a:r>
              <a:rPr b="1" i="1" lang="tt-RU" sz="48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7667280" y="6092640"/>
            <a:ext cx="865080" cy="43164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900000" y="1268280"/>
            <a:ext cx="52866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Объясните значение выражения</a:t>
            </a:r>
            <a:endParaRPr b="0" lang="en-US" sz="2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2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"ходить фертом". </a:t>
            </a:r>
            <a:endParaRPr b="0" lang="en-US" sz="2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7667280" y="6092640"/>
            <a:ext cx="865080" cy="43164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71640" y="1268280"/>
            <a:ext cx="6372000" cy="222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Эта буква появилась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в алфавите лишь в XVIII веке, 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ввёл её в употребление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Н.М.Карамзин. На родине её автора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- в Ульяновске - поставлен ей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(букве) памятник. О какой букве идёт речь?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7667280" y="6092640"/>
            <a:ext cx="865080" cy="43164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cc0099"/>
                </a:solidFill>
                <a:latin typeface="Times New Roman"/>
              </a:rPr>
              <a:t>Перед вами репродукция картины Ф.П.Решетникова. Как она называетс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4969080" cy="4032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rot="10800000">
            <a:off x="7667280" y="6092640"/>
            <a:ext cx="865080" cy="43164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cc0099"/>
                </a:solidFill>
                <a:latin typeface="Tahoma"/>
              </a:rPr>
              <a:t>          </a:t>
            </a:r>
            <a:r>
              <a:rPr b="1" lang="tt-RU" sz="9600" spc="-1" strike="noStrike">
                <a:solidFill>
                  <a:srgbClr val="000099"/>
                </a:solidFill>
                <a:latin typeface="Times New Roman"/>
              </a:rPr>
              <a:t>Аук</a:t>
            </a:r>
            <a:r>
              <a:rPr b="1" lang="ru-RU" sz="9600" spc="-1" strike="noStrike">
                <a:solidFill>
                  <a:srgbClr val="000099"/>
                </a:solidFill>
                <a:latin typeface="Times New Roman"/>
              </a:rPr>
              <a:t>ц</a:t>
            </a:r>
            <a:r>
              <a:rPr b="1" lang="tt-RU" sz="9600" spc="-1" strike="noStrike">
                <a:solidFill>
                  <a:srgbClr val="000099"/>
                </a:solidFill>
                <a:latin typeface="Times New Roman"/>
              </a:rPr>
              <a:t>ион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7451640" y="6237360"/>
            <a:ext cx="649440" cy="287280"/>
          </a:xfrm>
          <a:prstGeom prst="rightArrow">
            <a:avLst>
              <a:gd name="adj1" fmla="val 50000"/>
              <a:gd name="adj2" fmla="val 565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Как символ Родины эту фотографию берут с собой космонавты в космос на корабль. Что изображено на фотографии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7667280" y="6092640"/>
            <a:ext cx="865080" cy="43164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596360" y="6308640"/>
            <a:ext cx="720720" cy="289080"/>
          </a:xfrm>
          <a:prstGeom prst="rightArrow">
            <a:avLst>
              <a:gd name="adj1" fmla="val 50000"/>
              <a:gd name="adj2" fmla="val 6232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291960"/>
          <a:ext cx="8218440" cy="5713560"/>
        </p:xfrm>
        <a:graphic>
          <a:graphicData uri="http://schemas.openxmlformats.org/drawingml/2006/table">
            <a:tbl>
              <a:tblPr/>
              <a:tblGrid>
                <a:gridCol w="1635120"/>
                <a:gridCol w="1646280"/>
                <a:gridCol w="1644480"/>
                <a:gridCol w="1646280"/>
                <a:gridCol w="1646280"/>
              </a:tblGrid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е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фогра-ф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я существительно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го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tt-RU" sz="3200" spc="-1" strike="noStrike">
                <a:solidFill>
                  <a:srgbClr val="cc0099"/>
                </a:solidFill>
                <a:latin typeface="Times New Roman"/>
              </a:rPr>
              <a:t>По совету врачей Антон Павлович Чехов поехал в Крым. Здесь он тосковал по родным местам. Друг-художник, поняв его тоску, написал картину. На ней был изображён широкий луг с тёмными стогами скошенного сена. Чехову чудилось, будто идёт он по этому лугу, слышит крик сонных птиц, вдыхает запах свежего сена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 u="sng">
                <a:solidFill>
                  <a:srgbClr val="cc0099"/>
                </a:solidFill>
                <a:uFillTx/>
                <a:latin typeface="Times New Roman"/>
              </a:rPr>
              <a:t>Назовите фамилию художни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7740720" y="609300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tt-RU" sz="3600" spc="-1" strike="noStrike">
                <a:solidFill>
                  <a:srgbClr val="cc0099"/>
                </a:solidFill>
                <a:latin typeface="Times New Roman"/>
              </a:rPr>
              <a:t>Восстановите пропущенные слова в стихотворении С.Есенин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Tahoma"/>
              </a:rPr>
              <a:t>Звёздочки ясные, ______ высоки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Tahoma"/>
              </a:rPr>
              <a:t>Что вы храните в се6е, что скрыва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Tahoma"/>
              </a:rPr>
              <a:t>______, таящие мысли глубок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Tahoma"/>
              </a:rPr>
              <a:t>Силой какою вы души пленя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7740720" y="609300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tt-RU" sz="4000" spc="-1" strike="noStrike">
                <a:solidFill>
                  <a:srgbClr val="cc0099"/>
                </a:solidFill>
                <a:latin typeface="Times New Roman"/>
              </a:rPr>
              <a:t>Вставьте слово во фразеологиз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0099"/>
                </a:solidFill>
                <a:uFillTx/>
                <a:latin typeface="Times New Roman"/>
              </a:rPr>
              <a:t>Смотреть как ……. на новые воро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А) бара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Б) коз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В) соба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Г) куриц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7740720" y="609300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0099"/>
                </a:solidFill>
                <a:latin typeface="Tahoma"/>
              </a:rPr>
              <a:t>  </a:t>
            </a:r>
            <a:r>
              <a:rPr b="1" lang="tt-RU" sz="4400" spc="-1" strike="noStrike" u="sng">
                <a:solidFill>
                  <a:srgbClr val="cc0099"/>
                </a:solidFill>
                <a:uFillTx/>
                <a:latin typeface="Times New Roman"/>
              </a:rPr>
              <a:t>Два сапога пар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Найдите подходящий по смыслу фразеологизм на татарском язык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740720" y="609300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ую деталь одежды надо подставить, чтобы получились фразеологизм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Лезть за словом в …….;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не по …….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держи ……. шир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7740720" y="609300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Объясните значение фразеологиз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99"/>
                </a:solidFill>
                <a:uFillTx/>
                <a:latin typeface="Times New Roman"/>
              </a:rPr>
              <a:t>лясы точит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740720" y="609300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Каким способом образовано   слово </a:t>
            </a:r>
            <a:r>
              <a:rPr b="1" lang="ru-RU" sz="4400" spc="-1" strike="noStrike" u="sng">
                <a:solidFill>
                  <a:srgbClr val="cc0099"/>
                </a:solidFill>
                <a:uFillTx/>
                <a:latin typeface="Times New Roman"/>
              </a:rPr>
              <a:t>опилки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99"/>
                </a:solidFill>
                <a:uFillTx/>
                <a:latin typeface="Times New Roman"/>
              </a:rPr>
              <a:t>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99"/>
                </a:solidFill>
                <a:uFillTx/>
                <a:latin typeface="Times New Roman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7740720" y="609300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В каких словах выделяется окончание –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А) земл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Б) зл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В) знам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      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Г) зоолог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740720" y="609300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В каком слове нет суффикса -к-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А) змей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Б) чай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  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В) семей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      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Г) батарей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7740720" y="609300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В каких двух парах слов имеются одинаковые приставки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А) полёт – польё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Б) полезет – полезны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     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В) пробовать – пробив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Tahoma"/>
              </a:rPr>
              <a:t>Г) прошла - прошил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740720" y="609300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404640"/>
            <a:ext cx="8280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В каком слове происходит озвончение согласного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)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 ше…ств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)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 варе…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)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 филосо…ски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Г)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 жени…ьб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164360" y="5950080"/>
            <a:ext cx="1368360" cy="431640"/>
          </a:xfrm>
          <a:prstGeom prst="rightArrow">
            <a:avLst>
              <a:gd name="adj1" fmla="val 50000"/>
              <a:gd name="adj2" fmla="val 7925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3960" y="620640"/>
            <a:ext cx="930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cc00"/>
                </a:solidFill>
                <a:uFillTx/>
                <a:latin typeface="Tahoma"/>
                <a:hlinkClick r:id="rId1" action="ppaction://hlinksldjump"/>
              </a:rPr>
              <a:t>Им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84360" y="476280"/>
            <a:ext cx="25462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Лишне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сло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25280" y="692280"/>
            <a:ext cx="855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Спор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8640" y="2060640"/>
            <a:ext cx="1050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Загад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55600" y="2060640"/>
            <a:ext cx="1340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cc00"/>
                </a:solidFill>
                <a:uFillTx/>
                <a:latin typeface="Tahoma"/>
                <a:hlinkClick r:id="rId6" action="ppaction://hlinksldjump"/>
              </a:rPr>
              <a:t>Синтакси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573360"/>
            <a:ext cx="45626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cc00"/>
                </a:solidFill>
                <a:uFillTx/>
                <a:latin typeface="Tahoma"/>
                <a:hlinkClick r:id="rId7" action="ppaction://hlinksldjump"/>
              </a:rPr>
              <a:t>Говор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cc00"/>
                </a:solidFill>
                <a:uFillTx/>
                <a:latin typeface="Tahoma"/>
                <a:hlinkClick r:id="rId8" action="ppaction://hlinksldjump"/>
              </a:rPr>
              <a:t>правиль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81360" y="1989000"/>
            <a:ext cx="45626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cc00"/>
                </a:solidFill>
                <a:uFillTx/>
                <a:latin typeface="Tahoma"/>
                <a:hlinkClick r:id="rId9" action="ppaction://hlinksldjump"/>
              </a:rPr>
              <a:t>Русск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cc00"/>
                </a:solidFill>
                <a:uFillTx/>
                <a:latin typeface="Tahoma"/>
                <a:hlinkClick r:id="rId10" action="ppaction://hlinksldjump"/>
              </a:rPr>
              <a:t>медвежонок -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Среди данных имён найдите одно лишнее им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Ян, Ованес, Джон, Джек, Вано, Жан, Хуа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 rot="16200000">
            <a:off x="7740000" y="609336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58920" y="759960"/>
            <a:ext cx="6769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Какое из перечисленных слов по смыслу лишнее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 u="sng">
                <a:solidFill>
                  <a:srgbClr val="cc0099"/>
                </a:solidFill>
                <a:uFillTx/>
                <a:latin typeface="Times New Roman"/>
              </a:rPr>
              <a:t>Поэтесса, молдованка, утка, волчица, обезьяна, гусын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 rot="16200000">
            <a:off x="7740000" y="609336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Каково лексическое значение слова </a:t>
            </a:r>
            <a:r>
              <a:rPr b="1" i="1" lang="tt-RU" sz="4400" spc="-1" strike="noStrike" u="sng">
                <a:solidFill>
                  <a:srgbClr val="cc0099"/>
                </a:solidFill>
                <a:uFillTx/>
                <a:latin typeface="Times New Roman"/>
              </a:rPr>
              <a:t>старт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 rot="16200000">
            <a:off x="7740000" y="609336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900000" y="2060640"/>
            <a:ext cx="79930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      </a:t>
            </a: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В каком числе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столько же цифр,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сколько букв в его 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наименовании?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7740000" y="609336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476360" y="1844640"/>
            <a:ext cx="5953320" cy="308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Перед вами отрывок 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из стихотворения А.В.Кольцова "Косарь". 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Сколько запятых здесь пропущено?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Раззудись плечо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Размахнись рука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Ты пахни в лицо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Ветер с полудня!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740000" y="609336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619280" y="1413000"/>
            <a:ext cx="734364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      </a:t>
            </a: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Как правильно сказать?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А) У рыбов нет зубов.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Б) У рыбей нет зубей.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В) У рыб нет зуб.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Г) У рыб нет зубов.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Д) У рыб нет зуба.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7740000" y="609336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Какое из этих слов устроено не так, как друг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А) крысо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Б) свиноп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В) козод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Г) утконо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Д) пчеловод</a:t>
            </a: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t-RU" sz="3200" spc="-1" strike="noStrike">
                <a:solidFill>
                  <a:srgbClr val="cc0099"/>
                </a:solidFill>
                <a:latin typeface="Tahoma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7740000" y="609336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Представьте на минуту, что мы лишилиь бы вдруг знания русского языка. Насколько оскудел бы наш внутренний мир, сузился кругозор, насколько беднее стали бы мы в культурном отноше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Ведь русский язык ... – золотой ключ к достижению всей мировой культу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</a:t>
            </a:r>
            <a:r>
              <a:rPr b="1" i="1" lang="tt-RU" sz="3200" spc="-1" strike="noStrike">
                <a:solidFill>
                  <a:srgbClr val="ff0000"/>
                </a:solidFill>
                <a:latin typeface="Times New Roman"/>
              </a:rPr>
              <a:t>Рафаэль Мустафин.</a:t>
            </a: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tt-RU" sz="3200" spc="-1" strike="noStrike">
                <a:solidFill>
                  <a:srgbClr val="cc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7740000" y="609336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7956720" y="6093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913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981000"/>
            <a:ext cx="7489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В каком слове на месте пропуска пишется </a:t>
            </a:r>
            <a:r>
              <a:rPr b="1" lang="tt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ы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А) ц...фр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Б) ц...плёно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В) ж...рны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Г) серые мыш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tt-RU" sz="5400" spc="-1" strike="noStrike">
                <a:solidFill>
                  <a:srgbClr val="ff0000"/>
                </a:solidFill>
                <a:latin typeface="Times New Roman"/>
              </a:rPr>
              <a:t>Что такое фонетика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848160" y="430200"/>
            <a:ext cx="922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cc0099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tt-RU" sz="3600" spc="-1" strike="noStrike">
                <a:solidFill>
                  <a:srgbClr val="ff0000"/>
                </a:solidFill>
                <a:latin typeface="Times New Roman"/>
              </a:rPr>
              <a:t>В каких словах произношение н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Times New Roman"/>
              </a:rPr>
              <a:t>совпадает с написанием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Times New Roman"/>
              </a:rPr>
              <a:t>А) поч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Times New Roman"/>
              </a:rPr>
              <a:t>Б) чтоб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tt-RU" sz="3600" spc="-1" strike="noStrike">
                <a:solidFill>
                  <a:srgbClr val="ff0000"/>
                </a:solidFill>
                <a:latin typeface="Times New Roman"/>
              </a:rPr>
              <a:t>В) источни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Times New Roman"/>
              </a:rPr>
              <a:t>Г) точн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tt-RU" sz="3600" spc="-1" strike="noStrike">
                <a:solidFill>
                  <a:srgbClr val="ff0000"/>
                </a:solidFill>
                <a:latin typeface="Times New Roman"/>
              </a:rPr>
              <a:t>Д) скучн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0099"/>
                </a:solidFill>
                <a:latin typeface="Tahoma"/>
              </a:rPr>
              <a:t> 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Какое будет окончание в именительном падеже множественного числа у слов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директор, мастер, доктор, город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Поставьте слово </a:t>
            </a:r>
            <a:r>
              <a:rPr b="1" lang="tt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телёнок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в форме родительного падежа множественного чис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етод кабинет</cp:lastModifiedBy>
  <dcterms:modified xsi:type="dcterms:W3CDTF">2008-02-18T14:17:18Z</dcterms:modified>
  <cp:revision>19</cp:revision>
  <dc:subject/>
  <dc:title>PowerPoint Presentation</dc:title>
</cp:coreProperties>
</file>