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A15-1DD2-45E4-8E27-4E53810F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159-2CCC-4E50-ABB6-8916F93C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4B9-0CA1-4721-B50E-49B5CE55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F9D-16AB-4384-8890-3E917AC3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9ABC9-4768-428F-B2B0-A7AD8DB6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FBC9C-72F0-4342-A44A-09898EC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E22A1-166B-4A83-A9D7-06C88D4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3D5D6-9185-4DAE-B6FA-75FC20C2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57C4-6DFC-493D-8363-8B11F2A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82FE6-94C2-47A5-A291-068E9E99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9DFC-5889-4BDA-9E8D-0C159DE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A9E-BC58-4CB7-9DDB-4A890612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A33D8-DFB2-47D9-9BA5-3E42B51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11780-936B-4D59-B6C3-73E0DD8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883B2-5156-48CA-A71A-4323805C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B5AF0-DC4B-467B-8EA9-4F714EC9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731E-D1F7-41D4-8582-12B8008B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3D0-8271-4915-A8B4-67F8797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6E7-CB8D-4096-A3EC-4A58A63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12E-3DC1-4735-8A64-28BDED00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9F2-6AA0-4598-B034-F47F31B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EBA-4627-4474-8AD2-B40E209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0A4-52FE-4213-B10F-10054CA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42F-8BE8-40F8-8F37-44BFB24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5EA-3167-48A3-BF69-B25002C33F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B05-685C-4ECC-824D-3D0AF8805A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31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6.xml"/><Relationship Id="rId13" Type="http://schemas.openxmlformats.org/officeDocument/2006/relationships/slide" Target="slide37.xml"/><Relationship Id="rId14" Type="http://schemas.openxmlformats.org/officeDocument/2006/relationships/slide" Target="slide38.xml"/><Relationship Id="rId15" Type="http://schemas.openxmlformats.org/officeDocument/2006/relationships/slide" Target="slide39.xml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45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47.xml"/><Relationship Id="rId10" Type="http://schemas.openxmlformats.org/officeDocument/2006/relationships/slide" Target="slide47.xml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413000"/>
            <a:ext cx="7561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ЗУЧАЕМ </a:t>
            </a:r>
            <a:endParaRPr b="1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УССКИЙ ЯЗЫК</a:t>
            </a:r>
            <a:endParaRPr b="1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слове не надо писать букву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т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А) турис...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Б) глас...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) гиган...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Г) ус...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ряду во всех словах на месте пропуска пишется буква ё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</a:rPr>
              <a:t>А)ч...тко произносить, аккуратный ш...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</a:rPr>
              <a:t>Б) деш...вый товар, жидкая сгущ...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00"/>
                </a:solidFill>
                <a:latin typeface="Times New Roman"/>
              </a:rPr>
              <a:t>В) железная реш...тка, винительным падеж...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Какое утверждение является невер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Имя существительное изменяется п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А) родам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Б) числам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</a:rPr>
              <a:t>В) падеж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Определите род сложносокращённого слова ТЮЗ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t-RU" sz="9600" spc="-1" strike="noStrike">
                <a:solidFill>
                  <a:srgbClr val="010199"/>
                </a:solidFill>
                <a:latin typeface="Times New Roman"/>
              </a:rPr>
              <a:t>Кот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10199"/>
                </a:solidFill>
                <a:latin typeface="Times New Roman"/>
              </a:rPr>
              <a:t>в мешке</a:t>
            </a: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6764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tt-RU" sz="4400" spc="-1" strike="noStrike">
                <a:solidFill>
                  <a:srgbClr val="cc0099"/>
                </a:solidFill>
                <a:latin typeface="Times New Roman"/>
              </a:rPr>
              <a:t>Какое слово пропущен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99"/>
                </a:solidFill>
                <a:latin typeface="Times New Roman"/>
              </a:rPr>
              <a:t>Бремя, время, знамя, имя, пламя, племя, семя. стремя, темя, пу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Назовите существительное, обозначающее домашнюю птицу и этимологически связанное с глаголом пе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Назовите разноспрягаемые глагол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Перечислите постоянные признаки глаго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125360"/>
            <a:ext cx="84358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ыберите глаголы, в окончании которых пропущена буква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) Зала…л, сто…л, посе…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) Ве…л, обид…л, сто…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) Обид…л, увид…л, посе…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) Увид…л, зала…л, ве…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458880" cy="544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635280" cy="57322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596360" y="5877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Что вы можете сказать о глаголе, встречающемся в словосочетании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любуюсь природой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зык – это орудие мышления…        Обращаться с языком кое-как - значит и мыслить кое-как: неточно, приблизительно, неверно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А.Н.Толст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 rot="10800000">
            <a:off x="7811640" y="623700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08720" y="63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291960"/>
          <a:ext cx="8147160" cy="5727960"/>
        </p:xfrm>
        <a:graphic>
          <a:graphicData uri="http://schemas.openxmlformats.org/drawingml/2006/table">
            <a:tbl>
              <a:tblPr/>
              <a:tblGrid>
                <a:gridCol w="1563840"/>
                <a:gridCol w="1646280"/>
                <a:gridCol w="1644480"/>
                <a:gridCol w="1646280"/>
                <a:gridCol w="1646280"/>
              </a:tblGrid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Алфав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апряги памя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Фразе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логиз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лово-образо-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00000" y="1268280"/>
            <a:ext cx="4095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колько букв в  </a:t>
            </a:r>
            <a:endParaRPr b="0" lang="en-US" sz="40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усском алфавите?</a:t>
            </a:r>
            <a:endParaRPr b="0" lang="en-US" sz="40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cc0099"/>
                </a:solidFill>
                <a:latin typeface="Times New Roman"/>
              </a:rPr>
              <a:t>Откуда произошло слово </a:t>
            </a:r>
            <a:r>
              <a:rPr b="1" i="1" lang="tt-RU" sz="4800" spc="-1" strike="noStrike" u="sng">
                <a:solidFill>
                  <a:srgbClr val="cc0099"/>
                </a:solidFill>
                <a:uFillTx/>
                <a:latin typeface="Times New Roman"/>
              </a:rPr>
              <a:t>азбука</a:t>
            </a:r>
            <a:r>
              <a:rPr b="1" i="1" lang="tt-RU" sz="48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00000" y="1268280"/>
            <a:ext cx="52866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Объясните значение выражения</a:t>
            </a:r>
            <a:endParaRPr b="0" lang="en-US" sz="2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"ходить фертом". </a:t>
            </a:r>
            <a:endParaRPr b="0" lang="en-US" sz="2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1640" y="1268280"/>
            <a:ext cx="637200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Эта буква появилась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в алфавите лишь в XVIII веке, 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ввёл её в употребление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Н.М.Карамзин. На родине её автора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- в Ульяновске - поставлен ей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(букве) памятник. О какой букве идёт речь?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0099"/>
                </a:solidFill>
                <a:latin typeface="Times New Roman"/>
              </a:rPr>
              <a:t>Перед вами репродукция картины Ф.П.Решетникова. Как она называет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969080" cy="403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cc0099"/>
                </a:solidFill>
                <a:latin typeface="Tahoma"/>
              </a:rPr>
              <a:t>          </a:t>
            </a:r>
            <a:r>
              <a:rPr b="1" lang="tt-RU" sz="9600" spc="-1" strike="noStrike">
                <a:solidFill>
                  <a:srgbClr val="000099"/>
                </a:solidFill>
                <a:latin typeface="Times New Roman"/>
              </a:rPr>
              <a:t>Аук</a:t>
            </a:r>
            <a:r>
              <a:rPr b="1" lang="ru-RU" sz="96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tt-RU" sz="9600" spc="-1" strike="noStrike">
                <a:solidFill>
                  <a:srgbClr val="000099"/>
                </a:solidFill>
                <a:latin typeface="Times New Roman"/>
              </a:rPr>
              <a:t>ион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451640" y="6237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 символ Родины эту фотографию берут с собой космонавты в космос на корабль. Что изображено на фотографи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7667280" y="6092640"/>
            <a:ext cx="865080" cy="43164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596360" y="630864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291960"/>
          <a:ext cx="8218440" cy="5713560"/>
        </p:xfrm>
        <a:graphic>
          <a:graphicData uri="http://schemas.openxmlformats.org/drawingml/2006/table">
            <a:tbl>
              <a:tblPr/>
              <a:tblGrid>
                <a:gridCol w="1635120"/>
                <a:gridCol w="1646280"/>
                <a:gridCol w="1644480"/>
                <a:gridCol w="1646280"/>
                <a:gridCol w="1646280"/>
              </a:tblGrid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е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фогра-ф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существительн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4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t-RU" sz="3200" spc="-1" strike="noStrike">
                <a:solidFill>
                  <a:srgbClr val="cc0099"/>
                </a:solidFill>
                <a:latin typeface="Times New Roman"/>
              </a:rPr>
              <a:t>По совету врачей Антон Павлович Чехов поехал в Крым. Здесь он тосковал по родным местам. Друг-художник, поняв его тоску, написал картину. На ней был изображён широкий луг с тёмными стогами скошенного сена. Чехову чудилось, будто идёт он по этому лугу, слышит крик сонных птиц, вдыхает запах свежего сена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 u="sng">
                <a:solidFill>
                  <a:srgbClr val="cc0099"/>
                </a:solidFill>
                <a:uFillTx/>
                <a:latin typeface="Times New Roman"/>
              </a:rPr>
              <a:t>Назовите фамилию художни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tt-RU" sz="3600" spc="-1" strike="noStrike">
                <a:solidFill>
                  <a:srgbClr val="cc0099"/>
                </a:solidFill>
                <a:latin typeface="Times New Roman"/>
              </a:rPr>
              <a:t>Восстановите пропущенные слова в стихотворении С.Есени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Звёздочки ясные, ______ высок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Что вы храните в се6е, что скрыв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______, таящие мысли глубок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Силой какою вы души пленя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Вставьте слово во фразеологиз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Смотреть как ……. на новые воро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А) бар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Б) к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В) соба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Г) кур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0099"/>
                </a:solidFill>
                <a:latin typeface="Tahoma"/>
              </a:rPr>
              <a:t>  </a:t>
            </a:r>
            <a:r>
              <a:rPr b="1" lang="tt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Два сапога па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Найдите подходящий по смыслу фразеологизм на татарском язык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ую деталь одежды надо подставить, чтобы получились фразеологизм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Лезть за словом в …….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 …….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держи ……. ши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Объясните значение фразеологиз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лясы точи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им способом образовано   слово </a:t>
            </a: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опилки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 каких словах выделяется окончание –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А) зем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Б) зл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) знам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Г) зоолог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 каком слове нет суффикса -к-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А) зм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Б) ча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) сем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Г) батар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 каких двух парах слов имеются одинаковые пристав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А) полёт – польё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Б) полезет – полезн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В) пробовать – пробив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Tahoma"/>
              </a:rPr>
              <a:t>Г) прошла - прошил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740720" y="609300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40464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слове происходит озвончение согласного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ше…ств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варе…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филосо…ск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)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 жени…ьб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164360" y="5950080"/>
            <a:ext cx="1368360" cy="431640"/>
          </a:xfrm>
          <a:prstGeom prst="rightArrow">
            <a:avLst>
              <a:gd name="adj1" fmla="val 50000"/>
              <a:gd name="adj2" fmla="val 792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960" y="620640"/>
            <a:ext cx="93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И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476280"/>
            <a:ext cx="2546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Лишне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5280" y="692280"/>
            <a:ext cx="85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Спор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640" y="2060640"/>
            <a:ext cx="1050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Загад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55600" y="2060640"/>
            <a:ext cx="1340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Синтакс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573360"/>
            <a:ext cx="4562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Говор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правиль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1360" y="1989000"/>
            <a:ext cx="4562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Рус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медвежонок -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Среди данных имён найдите одно лишнее им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Ян, Ованес, Джон, Джек, Вано, Жан, Ху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58920" y="759960"/>
            <a:ext cx="676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ое из перечисленных слов по смыслу лишне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Поэтесса, молдованка, утка, волчица, обезьяна, гусын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Каково лексическое значение слова </a:t>
            </a:r>
            <a:r>
              <a:rPr b="1" i="1" lang="tt-RU" sz="4400" spc="-1" strike="noStrike" u="sng">
                <a:solidFill>
                  <a:srgbClr val="cc0099"/>
                </a:solidFill>
                <a:uFillTx/>
                <a:latin typeface="Times New Roman"/>
              </a:rPr>
              <a:t>старт</a:t>
            </a:r>
            <a:r>
              <a:rPr b="1" lang="tt-RU" sz="4400" spc="-1" strike="noStrike">
                <a:solidFill>
                  <a:srgbClr val="cc0099"/>
                </a:solidFill>
                <a:latin typeface="Times New Roman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00000" y="2060640"/>
            <a:ext cx="799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В каком числе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столько же цифр,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сколько букв в его 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наименовании?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76360" y="1844640"/>
            <a:ext cx="595332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Перед вами отрывок 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из стихотворения А.В.Кольцова "Косарь". 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Сколько запятых здесь пропущено?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Раззудись плечо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Размахнись рука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Ты пахни в лицо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Ветер с полудня!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619280" y="1413000"/>
            <a:ext cx="73436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Как правильно сказать?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А) У рыбов нет зубов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Б) У рыбей нет зубей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В) У рыб нет зуб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Г) У рыб нет зубов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Tat"/>
              </a:rPr>
              <a:t>Д) У рыб нет зуба.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 Tat"/>
              <a:ea typeface="Times New Roman Tat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Какое из этих слов устроено не так, как друг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А) крысо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Б) свиноп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В) козод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Г) уткон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Д) пчеловод</a:t>
            </a: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200" spc="-1" strike="noStrike">
                <a:solidFill>
                  <a:srgbClr val="cc0099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Представьте на минуту, что мы лишилиь бы вдруг знания русского языка. Насколько оскудел бы наш внутренний мир, сузился кругозор, насколько беднее стали бы мы в культурном отнош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Ведь русский язык ... – золотой ключ к достижению всей мировой культу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</a:t>
            </a:r>
            <a:r>
              <a:rPr b="1" i="1" lang="tt-RU" sz="3200" spc="-1" strike="noStrike">
                <a:solidFill>
                  <a:srgbClr val="ff0000"/>
                </a:solidFill>
                <a:latin typeface="Times New Roman"/>
              </a:rPr>
              <a:t>Рафаэль Мустафин.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tt-RU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7740000" y="609336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3794"/>
                </a:moveTo>
                <a:lnTo>
                  <a:pt x="21379" y="10800"/>
                </a:lnTo>
                <a:lnTo>
                  <a:pt x="73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1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81000"/>
            <a:ext cx="748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каком слове на месте пропуска пишется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ы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А) ц...ф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Б) ц...плёно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) ж...рны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Г) серые мыш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tt-RU" sz="5400" spc="-1" strike="noStrike">
                <a:solidFill>
                  <a:srgbClr val="ff0000"/>
                </a:solidFill>
                <a:latin typeface="Times New Roman"/>
              </a:rPr>
              <a:t>Что такое фонетика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848160" y="430200"/>
            <a:ext cx="922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cc0099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В каких словах произношение 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совпадает с написанием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А) поч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Б) чтоб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В) источни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Г) точ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</a:rPr>
              <a:t>Д) скуч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0099"/>
                </a:solidFill>
                <a:latin typeface="Tahoma"/>
              </a:rPr>
              <a:t>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Какое будет окончание в именительном падеже множественного числа у сл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иректор, мастер, доктор, город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Поставьте слово </a:t>
            </a:r>
            <a:r>
              <a:rPr b="1" lang="tt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телёнок </a:t>
            </a: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в форме родительного падежа множественного чис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7812000" y="623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етод кабинет</cp:lastModifiedBy>
  <dcterms:modified xsi:type="dcterms:W3CDTF">2008-02-18T14:17:18Z</dcterms:modified>
  <cp:revision>19</cp:revision>
  <dc:subject/>
  <dc:title>PowerPoint Presentation</dc:title>
</cp:coreProperties>
</file>