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5A0-A655-4683-993D-DBF62959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348-D55A-407D-A656-55C872FB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091-9584-4EEA-B20C-98C25476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564-0282-4522-8F38-D283EF43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4AA-07F2-461E-BC5B-2C32F1CB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22D-B4FB-4C9F-AFCD-A8DC46C8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010-AB1E-41FB-BAD7-C78730A0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749-E159-4F0E-A414-81F5C9F1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8D3-1169-4290-BB88-FD31698F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CB3-3678-4C4B-A986-E66C912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37E-BEE5-4101-A0F0-1756D5E8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457-E432-4EF5-BFE7-C51B02E7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25EA-C389-4044-B837-83DA3AB9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Конкур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68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«Час веселой математи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651640" y="2205000"/>
            <a:ext cx="3024000" cy="3529080"/>
            <a:chOff x="5651640" y="2205000"/>
            <a:chExt cx="3024000" cy="35290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5651640" y="2205000"/>
              <a:ext cx="302400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5651640" y="2205000"/>
              <a:ext cx="3024000" cy="35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46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имательно посмотрите на эту табл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1547640" y="191628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335772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479736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335772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198900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494172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4869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3357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1916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V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І. Конкурс.  Расшифруйте сказку.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или были  565 и 2121.  Во дворе у них жили  78  и  8121. Приходит однажды 2121 и взволнованно говорит:  «2651!  Я вижу только  681. Ты не знаешь,  456   8121?» .  565   отвечает:  «51,  знаю. Она   3  3196»    - «но там  86  была морская  936951!  456  она?  -  «я подарил 67 внучке 19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4221000"/>
          <a:ext cx="8229600" cy="1872000"/>
        </p:xfrm>
        <a:graphic>
          <a:graphicData uri="http://schemas.openxmlformats.org/drawingml/2006/table">
            <a:tbl>
              <a:tblPr/>
              <a:tblGrid>
                <a:gridCol w="2170080"/>
                <a:gridCol w="720720"/>
                <a:gridCol w="792360"/>
                <a:gridCol w="647640"/>
                <a:gridCol w="647640"/>
                <a:gridCol w="649080"/>
                <a:gridCol w="648000"/>
                <a:gridCol w="647640"/>
                <a:gridCol w="647640"/>
                <a:gridCol w="65880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aa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ПАСИБО ЗА ИГР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  <a:ea typeface="Arial"/>
              </a:rPr>
              <a:t>І.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8" descr="колобок"/>
          <p:cNvPicPr/>
          <p:nvPr/>
        </p:nvPicPr>
        <p:blipFill>
          <a:blip r:embed="rId1"/>
          <a:stretch/>
        </p:blipFill>
        <p:spPr>
          <a:xfrm>
            <a:off x="6516720" y="4005360"/>
            <a:ext cx="2303280" cy="23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6130800" cy="492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ждой команде по очереди задаются вопросы, на которые они должны ответ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Какой ключ не отмыкает замо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акую траву и слепой узнает?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Из какой посуды не едя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колько яиц можно съесть натощ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Петух, стоя на одной ноге весит 5кг. Сколько он будет весить, стоя на двух нога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На руках 10 пальцев. Сколько пальцев на 10 рука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У родителей 6 сыновей. Каждый имеет сестру. Сколько всего детей в семь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Тройка лошадей пробежала путь 30км. Сколько пробежала каждая лошадь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Какое число приказыва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Сколько единиц в дюжин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Сколько разных букв в названии нашей стран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Когда сутки короче: зимой или лето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  <a:ea typeface="Arial"/>
              </a:rPr>
              <a:t>І.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6202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 Катались 2 сына на трёхколёсных велосипедах, и их отец – на двухколёсном велосипеде. Сколько всего было колё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 Дед, бабка, внучка, Жучка, кошка, мышка тянули-тянули и вытянул репку. Сколько глаз смотрело на репк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 Какие два числа, если их перемножить, дают такой же результат, что и при их сложени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 Из-под забора видно 6 пар лошадиных ног. Сколько этих животных во двор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 К однозначному числу приписали такую же цифру. Во сколько раз увеличилось числ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 Чтобы дойти Ивану Васильевичу до работы требуется 1,5 часа. С работы, торопясь домой, он возвращается по той же дороге за 90 минут. Чем вы объясните такую разниц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 Сколько лет двадцатилетнему человеку было 4 года назад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 Каким по счёту является “Ь” в названии последнего месяца осени?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ы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колько рогов у трех коров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колько музыкантов в квартет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Наименьшее двузначное числ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Чему равен пуд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Группа 10" descr=""/>
          <p:cNvPicPr/>
          <p:nvPr/>
        </p:nvPicPr>
        <p:blipFill>
          <a:blip r:embed="rId1"/>
          <a:stretch/>
        </p:blipFill>
        <p:spPr>
          <a:xfrm>
            <a:off x="6804000" y="3068640"/>
            <a:ext cx="216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Скрипи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з пу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5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30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Одинак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 2 и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 в 11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 Нет раз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.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 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полнительны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ІІ. Решаем вме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565360"/>
            <a:ext cx="2746440" cy="3560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й команде предлагается решить пример. Команда самостоятельно выбирает тактику своих действий таким образом, чтобы решить быстро и прави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218 : 3 + 3785 x 68) x (371 + 23 x 78 – 216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ІІІ. Конкурс 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ее трехзначное число, кратное 3. Условие: первая его цифра должна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равных числа сначала сложили , а затем их перемножили.  Сумма и произведение оказались равными. Что это за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ороге сидело 6 воробьев. К ним подлетели еще 5. Кот подкрался и схватил одного воробья. Сколько воробьев осталось сиде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е слово лишне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м, площадь, круг, стол, треуголь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36800" y="1600200"/>
            <a:ext cx="2877840" cy="452592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  <a:ea typeface="Arial"/>
              </a:rPr>
              <a:t>І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V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  <a:ea typeface="Arial"/>
              </a:rPr>
              <a:t>. Конкурс на внима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рисованное изображение кота"/>
          <p:cNvPicPr/>
          <p:nvPr/>
        </p:nvPicPr>
        <p:blipFill>
          <a:blip r:embed="rId1"/>
          <a:stretch/>
        </p:blipFill>
        <p:spPr>
          <a:xfrm>
            <a:off x="5867280" y="3789360"/>
            <a:ext cx="2952720" cy="2505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1916280"/>
            <a:ext cx="1706400" cy="1584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1916280"/>
            <a:ext cx="1778040" cy="1728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1557360"/>
            <a:ext cx="1849320" cy="15112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кое число записано в квадрате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ким цветом нарисован круг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 какой фигуре записано число 9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кая фигура стоит послед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рисованное изображение кота"/>
          <p:cNvPicPr/>
          <p:nvPr/>
        </p:nvPicPr>
        <p:blipFill>
          <a:blip r:embed="rId2"/>
          <a:stretch/>
        </p:blipFill>
        <p:spPr>
          <a:xfrm>
            <a:off x="5991120" y="1916280"/>
            <a:ext cx="297360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V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. Конкурс. Вопросы команд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 Сколько времени прошло с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0 часов вечера до 7 часов у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ая из величин больше и на сколько 6 км 48 м  или  752 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нни-Пух сочинил 45 шумелок.    3/5 всех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умелок Сова записала в тетрадь. Сколько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умелок Сова ещё не успела запис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йдите площадь и периметр прямоугольника со сторонами 8 м и  6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тор учебника математики, по которому вы занимаете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ринные меры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Группа 10" descr=""/>
          <p:cNvPicPr/>
          <p:nvPr/>
        </p:nvPicPr>
        <p:blipFill>
          <a:blip r:embed="rId2"/>
          <a:stretch/>
        </p:blipFill>
        <p:spPr>
          <a:xfrm>
            <a:off x="6732720" y="3213000"/>
            <a:ext cx="2411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38:49Z</dcterms:created>
  <dc:creator>Admin</dc:creator>
  <dc:description/>
  <dc:language>en-US</dc:language>
  <cp:lastModifiedBy>Admin</cp:lastModifiedBy>
  <dcterms:modified xsi:type="dcterms:W3CDTF">2003-12-31T23:21:02Z</dcterms:modified>
  <cp:revision>4</cp:revision>
  <dc:subject/>
  <dc:title>Конкурс</dc:title>
</cp:coreProperties>
</file>