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7524-2C31-4488-A0D0-DCDF3A641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0997-F948-4EAA-80AC-5B6035021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E9E0-E2D1-4E23-AC7E-FB543014E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C523-7144-4ADD-9170-D5C44285A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71C2-41E1-4314-84A6-5FB0CAD07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F389-1D81-44AC-8808-4F142EA1E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07E3-8A3D-4ABD-8573-492077F55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C554-5B58-497F-9619-853ECA987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F529-4CD2-45BA-9685-109878EE1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53AE-58BD-40FB-B4A5-F6C895CAE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45C9-878B-4D9C-940D-F1830321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0E4E-D93B-4417-8A88-E61871DE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F4CDE-8FE2-41B6-A23A-688F5DCE9B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cc"/>
                </a:solidFill>
                <a:latin typeface="Times New Roman"/>
              </a:rPr>
              <a:t>Конкур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4686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«Час веселой математики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651640" y="2205000"/>
            <a:ext cx="3024000" cy="3529080"/>
            <a:chOff x="5651640" y="2205000"/>
            <a:chExt cx="3024000" cy="3529080"/>
          </a:xfrm>
        </p:grpSpPr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5651640" y="2205000"/>
              <a:ext cx="3024000" cy="352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 txBox="1"/>
            <p:nvPr/>
          </p:nvSpPr>
          <p:spPr>
            <a:xfrm>
              <a:off x="5651640" y="2205000"/>
              <a:ext cx="3024000" cy="3529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546"/>
            </a:gs>
            <a:gs pos="100000">
              <a:srgbClr val="99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нимательно посмотрите на эту таблиц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2743200"/>
                <a:gridCol w="2742840"/>
                <a:gridCol w="2743200"/>
              </a:tblGrid>
              <a:tr h="150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"/>
          <p:cNvSpPr/>
          <p:nvPr/>
        </p:nvSpPr>
        <p:spPr>
          <a:xfrm>
            <a:off x="1547640" y="1916280"/>
            <a:ext cx="914400" cy="914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164360" y="3357720"/>
            <a:ext cx="914400" cy="914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427640" y="4797360"/>
            <a:ext cx="914400" cy="914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476360" y="335772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140360" y="198900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948360" y="494172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476360" y="486900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11640" y="335772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948360" y="191628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00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V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І. Конкурс.  Расшифруйте сказку.</a:t>
            </a:r>
            <a:br>
              <a:rPr sz="32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Жили были  565 и 2121.  Во дворе у них жили  78  и  8121. Приходит однажды 2121 и взволнованно говорит:  «2651!  Я вижу только  681. Ты не знаешь,  456   8121?» .  565   отвечает:  «51,  знаю. Она   3  3196»    - «но там  86  была морская  936951!  456  она?  -  «я подарил 67 внучке 196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57200" y="4221000"/>
          <a:ext cx="8229600" cy="1872000"/>
        </p:xfrm>
        <a:graphic>
          <a:graphicData uri="http://schemas.openxmlformats.org/drawingml/2006/table">
            <a:tbl>
              <a:tblPr/>
              <a:tblGrid>
                <a:gridCol w="2170080"/>
                <a:gridCol w="720720"/>
                <a:gridCol w="792360"/>
                <a:gridCol w="647640"/>
                <a:gridCol w="647640"/>
                <a:gridCol w="649080"/>
                <a:gridCol w="648000"/>
                <a:gridCol w="647640"/>
                <a:gridCol w="647640"/>
                <a:gridCol w="658800"/>
              </a:tblGrid>
              <a:tr h="95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ук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aa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aa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aa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aa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aa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aa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aa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aa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aa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aad4"/>
                    </a:solidFill>
                  </a:tcPr>
                </a:tc>
              </a:tr>
              <a:tr h="91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иф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4aa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4aa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4aa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4aa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4aa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4aa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4aa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4aa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4aa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4aad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МОЛОДЦЫ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СПАСИБО ЗА ИГРУ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66"/>
                </a:solidFill>
                <a:latin typeface="Arial"/>
                <a:ea typeface="Arial"/>
              </a:rPr>
              <a:t>І. Разми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8" descr="колобок"/>
          <p:cNvPicPr/>
          <p:nvPr/>
        </p:nvPicPr>
        <p:blipFill>
          <a:blip r:embed="rId1"/>
          <a:stretch/>
        </p:blipFill>
        <p:spPr>
          <a:xfrm>
            <a:off x="6516720" y="4005360"/>
            <a:ext cx="2303280" cy="2303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6130800" cy="49291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ждой команде по очереди задаются вопросы, на которые они должны ответи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Какой ключ не отмыкает замок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Какую траву и слепой узнает?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Из какой посуды не едят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Сколько яиц можно съесть натощак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Петух, стоя на одной ноге весит 5кг. Сколько он будет весить, стоя на двух ногах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На руках 10 пальцев. Сколько пальцев на 10 руках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У родителей 6 сыновей. Каждый имеет сестру. Сколько всего детей в семье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Тройка лошадей пробежала путь 30км. Сколько пробежала каждая лошадь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Какое число приказывает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. Сколько единиц в дюжине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.Сколько разных букв в названии нашей страны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Когда сутки короче: зимой или летом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66"/>
                </a:solidFill>
                <a:latin typeface="Arial"/>
                <a:ea typeface="Arial"/>
              </a:rPr>
              <a:t>І. Разми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620244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.  Катались 2 сына на трёхколёсных велосипедах, и их отец – на двухколёсном велосипеде. Сколько всего было колёс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.  Дед, бабка, внучка, Жучка, кошка, мышка тянули-тянули и вытянул репку. Сколько глаз смотрело на репку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.  Какие два числа, если их перемножить, дают такой же результат, что и при их сложении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.  Из-под забора видно 6 пар лошадиных ног. Сколько этих животных во дворе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.  К однозначному числу приписали такую же цифру. Во сколько раз увеличилось число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8.  Чтобы дойти Ивану Васильевичу до работы требуется 1,5 часа. С работы, торопясь домой, он возвращается по той же дороге за 90 минут. Чем вы объясните такую разницу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9.  Сколько лет двадцатилетнему человеку было 4 года назад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.  Каким по счёту является “Ь” в названии последнего месяца осени?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ополнительные вопрос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Сколько рогов у трех коров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Сколько музыкантов в квартете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Наименьшее двузначное число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Чему равен пуд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Группа 10" descr=""/>
          <p:cNvPicPr/>
          <p:nvPr/>
        </p:nvPicPr>
        <p:blipFill>
          <a:blip r:embed="rId1"/>
          <a:stretch/>
        </p:blipFill>
        <p:spPr>
          <a:xfrm>
            <a:off x="6804000" y="3068640"/>
            <a:ext cx="216072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в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Скрипич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Крапив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Из пуст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Од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5к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30к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. Т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.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.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. Одинако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125000"/>
            <a:ext cx="40384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.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.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. 2 и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.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7. в 11 р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. Нет разн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. 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. 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ополнительные вопрос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ІІ. Решаем вмест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2565360"/>
            <a:ext cx="2746440" cy="35607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564000" y="1600200"/>
            <a:ext cx="512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ждой команде предлагается решить пример. Команда самостоятельно выбирает тактику своих действий таким образом, чтобы решить быстро и правиль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218 : 3 + 3785 x 68) x (371 + 23 x 78 – 216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99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ІІІ. Конкурс капитан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именьшее трехзначное число, кратное 3. Условие: первая его цифра должна бы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ри равных числа сначала сложили , а затем их перемножили.  Сумма и произведение оказались равными. Что это за числ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дороге сидело 6 воробьев. К ним подлетели еще 5. Кот подкрался и схватил одного воробья. Сколько воробьев осталось сидет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ое слово лишне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ъем, площадь, круг, стол, треугольни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036800" y="1600200"/>
            <a:ext cx="2877840" cy="4525920"/>
          </a:xfrm>
          <a:prstGeom prst="rect">
            <a:avLst/>
          </a:prstGeom>
          <a:ln w="9360">
            <a:solidFill>
              <a:srgbClr val="99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  <a:ea typeface="Arial"/>
              </a:rPr>
              <a:t>І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  <a:ea typeface="Arial"/>
              </a:rPr>
              <a:t>V</a:t>
            </a:r>
            <a:r>
              <a:rPr b="0" lang="ru-RU" sz="4000" spc="-1" strike="noStrike">
                <a:solidFill>
                  <a:srgbClr val="ff3300"/>
                </a:solidFill>
                <a:latin typeface="Arial"/>
                <a:ea typeface="Arial"/>
              </a:rPr>
              <a:t>. Конкурс на вниматель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рисованное изображение кота"/>
          <p:cNvPicPr/>
          <p:nvPr/>
        </p:nvPicPr>
        <p:blipFill>
          <a:blip r:embed="rId1"/>
          <a:stretch/>
        </p:blipFill>
        <p:spPr>
          <a:xfrm>
            <a:off x="5867280" y="3789360"/>
            <a:ext cx="2952720" cy="25052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84360" y="1916280"/>
            <a:ext cx="1706400" cy="1584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987640" y="1916280"/>
            <a:ext cx="1778040" cy="1728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219640" y="1557360"/>
            <a:ext cx="1849320" cy="151128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39640" y="4076640"/>
            <a:ext cx="179568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99"/>
                </a:solidFill>
                <a:latin typeface="Arial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9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Какое число записано в квадрате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Каким цветом нарисован круг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В какой фигуре записано число 9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Какая фигура стоит последне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рисованное изображение кота"/>
          <p:cNvPicPr/>
          <p:nvPr/>
        </p:nvPicPr>
        <p:blipFill>
          <a:blip r:embed="rId2"/>
          <a:stretch/>
        </p:blipFill>
        <p:spPr>
          <a:xfrm>
            <a:off x="5991120" y="1916280"/>
            <a:ext cx="2973600" cy="26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Arial"/>
              </a:rPr>
              <a:t>V</a:t>
            </a:r>
            <a:r>
              <a:rPr b="0" lang="ru-RU" sz="3600" spc="-1" strike="noStrike">
                <a:solidFill>
                  <a:srgbClr val="ff0066"/>
                </a:solidFill>
                <a:latin typeface="Arial"/>
                <a:ea typeface="Arial"/>
              </a:rPr>
              <a:t>. Конкурс. Вопросы команд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13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.  Сколько времени прошло с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0 часов вечера до 7 часов ут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акая из величин больше и на сколько 6 км 48 м  или  752 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инни-Пух сочинил 45 шумелок.    3/5 всех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шумелок Сова записала в тетрадь. Сколько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шумелок Сова ещё не успела записа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йдите площадь и периметр прямоугольника со сторонами 8 м и  6 с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втор учебника математики, по которому вы занимаетес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таринные меры дл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Группа 10" descr=""/>
          <p:cNvPicPr/>
          <p:nvPr/>
        </p:nvPicPr>
        <p:blipFill>
          <a:blip r:embed="rId2"/>
          <a:stretch/>
        </p:blipFill>
        <p:spPr>
          <a:xfrm>
            <a:off x="6732720" y="3213000"/>
            <a:ext cx="24112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31T21:38:49Z</dcterms:created>
  <dc:creator>Admin</dc:creator>
  <dc:description/>
  <dc:language>en-US</dc:language>
  <cp:lastModifiedBy>Admin</cp:lastModifiedBy>
  <dcterms:modified xsi:type="dcterms:W3CDTF">2003-12-31T23:21:02Z</dcterms:modified>
  <cp:revision>4</cp:revision>
  <dc:subject/>
  <dc:title>Конкурс</dc:title>
</cp:coreProperties>
</file>