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4.jpeg" ContentType="image/jpeg"/>
  <Override PartName="/ppt/media/image40.jpeg" ContentType="image/jpeg"/>
  <Override PartName="/ppt/media/image49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36.jpeg" ContentType="image/jpeg"/>
  <Override PartName="/ppt/media/image58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618-A198-4E43-8984-0C951B6B27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F7E-8BAC-4FD3-8FD6-1E092822862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984-D76B-4372-B950-C3E9D2E3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F13-0185-4752-B4AE-3CAF4B5A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339-0981-43EB-9551-083B7D47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187-3C83-404D-9ACE-BAAE1D9F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E4E6-9561-4AE7-9900-D1043D66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B80C-56FB-4051-B845-A8478C6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A592-0D5C-4852-A889-3D7720B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7EDB-FF92-4D88-B860-4CDDCA68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8827-2292-4B1C-9EC9-F4E80CED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BE00-DAB3-471E-88D0-919DFAB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C07A-BC10-46B8-914B-55E698BB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BE0-5FBB-4325-B8AA-6154974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6CF4-8968-4826-9132-6E935FE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502B-9351-4842-B50C-09253EA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320B-668B-41C6-AF6C-14E43319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A769-B113-4C48-B28E-CFFFD88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F2EA-E408-4F1D-85D8-60599FDD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000-7D1B-4BD8-B111-AE40CB1E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E83-B689-4DCA-85F8-107BF29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D11-4A1D-43E9-8C6D-17B2AFC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06B-47F7-4CA4-9449-045677B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AEA-B9F9-4D6E-9F0B-2BC93F1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06F-59B3-4232-A2C3-08200DFD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52F-9D28-4A30-B82C-6F82050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9488-02A1-4FD2-907F-295A1F6D80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E069-00FC-4CB6-8BEA-3E85AC0FCE1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&#1043;&#1083;&#1080;&#1085;&#1072;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4;&#1077;&#1089;&#1090;&#1100;_&#1086;_&#1043;&#1101;&#1085;&#1076;&#1079;&#1080;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400" y="1369800"/>
            <a:ext cx="5594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льтура Япон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стижение гармонии с природ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272880" y="55944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МОУ «Бельская СОШ» Тверской области Усачёва 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настырь Хорюдзи. Пагода и храмовый ансамбль. Нара. 7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7" descr="img389"/>
          <p:cNvPicPr/>
          <p:nvPr/>
        </p:nvPicPr>
        <p:blipFill>
          <a:blip r:embed="rId1"/>
          <a:stretch/>
        </p:blipFill>
        <p:spPr>
          <a:xfrm>
            <a:off x="304920" y="1828800"/>
            <a:ext cx="2933640" cy="3886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img390"/>
          <p:cNvPicPr/>
          <p:nvPr/>
        </p:nvPicPr>
        <p:blipFill>
          <a:blip r:embed="rId2"/>
          <a:stretch/>
        </p:blipFill>
        <p:spPr>
          <a:xfrm>
            <a:off x="3505320" y="1981080"/>
            <a:ext cx="5486400" cy="359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буддистской архитектуры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2" descr="C:\Users\Australia\Desktop\isi224a.bmp"/>
          <p:cNvPicPr/>
          <p:nvPr/>
        </p:nvPicPr>
        <p:blipFill>
          <a:blip r:embed="rId1"/>
          <a:stretch/>
        </p:blipFill>
        <p:spPr>
          <a:xfrm>
            <a:off x="228600" y="1752480"/>
            <a:ext cx="7269120" cy="370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Храм Кондо (Золотой зал)монастыря Хорюдзи близ Нары. 7 век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6" descr="img391"/>
          <p:cNvPicPr/>
          <p:nvPr/>
        </p:nvPicPr>
        <p:blipFill>
          <a:blip r:embed="rId1"/>
          <a:stretch/>
        </p:blipFill>
        <p:spPr>
          <a:xfrm>
            <a:off x="457200" y="1676520"/>
            <a:ext cx="6934320" cy="48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Алтарный ансамбль храма Кондо монастыря Хорюдзи. Мастер Тори. 7 век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6" descr="img392"/>
          <p:cNvPicPr/>
          <p:nvPr/>
        </p:nvPicPr>
        <p:blipFill>
          <a:blip r:embed="rId1"/>
          <a:stretch/>
        </p:blipFill>
        <p:spPr>
          <a:xfrm>
            <a:off x="2286000" y="1371600"/>
            <a:ext cx="3753000" cy="5259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191120" y="1598760"/>
            <a:ext cx="34588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кульптура из Корюдзи, представляющая медитирующего бодхисаттву, отличается миловидным лицом и изысканными жеста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5" descr="attach"/>
          <p:cNvPicPr/>
          <p:nvPr/>
        </p:nvPicPr>
        <p:blipFill>
          <a:blip r:embed="rId2"/>
          <a:stretch/>
        </p:blipFill>
        <p:spPr>
          <a:xfrm>
            <a:off x="304920" y="685800"/>
            <a:ext cx="4190760" cy="532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мещение в 794 г. столицы в Хэйан (совр. Киото) положило начало так называемому периоду Хэйан (794—1185). Это время кризиса централизованного государства, подъема национального творческого сознания, возрождения многочисленных элементов синтоистской культур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22680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рам Феникса. Монастырь Бёдоин близ Киото. 1053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Picture 6" descr="img393"/>
          <p:cNvPicPr/>
          <p:nvPr/>
        </p:nvPicPr>
        <p:blipFill>
          <a:blip r:embed="rId1"/>
          <a:stretch/>
        </p:blipFill>
        <p:spPr>
          <a:xfrm>
            <a:off x="1676520" y="1523880"/>
            <a:ext cx="4552920" cy="4876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атуя Будды Амиды в Павильоне Феникса. 1053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attach"/>
          <p:cNvPicPr/>
          <p:nvPr/>
        </p:nvPicPr>
        <p:blipFill>
          <a:blip r:embed="rId1"/>
          <a:stretch/>
        </p:blipFill>
        <p:spPr>
          <a:xfrm>
            <a:off x="1828800" y="1676520"/>
            <a:ext cx="3597120" cy="4800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витое средневеков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63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-16 в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но-но-аварэ («печальное очарование вещей»).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ирическая поэзия в жанре танка («короткая песня»).Нерифмованное пятистишее, состоящее из 31 слога по формуле: 5+7+5+7+7. В танка ценилось лаконичное изящество и умение передать душевное состояние челове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3-1 тысячелетие до н.э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2" descr="C:\Documents and Settings\УсачёвА\Рабочий стол\424px-JomonStatue.JPG"/>
          <p:cNvPicPr/>
          <p:nvPr/>
        </p:nvPicPr>
        <p:blipFill>
          <a:blip r:embed="rId1"/>
          <a:stretch/>
        </p:blipFill>
        <p:spPr>
          <a:xfrm>
            <a:off x="533520" y="1365120"/>
            <a:ext cx="3504960" cy="4961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4267080" y="1447920"/>
            <a:ext cx="3353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гу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(«глиняная кукла») —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глиняная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фигурка человека или животного (символ плодородия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и-но Цураюки. 10 в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уман весенний, для чего ты скрыл Те вишни, что окончили цветенье На склонах гор?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Не блеск нам только мил-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И увяданья миг достоин восхищенья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951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и-но Цураю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сквозь туман вишнёвые цветы На горных склонах раннею весною Белеют вдалеке,-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Так промелькнула ты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Но сердце всё полно тобою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499520" cy="605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омо Табит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т и время пришло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Мне домой возвращаться…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Но в далёкой столице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Чей мне будет рукав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Изголовьем душистым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УсачёвА\Рабочий стол\386px-SesshuShuutouTou.jpg"/>
          <p:cNvPicPr/>
          <p:nvPr/>
        </p:nvPicPr>
        <p:blipFill>
          <a:blip r:embed="rId1"/>
          <a:stretch/>
        </p:blipFill>
        <p:spPr>
          <a:xfrm>
            <a:off x="1600200" y="324000"/>
            <a:ext cx="4021200" cy="62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кку (хайку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рифмованные трёхстишья, состоящие из 17 слогов по формуле: 5+7+5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ИЁ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Вот бабочка слегк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Крылышками дрогнула…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Что грезится теб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асё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ве вы тоже из тех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Кто не спит, опьянён цветами,        О, мыши на черда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гостинице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Со мной под одною кровл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Две девушки… ветки хаги в цвету  И одинокий месяц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Хаги - кустарник с розовыми цвет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Ямато-э («японская живопись»). Сэссю. Пейзаж. 1495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Picture 6" descr="img396"/>
          <p:cNvPicPr/>
          <p:nvPr/>
        </p:nvPicPr>
        <p:blipFill>
          <a:blip r:embed="rId1"/>
          <a:stretch/>
        </p:blipFill>
        <p:spPr>
          <a:xfrm>
            <a:off x="2514600" y="1600200"/>
            <a:ext cx="2705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Фудзияма Такаёси. 12 век. Иллюстрации к «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Повести о принце Гэндзи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Picture 2" descr="C:\Documents and Settings\УсачёвА\Рабочий стол\550px-Ch42_nioumiya.jpg"/>
          <p:cNvPicPr/>
          <p:nvPr/>
        </p:nvPicPr>
        <p:blipFill>
          <a:blip r:embed="rId2"/>
          <a:stretch/>
        </p:blipFill>
        <p:spPr>
          <a:xfrm>
            <a:off x="1523880" y="1295280"/>
            <a:ext cx="4876920" cy="53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ннее средневеков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45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-12 в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удзивара Таканобу. Портрет Минамото Ёритомо. 12-13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6" descr="img395"/>
          <p:cNvPicPr/>
          <p:nvPr/>
        </p:nvPicPr>
        <p:blipFill>
          <a:blip r:embed="rId1"/>
          <a:stretch/>
        </p:blipFill>
        <p:spPr>
          <a:xfrm>
            <a:off x="2133720" y="1523880"/>
            <a:ext cx="38462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кэбана («цветы, которые живут»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1" name="Picture 8" descr="img397"/>
          <p:cNvPicPr/>
          <p:nvPr/>
        </p:nvPicPr>
        <p:blipFill>
          <a:blip r:embed="rId1"/>
          <a:srcRect l="0" t="0" r="-369" b="0"/>
          <a:stretch/>
        </p:blipFill>
        <p:spPr>
          <a:xfrm>
            <a:off x="2895480" y="213372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img398"/>
          <p:cNvPicPr/>
          <p:nvPr/>
        </p:nvPicPr>
        <p:blipFill>
          <a:blip r:embed="rId2"/>
          <a:stretch/>
        </p:blipFill>
        <p:spPr>
          <a:xfrm>
            <a:off x="457200" y="1447920"/>
            <a:ext cx="1998720" cy="2971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img399"/>
          <p:cNvPicPr/>
          <p:nvPr/>
        </p:nvPicPr>
        <p:blipFill>
          <a:blip r:embed="rId3"/>
          <a:stretch/>
        </p:blipFill>
        <p:spPr>
          <a:xfrm>
            <a:off x="5486400" y="3657600"/>
            <a:ext cx="1973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кэбана из чего угодно, из любых материа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5" name="Picture 2" descr="C:\Documents and Settings\УсачёвА\Рабочий стол\800px-Ikebana_morimono.JPG"/>
          <p:cNvPicPr/>
          <p:nvPr/>
        </p:nvPicPr>
        <p:blipFill>
          <a:blip r:embed="rId1"/>
          <a:stretch/>
        </p:blipFill>
        <p:spPr>
          <a:xfrm>
            <a:off x="30492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кэбана с использованием низких широких сосуд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Picture 2" descr="C:\Documents and Settings\УсачёвА\Рабочий стол\800px-Ikebana_free_style.JPG"/>
          <p:cNvPicPr/>
          <p:nvPr/>
        </p:nvPicPr>
        <p:blipFill>
          <a:blip r:embed="rId1"/>
          <a:stretch/>
        </p:blipFill>
        <p:spPr>
          <a:xfrm>
            <a:off x="380880" y="1371600"/>
            <a:ext cx="6701040" cy="50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нса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Бонса́й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(«выращенное в подносе») — искусство выращивания точной копии настоящего дерева в миниатюре. Слово «бонсай» происходит от китайского «пэнь-цай». Возникло искусство в 231 году до н. э. в Кита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2" descr="C:\Documents and Settings\УсачёвА\Рабочий стол\800px-Bonsaisyd.jpg"/>
          <p:cNvPicPr/>
          <p:nvPr/>
        </p:nvPicPr>
        <p:blipFill>
          <a:blip r:embed="rId2"/>
          <a:stretch/>
        </p:blipFill>
        <p:spPr>
          <a:xfrm>
            <a:off x="228600" y="1066680"/>
            <a:ext cx="7421400" cy="556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кусство создания садов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скусство создания садов было давно известно на Дальнем Востоке. Традиционный сад (состоявший из деревьев, кустарников, искусственного водоема, мостов ) был непременным атрибутом буддийских монастырей, а также резиденций правителей и знати. С 14 века монастырские сады стали организовываться на основе учения, согласно которому просветление достигается созерцанием природы во всем ее величии и бесконечной изменчивости. Среди японских садов можно выделить два основных типа: пейзажный — состоявший из камней, деревьев, мхов, водоемов, и плоский (состоявший из песка и камней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ады мхов берут свое начало со времен раннего буддизма.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кцент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 саду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делался на фактуре поверхности и различии оттенков зелени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4" name="Picture 5" descr="attach"/>
          <p:cNvPicPr/>
          <p:nvPr/>
        </p:nvPicPr>
        <p:blipFill>
          <a:blip r:embed="rId1"/>
          <a:stretch/>
        </p:blipFill>
        <p:spPr>
          <a:xfrm>
            <a:off x="762120" y="1676520"/>
            <a:ext cx="6303960" cy="472572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999800" y="6324480"/>
            <a:ext cx="38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ад монастыря Сайходзи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. 133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226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ад камней Рёандзи. 15 век. Киот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Picture 6" descr="img400"/>
          <p:cNvPicPr/>
          <p:nvPr/>
        </p:nvPicPr>
        <p:blipFill>
          <a:blip r:embed="rId1"/>
          <a:stretch/>
        </p:blipFill>
        <p:spPr>
          <a:xfrm>
            <a:off x="1143000" y="1752480"/>
            <a:ext cx="57150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9" name="Picture 2" descr="C:\Documents and Settings\УсачёвА\Рабочий стол\4250.jpg"/>
          <p:cNvPicPr/>
          <p:nvPr/>
        </p:nvPicPr>
        <p:blipFill>
          <a:blip r:embed="rId1"/>
          <a:stretch/>
        </p:blipFill>
        <p:spPr>
          <a:xfrm>
            <a:off x="250920" y="685800"/>
            <a:ext cx="8094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61960" y="22680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ад Лу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1" name="Picture 6" descr="img401"/>
          <p:cNvPicPr/>
          <p:nvPr/>
        </p:nvPicPr>
        <p:blipFill>
          <a:blip r:embed="rId1"/>
          <a:stretch/>
        </p:blipFill>
        <p:spPr>
          <a:xfrm>
            <a:off x="2057400" y="167652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26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анивы «воин», «конь», «курица». 6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6" descr="img388"/>
          <p:cNvPicPr/>
          <p:nvPr/>
        </p:nvPicPr>
        <p:blipFill>
          <a:blip r:embed="rId1"/>
          <a:stretch/>
        </p:blipFill>
        <p:spPr>
          <a:xfrm>
            <a:off x="609480" y="1371600"/>
            <a:ext cx="2475000" cy="516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img386"/>
          <p:cNvPicPr/>
          <p:nvPr/>
        </p:nvPicPr>
        <p:blipFill>
          <a:blip r:embed="rId2"/>
          <a:stretch/>
        </p:blipFill>
        <p:spPr>
          <a:xfrm>
            <a:off x="3733920" y="1371600"/>
            <a:ext cx="1971720" cy="2666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img387"/>
          <p:cNvPicPr/>
          <p:nvPr/>
        </p:nvPicPr>
        <p:blipFill>
          <a:blip r:embed="rId3"/>
          <a:stretch/>
        </p:blipFill>
        <p:spPr>
          <a:xfrm>
            <a:off x="5029200" y="4267080"/>
            <a:ext cx="2438280" cy="2328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Documents and Settings\УсачёвА\Рабочий стол\800px-Anyoin02_1024.jpg"/>
          <p:cNvPicPr/>
          <p:nvPr/>
        </p:nvPicPr>
        <p:blipFill>
          <a:blip r:embed="rId1"/>
          <a:stretch/>
        </p:blipFill>
        <p:spPr>
          <a:xfrm>
            <a:off x="457200" y="1066680"/>
            <a:ext cx="80056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молчан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терпен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спокойств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созерцанию.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мни учили меня бесконечности мирозда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тоятель дзенского монастыр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суда для чайной церемонии (тя-но-ю)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5" name="Picture 6" descr="img402"/>
          <p:cNvPicPr/>
          <p:nvPr/>
        </p:nvPicPr>
        <p:blipFill>
          <a:blip r:embed="rId1"/>
          <a:stretch/>
        </p:blipFill>
        <p:spPr>
          <a:xfrm>
            <a:off x="380880" y="1447920"/>
            <a:ext cx="2838600" cy="49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" descr=""/>
          <p:cNvPicPr/>
          <p:nvPr/>
        </p:nvPicPr>
        <p:blipFill>
          <a:blip r:embed="rId2"/>
          <a:stretch/>
        </p:blipFill>
        <p:spPr>
          <a:xfrm>
            <a:off x="3581280" y="2438280"/>
            <a:ext cx="52578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Дворцовый ансамбль Кацура. Ок. 1620—58. Чайный павильон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8" name="Picture 5" descr="attach"/>
          <p:cNvPicPr/>
          <p:nvPr/>
        </p:nvPicPr>
        <p:blipFill>
          <a:blip r:embed="rId1"/>
          <a:stretch/>
        </p:blipFill>
        <p:spPr>
          <a:xfrm>
            <a:off x="685800" y="1395360"/>
            <a:ext cx="6400800" cy="479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айная церемо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0" name="Picture 2" descr="C:\Documents and Settings\УсачёвА\Рабочий стол\800px-Toshihana_tea_ceremony.jpg"/>
          <p:cNvPicPr/>
          <p:nvPr/>
        </p:nvPicPr>
        <p:blipFill>
          <a:blip r:embed="rId1"/>
          <a:stretch/>
        </p:blipFill>
        <p:spPr>
          <a:xfrm>
            <a:off x="609480" y="16002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атуя божества – хранителя. 1203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6" descr="img405"/>
          <p:cNvPicPr/>
          <p:nvPr/>
        </p:nvPicPr>
        <p:blipFill>
          <a:blip r:embed="rId1"/>
          <a:stretch/>
        </p:blipFill>
        <p:spPr>
          <a:xfrm>
            <a:off x="2666880" y="1170000"/>
            <a:ext cx="2667240" cy="53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атуя Великого Будды. 1252 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4" name="Picture 6" descr="img406"/>
          <p:cNvPicPr/>
          <p:nvPr/>
        </p:nvPicPr>
        <p:blipFill>
          <a:blip r:embed="rId1"/>
          <a:stretch/>
        </p:blipFill>
        <p:spPr>
          <a:xfrm>
            <a:off x="1905120" y="1676520"/>
            <a:ext cx="4078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днее средневеков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6605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60-е гг.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22680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мок сёгуна Нидзё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Picture 6" descr="img407"/>
          <p:cNvPicPr/>
          <p:nvPr/>
        </p:nvPicPr>
        <p:blipFill>
          <a:blip r:embed="rId1"/>
          <a:stretch/>
        </p:blipFill>
        <p:spPr>
          <a:xfrm>
            <a:off x="2209680" y="1600200"/>
            <a:ext cx="380844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2680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мок Химэдзи («Замок белой цапли»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Picture 6" descr="img408"/>
          <p:cNvPicPr/>
          <p:nvPr/>
        </p:nvPicPr>
        <p:blipFill>
          <a:blip r:embed="rId1"/>
          <a:stretch/>
        </p:blipFill>
        <p:spPr>
          <a:xfrm>
            <a:off x="2209680" y="1676520"/>
            <a:ext cx="3581640" cy="47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2268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анива  «до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C:\Documents and Settings\УсачёвА\Рабочий стол\HaniwaHouse.JPG"/>
          <p:cNvPicPr/>
          <p:nvPr/>
        </p:nvPicPr>
        <p:blipFill>
          <a:blip r:embed="rId1"/>
          <a:stretch/>
        </p:blipFill>
        <p:spPr>
          <a:xfrm>
            <a:off x="1143000" y="1360440"/>
            <a:ext cx="5486400" cy="510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ёсюсай Сяраку. Гравюры серии «Актёры театра Кабуки». 18 в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2" name="Picture 6" descr="img409"/>
          <p:cNvPicPr/>
          <p:nvPr/>
        </p:nvPicPr>
        <p:blipFill>
          <a:blip r:embed="rId1"/>
          <a:stretch/>
        </p:blipFill>
        <p:spPr>
          <a:xfrm>
            <a:off x="609480" y="1752480"/>
            <a:ext cx="2868840" cy="4497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img410"/>
          <p:cNvPicPr/>
          <p:nvPr/>
        </p:nvPicPr>
        <p:blipFill>
          <a:blip r:embed="rId2"/>
          <a:stretch/>
        </p:blipFill>
        <p:spPr>
          <a:xfrm>
            <a:off x="4419720" y="1752480"/>
            <a:ext cx="2868480" cy="44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ьный театр дзёрур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5" name="Picture 2" descr="C:\Documents and Settings\УсачёвА\Рабочий стол\teatr-dzeruri.jpg"/>
          <p:cNvPicPr/>
          <p:nvPr/>
        </p:nvPicPr>
        <p:blipFill>
          <a:blip r:embed="rId1"/>
          <a:stretch/>
        </p:blipFill>
        <p:spPr>
          <a:xfrm>
            <a:off x="121932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УсачёвА\Рабочий стол\bunraku.jpg"/>
          <p:cNvPicPr/>
          <p:nvPr/>
        </p:nvPicPr>
        <p:blipFill>
          <a:blip r:embed="rId2"/>
          <a:stretch/>
        </p:blipFill>
        <p:spPr>
          <a:xfrm>
            <a:off x="52560" y="533520"/>
            <a:ext cx="90230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итагава Утамаро.Гравюры серии «Прекраснейшие женщины современности».18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0" name="Picture 9" descr="img411"/>
          <p:cNvPicPr/>
          <p:nvPr/>
        </p:nvPicPr>
        <p:blipFill>
          <a:blip r:embed="rId1"/>
          <a:stretch/>
        </p:blipFill>
        <p:spPr>
          <a:xfrm>
            <a:off x="533520" y="1752480"/>
            <a:ext cx="2997000" cy="4496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img412"/>
          <p:cNvPicPr/>
          <p:nvPr/>
        </p:nvPicPr>
        <p:blipFill>
          <a:blip r:embed="rId2"/>
          <a:srcRect l="0" t="0" r="-2231" b="0"/>
          <a:stretch/>
        </p:blipFill>
        <p:spPr>
          <a:xfrm>
            <a:off x="4191120" y="1752480"/>
            <a:ext cx="3022560" cy="4496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7920" y="22680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эцкэ. 18-19 в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3" name="Picture 7" descr="img403"/>
          <p:cNvPicPr/>
          <p:nvPr/>
        </p:nvPicPr>
        <p:blipFill>
          <a:blip r:embed="rId1"/>
          <a:stretch/>
        </p:blipFill>
        <p:spPr>
          <a:xfrm>
            <a:off x="685800" y="1195560"/>
            <a:ext cx="2351160" cy="5281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img404"/>
          <p:cNvPicPr/>
          <p:nvPr/>
        </p:nvPicPr>
        <p:blipFill>
          <a:blip r:embed="rId2"/>
          <a:stretch/>
        </p:blipFill>
        <p:spPr>
          <a:xfrm>
            <a:off x="3809880" y="1752480"/>
            <a:ext cx="3332160" cy="472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эцкэ - это брелок или противовес, с помощью которого на поясе носят кисет с табаком, связку ключей или коробочку для лекарств и парфюмерии. Необходимость такого приспособления вызвана отсутствием карманов в японском традиционном костюме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2" descr="C:\Documents and Settings\УсачёвА\Рабочий стол\616px-Netsuke-p1030001.jpg"/>
          <p:cNvPicPr/>
          <p:nvPr/>
        </p:nvPicPr>
        <p:blipFill>
          <a:blip r:embed="rId1"/>
          <a:stretch/>
        </p:blipFill>
        <p:spPr>
          <a:xfrm>
            <a:off x="1447920" y="1981080"/>
            <a:ext cx="463212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эцк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8" name="Picture 2" descr="C:\Users\Australia\Desktop\Новая папка\N517851_1.jpg"/>
          <p:cNvPicPr/>
          <p:nvPr/>
        </p:nvPicPr>
        <p:blipFill>
          <a:blip r:embed="rId1"/>
          <a:stretch/>
        </p:blipFill>
        <p:spPr>
          <a:xfrm>
            <a:off x="380880" y="1219320"/>
            <a:ext cx="4343400" cy="5181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Users\Australia\Desktop\Новая папка\091ee49460fbdfd5dbe37d72ed6178d6.jpg"/>
          <p:cNvPicPr/>
          <p:nvPr/>
        </p:nvPicPr>
        <p:blipFill>
          <a:blip r:embed="rId2"/>
          <a:stretch/>
        </p:blipFill>
        <p:spPr>
          <a:xfrm>
            <a:off x="5334120" y="990720"/>
            <a:ext cx="35938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цусика Хокусай. Гравюры серии «36 видов Фудзи».19 в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1" name="Picture 7" descr="img413"/>
          <p:cNvPicPr/>
          <p:nvPr/>
        </p:nvPicPr>
        <p:blipFill>
          <a:blip r:embed="rId1"/>
          <a:stretch/>
        </p:blipFill>
        <p:spPr>
          <a:xfrm>
            <a:off x="152280" y="1828800"/>
            <a:ext cx="3886200" cy="25956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img414"/>
          <p:cNvPicPr/>
          <p:nvPr/>
        </p:nvPicPr>
        <p:blipFill>
          <a:blip r:embed="rId2"/>
          <a:stretch/>
        </p:blipFill>
        <p:spPr>
          <a:xfrm>
            <a:off x="4114800" y="3352680"/>
            <a:ext cx="47260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Кацусика Хокусай. Гравюры серии «36 видов Фудзи».«Район Сундай в Эдо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4" name="Picture 2" descr="C:\Documents and Settings\УсачёвА\Рабочий стол\The_Fuji_seen_from_the_Mishima_pass.jpg"/>
          <p:cNvPicPr/>
          <p:nvPr/>
        </p:nvPicPr>
        <p:blipFill>
          <a:blip r:embed="rId1"/>
          <a:stretch/>
        </p:blipFill>
        <p:spPr>
          <a:xfrm>
            <a:off x="914400" y="1219320"/>
            <a:ext cx="6019920" cy="529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3520" y="228600"/>
            <a:ext cx="7386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понской мифологии родоначальниками всего существующего считались божественные супруги: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дзанаги и Идзанами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них произошла триада великих богов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матэрас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богиня Солнц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укиём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богиня Лу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усано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бог бури и ветр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 представлениям древних японцев, божества не имели человекоподобного или же звероподобного облика, но воплощались в самой природе — в Солнце, Луне, горах и скалах, реках и водопадах, деревьях и травах, которые почитались как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ухи-ками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(«ками» в переводе с японского означает «божественный ветер»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акое обожествление природы лежит в основе национальной японской религии, которая называется синтоизмом (от японского «синто» — «путь богов»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 распространением буддизма началось интенсивное возведение буддийских монастырей, восходящих к корейским и китайским образцам. Наибольшую известность приобрел Хорюдзи (конец VI — начало VII вв.) — небольшой храмовый комплекс, расположенный за пределами города На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ачева</cp:lastModifiedBy>
  <dcterms:modified xsi:type="dcterms:W3CDTF">2013-02-28T14:08:5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